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Krishna%20%20-%20Instruimen.wav" ContentType="audio/x-wav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3B1-165C-4CDC-989D-F1B8C6D2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75D-7879-4EC7-94C6-3647C1F8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050-87FD-48CC-9B50-6BC86E17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A7E-BF98-4740-A7EB-35A6DC72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381-1AB9-4F56-A0BC-E52FFFD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8D1-A47D-44C4-B6CB-025891A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987-42E2-4819-A8F3-3EAAD23F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3B3-D0DE-419A-BA08-0449C7F8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FA1-B7EE-463B-9004-3B7CB119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FC2-9194-46D0-B6C6-7EB358D8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CEE-AD32-4772-BCD2-94E59B41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443-C35D-4FB6-B225-7829ECB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FA7F-2847-4993-BBBF-96B15CEE8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Krishna%20%20-%20Instruime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5800" y="510552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HAGAWAD GI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IMPLIFICATĂ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371600" y="25560"/>
            <a:ext cx="67816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68580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chimbarea este legea Universu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ea ce crezi tu că este moar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în realitate este viaţ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Într-o secundă poţi fi mil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şi în secunda următoare poţi fi aruncat în sără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715000" y="380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33720" y="0"/>
            <a:ext cx="509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80880"/>
            <a:ext cx="868680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 tău şi al meu, mare </a:t>
            </a: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şi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rge aceste noţiuni din mintea 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bia atunci totul este al tă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şi tu eşti al acestui t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upul acesta nu este al tă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ici tu nu eşti sclavul trupului tă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upul este făcut din foc, apă, aer, şi pământ,          şi va dispărea descompunându-se în aceste el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ar sufletul este permanent! Deci, cine eşti tu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4120" y="5335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057400" y="0"/>
            <a:ext cx="506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822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dică-ţi fiinţa lui Dumnez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eia care-şi cunosc susţinerea Dumnezeiască      sunt pentru totdeauna eliberaţi                         de frică, necaz şi dur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t ceea ce faci,                                        fă dedicându-te lui Dumnez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easta iţi va aduce experienţe extraordinare de bucurie şi libertate pentru totdea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019920" y="8380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752480" y="0"/>
            <a:ext cx="573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83808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ulţumesc că ai citit      şi încerci, cu sinceritate, să aplici învăţăturile       în viaţa ta de zi cu z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914400" y="5562720"/>
            <a:ext cx="7696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380880" y="304920"/>
            <a:ext cx="83822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 ce te îngrijorezi fără motiv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ine se teme de tine fără mot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ine te poate uci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fletul nu se naşte; atunci cum poate să moar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s-a întâmpl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ost spre bin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se întâmpl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e spre bin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se va întâmp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 fi numai spre b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943600" y="380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609480" y="0"/>
            <a:ext cx="80773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1447920"/>
            <a:ext cx="838224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 trebuie să regreţi trecut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 trebuie să te îngrijorezi pentru vi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ezentul se întâmplă..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-ai pierdut, ca să plângi trecutu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 ai adus cu tine în lu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 să crezi că ai pierdut ce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4120" y="160020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-7920"/>
            <a:ext cx="80773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38088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 ai produs t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 să crezi că a fost distr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-ai adus nimic cu tine în 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ai avea, ai primit de a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ai dăruit, ai dăruit de a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ai luat, ai luat de la Dumnez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ice ai dat, i-ai dat 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i venit cu mâinile go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şi vei pleca cu mâinile go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80880" y="762120"/>
            <a:ext cx="8458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eea ce crezi că este al tău astă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ost al altcuiva ieri şi va aparţine altcuiva mâ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 te înşela, </a:t>
            </a:r>
            <a:r>
              <a:rPr b="1" lang="ro-RO" sz="2400" spc="-1" strike="noStrike">
                <a:solidFill>
                  <a:srgbClr val="ffffff"/>
                </a:solidFill>
                <a:latin typeface="Comic Sans MS"/>
              </a:rPr>
              <a:t>crezân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ă totul este al tă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e o impresie falsă, şi va fi cauza necazurilor t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2:03:07Z</dcterms:created>
  <dc:creator>taz</dc:creator>
  <dc:description/>
  <dc:language>en-US</dc:language>
  <cp:lastModifiedBy>Mihaela</cp:lastModifiedBy>
  <dcterms:modified xsi:type="dcterms:W3CDTF">2012-01-24T01:25:34Z</dcterms:modified>
  <cp:revision>29</cp:revision>
  <dc:subject/>
  <dc:title>Slide 1</dc:title>
</cp:coreProperties>
</file>