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Krishna%20%20-%20Instruimen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D99-C362-4EE8-B60D-6B5A0707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5B6-4711-4DD2-B1C9-CFFB6D8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08F-FC7A-4443-B535-AC5785DD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568-B756-4F84-98DB-5FA097AC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9FD-BC6B-47A3-8D45-491367F3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638-4FA0-4B26-8849-6879AD2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813-D80D-437A-B2BF-0BCBB153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DAB-41D0-4292-AB32-05A70903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883-5C68-4E86-8499-F016BE4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C35-B502-4EA2-BEC1-18B0249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0A8-A0D1-4E3D-B6B5-838CA98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FDC-9FFC-44EF-894A-D3C4347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231-B064-4D33-A1A1-846642F0B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rishna%20%20-%20Instruime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51055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HAGAWAD GI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IMPLIFICATĂ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371600" y="25560"/>
            <a:ext cx="67816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68580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chimbarea este legea Univers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ea ce crezi tu că este moa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în realitate este viaţ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Într-o secundă poţi fi mil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în secunda următoare poţi fi aruncat în sără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3372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 tău şi al meu, mare </a:t>
            </a: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şi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rge aceste noţiuni din mintea 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bia atunci totul este al tă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tu eşti al acestui t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upul acesta nu este al tă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ici tu nu eşti sclavul trupului tă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upul este făcut din foc, apă, aer, şi pământ,          şi va dispărea descompunându-se în aceste e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r sufletul este permanent! Deci, cine eşti tu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740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82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că-ţi fiinţa lui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ia care-şi cunosc susţinerea Dumnezeiască      sunt pentru totdeauna eliberaţi                         de frică, necaz şi dur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t ceea ce faci,                                        fă dedicându-te lui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asta iţi va aduce experienţe extraordinare de bucurie şi libertate pentru totdea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83808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ulţumesc că ai citit      şi încerci, cu sinceritate, să aplici învăţăturile       în viaţa ta de zi cu z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14400" y="5562720"/>
            <a:ext cx="7696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80880" y="30492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ce te îngrijorezi fără motiv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ine se teme de tine fără mot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ine te poate uci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fletul nu se naşte; atunci cum poate să moar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-a întâmpl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ost spre bi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e întâmpl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spre bi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e va întâmp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 fi numai spre 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1447920"/>
            <a:ext cx="838224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rebuie să regreţi trecut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rebuie să te îngrijorezi pentru vi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ezentul se întâmplă..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-ai pierdut, ca să plângi trecutu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 ai adus cu tine în 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 să crezi că ai pierdut ce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-7920"/>
            <a:ext cx="8077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8088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 ai produs 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 să crezi că a fost distr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-ai adus nimic cu tine în 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avea, ai primit de a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dăruit, ai dăruit de a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luat, ai luat de la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dat, i-ai dat 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i venit cu mâinile go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vei pleca cu mâinile go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762120"/>
            <a:ext cx="8458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ea ce crezi că este al tău astă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ost al altcuiva ieri şi va aparţine altcuiva mâ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e înşela, </a:t>
            </a: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crezân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ă totul este al tă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o impresie falsă, şi va fi cauza necazurilor t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2:03:07Z</dcterms:created>
  <dc:creator>taz</dc:creator>
  <dc:description/>
  <dc:language>en-US</dc:language>
  <cp:lastModifiedBy>Mihaela</cp:lastModifiedBy>
  <dcterms:modified xsi:type="dcterms:W3CDTF">2012-01-24T01:25:34Z</dcterms:modified>
  <cp:revision>29</cp:revision>
  <dc:subject/>
  <dc:title>Slide 1</dc:title>
</cp:coreProperties>
</file>