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O%20Bellagio%20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F9E-FB2C-417E-A727-534F81CF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30E-F1A3-4064-9158-47C5DB4E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FAF-B1A3-4D6F-BE4F-9B49F5D1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DDB-4742-44FF-8714-E0E72E51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FFE-5B9B-40F0-A88F-2FEFBCB1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5F2-3DAA-4EDA-8CD8-FAD7FF28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55F-073E-4866-8836-A8ABD7D6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D55-17EA-4B6E-91C3-ACA24DB2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0AF-98A1-48A6-96EE-FCF84157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1A6-3009-42C9-9298-325FC36F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8F6-4A80-49F8-8D98-722EC681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57E-7F27-434B-93CD-D6CD6C98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0405-70C1-4328-A68D-41ED9FF585EF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mariposas_insectos13"/>
          <p:cNvPicPr/>
          <p:nvPr/>
        </p:nvPicPr>
        <p:blipFill>
          <a:blip r:embed="rId3"/>
          <a:stretch/>
        </p:blipFill>
        <p:spPr>
          <a:xfrm>
            <a:off x="6588000" y="4724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O%20Bellagio%20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O%20Bellagio%208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826920" y="3483000"/>
            <a:ext cx="787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Un om mare îşi demonstrează măreţia prin felul în care îi tratează pe cei mi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SĂ AI O ZI FRUMOAS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219320" y="0"/>
            <a:ext cx="71625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819520" y="6324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  <p:sndAc>
      <p:stSnd>
        <p:snd r:embed="rId1" name="O%20Bellagio%20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 prins mora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  <p:sndAc>
      <p:stSnd>
        <p:snd r:embed="rId1" name="O%20Bellagio%208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e câte ori ne plângem de problemele, poverile şi încercările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pe care trebuie să le suportăm!?</a:t>
            </a:r>
            <a:br>
              <a:rPr sz="2800"/>
            </a:b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ar, fără să ne dăm seama, aceste poveri, dacă ştim să le ducem, se pot transforma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în punţi care ne ajută să mergem mai departe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şi în final să triumfă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O deficienţă cardiacă a făcut dintr-un medic un chirurg renumit; un handicap fizic a făcut dintr-un tânăr un mare scriitor; timiditatea unui student l-a ajutat să ajungă un mare cercetă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81296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Şi câte alte exemple mai putem menţiona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!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Toate ne demonstrează acelaşi adevăr: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că de multe ori trebuie să trecem prin momente grele pentru a ne bucura apoi de cele mai bune momente... Că trebuie să ne acceptăm cu curaj poverile şi încercările pentru a le putea transforma în succese şi prosperi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81296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Treci în aceste momente prin probleme sau adversităţi? Aminteşte-ţi că îngrijorându-te şi speriindu-t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nu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reuşeşti nimic. Ai încredere în Dumnezeu. El nu va permite ca încercările să te strivească, ci îţi va da forţă să le depăşeşti cu curaj, pentru a merge înainte şi a ajunge tot mai s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14400" y="1905120"/>
            <a:ext cx="7162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286000" y="24130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Dacă ai primit acest mesaj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mulţumeşte lui Dumneze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că cineva s-a gândit la t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Nu toţi avem acest privilegi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umneze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ă te binecuvântez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933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Geniul unei furn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Acum ceva timp m-am apucat să observ viaţa furnicilor şi mărturisesc că m-a uimit să văd cu câtă ordine şi dăruire muncesc 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420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ar o furnică anume mi-a atras atenţia. Neagră, de dimensiune medie,  furnica ducea cu ea un pai de şase ori mai mare decât 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upă ce a avansat cam un metru cu vizibile dificultăţi, a ajuns la un fel de şanţ, îngust dar adânc, format între două pietre ma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A încercat să traverseze într-un fel sau altul dar toate eforturile ei au fost zadarnice.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ar în final furnicuţa a făcut ceva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cu totul insol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Cu multă abilitate a sprijinit capetele paiului de o parte şi de alta a crăpăturii construind astfel un pod pe care apoi a putut traversa abi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420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Când a ajuns pe cealaltă parte şi-a luat din nou povara în spate şi şi-a continuat călă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Furnica a ştiut să-şi transforme povara într-o punte şi astfel şi-a putut continua drumul.</a:t>
            </a:r>
            <a:br>
              <a:rPr sz="2800"/>
            </a:b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a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nu ar fi avut acea povară,  aşa grea pentru ea cum era, nu şi-ar fi putut continua drumu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0:40:04Z</dcterms:created>
  <dc:creator>Jose Antonio</dc:creator>
  <dc:description/>
  <dc:language>en-US</dc:language>
  <cp:lastModifiedBy>Iecea Mica</cp:lastModifiedBy>
  <dcterms:modified xsi:type="dcterms:W3CDTF">2010-03-03T18:17:36Z</dcterms:modified>
  <cp:revision>7</cp:revision>
  <dc:subject/>
  <dc:title>Diapositiva 1</dc:title>
</cp:coreProperties>
</file>