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O%20Bellagio%20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6A2-FBC4-4650-BBB4-3218DB52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70E-3360-4576-9811-E2CA747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FF9-C366-4C62-8EB1-9C167DB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0CB-E43C-4B59-812F-0119021F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3F9-B476-47A2-A356-E22B55D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CF6-6346-48F7-865C-B117107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CAF-DABA-4A5D-9096-3B232F7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644-9708-48CA-B0AC-06F211A0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FE7-B41F-4ADF-80F5-A2A7ADF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E80-4B49-43FD-ACD2-C4D0132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407-96C5-4636-AA47-66BBEC8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818-27F0-4BDA-B556-BDC6CC0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FA6-712D-4A3E-80D2-DB9B739221F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mariposas_insectos13"/>
          <p:cNvPicPr/>
          <p:nvPr/>
        </p:nvPicPr>
        <p:blipFill>
          <a:blip r:embed="rId3"/>
          <a:stretch/>
        </p:blipFill>
        <p:spPr>
          <a:xfrm>
            <a:off x="6588000" y="472428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%20Bellagio%208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826920" y="3483000"/>
            <a:ext cx="787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Un om mare îşi demonstrează măreţia prin felul în care îi tratează pe cei mi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Ă AI O ZI FRUMOAS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219320" y="0"/>
            <a:ext cx="71625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819520" y="6324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O%20Bellagio%208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 prins mora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  <p:sndAc>
      <p:stSnd>
        <p:snd r:embed="rId1" name="O%20Bellagio%208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e câte ori ne plângem de problemele, poverile şi încercările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pe care trebuie să le suportăm!?</a:t>
            </a:r>
            <a:br>
              <a:rPr sz="2800"/>
            </a:b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, fără să ne dăm seama, aceste poveri, dacă ştim să le ducem, se pot transforma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în punţi care ne ajută să mergem mai departe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şi în final să triumfă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O deficienţă cardiacă a făcut dintr-un medic un chirurg renumit; un handicap fizic a făcut dintr-un tânăr un mare scriitor; timiditatea unui student l-a ajutat să ajungă un mare cercetă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81296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Şi câte alte exemple mai putem menţiona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!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Toate ne demonstrează acelaşi adevăr: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ă de multe ori trebuie să trecem prin momente grele pentru a ne bucura apoi de cele mai bune momente... Că trebuie să ne acceptăm cu curaj poverile şi încercările pentru a le putea transforma în succese şi prosperi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81296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Treci în aceste momente prin probleme sau adversităţi? Aminteşte-ţi că îngrijorându-te şi speriindu-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nu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reuşeşti nimic. Ai încredere în Dumnezeu. El nu va permite ca încercările să te strivească, ci îţi va da forţă să le depăşeşti cu curaj, pentru a merge înainte şi a ajunge tot mai s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14400" y="1905120"/>
            <a:ext cx="71629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86000" y="24130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Dacă ai primit acest mesa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mulţumeşte lui Dumnez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că cineva s-a gândit la t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Nu toţi avem acest privile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mneze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ă te binecuvântez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933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Geniul unei furn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Acum ceva timp m-am apucat să observ viaţa furnicilor şi mărturisesc că m-a uimit să văd cu câtă ordine şi dăruire muncesc 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420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 o furnică anume mi-a atras atenţia. Neagră, de dimensiune medie,  furnica ducea cu ea un pai de şase ori mai mare decât 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upă ce a avansat cam un metru cu vizibile dificultăţi, a ajuns la un fel de şanţ, îngust dar adânc, format între două pietre ma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A încercat să traverseze într-un fel sau altul dar toate eforturile ei au fost zadarnice.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r în final furnicuţa a făcut ceva </a:t>
            </a: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u totul insol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u multă abilitate a sprijinit capetele paiului de o parte şi de alta a crăpăturii construind astfel un pod pe care apoi a putut traversa abi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20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Când a ajuns pe cealaltă parte şi-a luat din nou povara în spate şi şi-a continuat călă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379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Furnica a ştiut să-şi transforme povara într-o punte şi astfel şi-a putut continua drumul.</a:t>
            </a:r>
            <a:br>
              <a:rPr sz="2800"/>
            </a:br>
            <a:br>
              <a:rPr sz="2800"/>
            </a:b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Dac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vi-VN" sz="2800" spc="-1" strike="noStrike">
                <a:solidFill>
                  <a:srgbClr val="ffffff"/>
                </a:solidFill>
                <a:latin typeface="Arial"/>
              </a:rPr>
              <a:t> nu ar fi avut acea povară,  aşa grea pentru ea cum era, nu şi-ar fi putut continua drum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0:40:04Z</dcterms:created>
  <dc:creator>Jose Antonio</dc:creator>
  <dc:description/>
  <dc:language>en-US</dc:language>
  <cp:lastModifiedBy>Iecea Mica</cp:lastModifiedBy>
  <dcterms:modified xsi:type="dcterms:W3CDTF">2010-03-03T18:17:36Z</dcterms:modified>
  <cp:revision>7</cp:revision>
  <dc:subject/>
  <dc:title>Diapositiva 1</dc:title>
</cp:coreProperties>
</file>