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E02-8A33-4B46-8B6C-F88F59E9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05D-B35C-40DC-9D57-B365E3A2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AB4-B8FE-40D5-BF6D-50D08EB5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0E0-E090-4FA2-9159-414E9EAD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F57-871B-484E-9975-42521071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75B-0E63-4750-9A8B-A485DC42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3F8-1DEF-4C01-AF81-6D3BB845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B6B-3051-4585-9C07-0B565CD4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EEE-384E-40D5-A7FB-599C5429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590-032E-4344-8280-72D60DA9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2E2-5535-4A04-9114-33F8515C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F3E-84F5-429A-A1CB-32488346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7093-1328-4616-B41C-F5571956E04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85520" y="0"/>
            <a:ext cx="8358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00"/>
                </a:solidFill>
                <a:latin typeface="Bookman Old Style"/>
              </a:rPr>
              <a:t>São nos pequenos gestos e atitudes de nosso dia-a-dia que devemos proporcionar o mínimo de alegria e compreensão a todos que nos cercam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Bookman Old Style"/>
              </a:rPr>
              <a:t>Que o espírito natalino encha nossos corações de amor, fraternidade e paz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Jokerman"/>
              </a:rPr>
              <a:t>FELIZ NATAL  E  ÓTIMO 2010!!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Estrela de 5 pontas 8"/>
          <p:cNvSpPr/>
          <p:nvPr/>
        </p:nvSpPr>
        <p:spPr>
          <a:xfrm>
            <a:off x="214200" y="1429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osto feliz 9"/>
          <p:cNvSpPr/>
          <p:nvPr/>
        </p:nvSpPr>
        <p:spPr>
          <a:xfrm>
            <a:off x="500040" y="5643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ração 10"/>
          <p:cNvSpPr/>
          <p:nvPr/>
        </p:nvSpPr>
        <p:spPr>
          <a:xfrm>
            <a:off x="4572000" y="3500280"/>
            <a:ext cx="1143000" cy="1128960"/>
          </a:xfrm>
          <a:custGeom>
            <a:avLst/>
            <a:gdLst>
              <a:gd name="textAreaLeft" fmla="*/ 190440 w 1143000"/>
              <a:gd name="textAreaRight" fmla="*/ 952560 w 1143000"/>
              <a:gd name="textAreaTop" fmla="*/ 282240 h 1128960"/>
              <a:gd name="textAreaBottom" fmla="*/ 752760 h 1128960"/>
            </a:gdLst>
            <a:ahLst/>
            <a:rect l="textAreaLeft" t="textAreaTop" r="textAreaRight" b="textAreaBottom"/>
            <a:pathLst>
              <a:path w="1143008" h="1128714">
                <a:moveTo>
                  <a:pt x="571504" y="282179"/>
                </a:moveTo>
                <a:cubicBezTo>
                  <a:pt x="809631" y="-376238"/>
                  <a:pt x="1738325" y="282179"/>
                  <a:pt x="571504" y="1128714"/>
                </a:cubicBezTo>
                <a:cubicBezTo>
                  <a:pt x="-595317" y="282179"/>
                  <a:pt x="333377" y="-376238"/>
                  <a:pt x="571504" y="282179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03:17:00Z</dcterms:created>
  <dc:creator>Aline &amp; Marcus</dc:creator>
  <dc:description/>
  <dc:language>en-US</dc:language>
  <cp:lastModifiedBy>Aline &amp; Marcus</cp:lastModifiedBy>
  <dcterms:modified xsi:type="dcterms:W3CDTF">2009-12-23T03:58:24Z</dcterms:modified>
  <cp:revision>5</cp:revision>
  <dc:subject/>
  <dc:title>Slide 1</dc:title>
</cp:coreProperties>
</file>