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91A-3E28-4E1B-B945-92CAE50F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30A-EE04-41FA-9B77-47469ED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6E2-26E4-4A24-8700-F75055D8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903-92CA-4D5A-8E12-E3B65F3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8A8-9FD1-4BE3-8CBC-D442D0B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EBA-E4C8-4FF9-BF5C-08D790D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71B-A7F1-4DE1-A3D2-89DA9FB1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F38-582A-41D7-9866-72D42BB6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8EC-B8BE-46F3-8E8E-10CB5C9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986-C86C-48DB-979B-ACB92316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B55-3664-444D-89FF-59B46E5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3D2-D629-4E91-B319-49CF6A2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38FA-56FB-4C60-96DF-B08E049D56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85520" y="0"/>
            <a:ext cx="8358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Bookman Old Style"/>
              </a:rPr>
              <a:t>São nos pequenos gestos e atitudes de nosso dia-a-dia que devemos proporcionar o mínimo de alegria e compreensão a todos que nos cercam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Bookman Old Style"/>
              </a:rPr>
              <a:t>Que o espírito natalino encha nossos corações de amor, fraternidade e paz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Jokerman"/>
              </a:rPr>
              <a:t>FELIZ NATAL  E  ÓTIMO 2010!!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trela de 5 pontas 8"/>
          <p:cNvSpPr/>
          <p:nvPr/>
        </p:nvSpPr>
        <p:spPr>
          <a:xfrm>
            <a:off x="214200" y="142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sto feliz 9"/>
          <p:cNvSpPr/>
          <p:nvPr/>
        </p:nvSpPr>
        <p:spPr>
          <a:xfrm>
            <a:off x="500040" y="564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ração 10"/>
          <p:cNvSpPr/>
          <p:nvPr/>
        </p:nvSpPr>
        <p:spPr>
          <a:xfrm>
            <a:off x="4572000" y="3500280"/>
            <a:ext cx="1143000" cy="1128960"/>
          </a:xfrm>
          <a:custGeom>
            <a:avLst/>
            <a:gdLst>
              <a:gd name="textAreaLeft" fmla="*/ 190440 w 1143000"/>
              <a:gd name="textAreaRight" fmla="*/ 952560 w 1143000"/>
              <a:gd name="textAreaTop" fmla="*/ 282240 h 1128960"/>
              <a:gd name="textAreaBottom" fmla="*/ 752760 h 1128960"/>
            </a:gdLst>
            <a:ahLst/>
            <a:rect l="textAreaLeft" t="textAreaTop" r="textAreaRight" b="textAreaBottom"/>
            <a:pathLst>
              <a:path w="1143008" h="1128714">
                <a:moveTo>
                  <a:pt x="571504" y="282179"/>
                </a:moveTo>
                <a:cubicBezTo>
                  <a:pt x="809631" y="-376238"/>
                  <a:pt x="1738325" y="282179"/>
                  <a:pt x="571504" y="1128714"/>
                </a:cubicBezTo>
                <a:cubicBezTo>
                  <a:pt x="-595317" y="282179"/>
                  <a:pt x="333377" y="-376238"/>
                  <a:pt x="571504" y="282179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3:17:00Z</dcterms:created>
  <dc:creator>Aline &amp; Marcus</dc:creator>
  <dc:description/>
  <dc:language>en-US</dc:language>
  <cp:lastModifiedBy>Aline &amp; Marcus</cp:lastModifiedBy>
  <dcterms:modified xsi:type="dcterms:W3CDTF">2009-12-23T03:58:24Z</dcterms:modified>
  <cp:revision>5</cp:revision>
  <dc:subject/>
  <dc:title>Slide 1</dc:title>
</cp:coreProperties>
</file>