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Jean%20Michel%20Jarre%20-%20Oxygen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D8D-618D-46B8-8797-ABDA6977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3ECA-C412-4CD8-B8B1-A1B8CA2A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3E5-0892-4E31-BDD9-209270A3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FD4-3654-4F19-974F-CE5AD8B9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EE42-3849-4B6F-A716-0C7E23E5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C370-F38B-4116-8E32-042417F7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9B11-20EC-4DC3-BB0B-F2436215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82D5-769C-4F18-B40D-0E127054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2829-FFDE-4A8B-81B6-496C8B34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03CA-27D6-47A4-BF20-F193647C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494A-6AAE-4369-BC85-0DF10E8B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999A-40EE-4A2B-8203-E796C29D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E201-CFE3-4FCA-B7D7-F21707A5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694F-3E56-4BE2-8EFB-328EB611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8BED-78DB-43A2-BA63-3973445D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D886-4F7A-4483-BCD9-F97AD89C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3F48-BBAB-4784-A2B1-C78AE9FE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872-0D6C-4945-8E13-3910F26E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F6CB-F8CE-4177-9E11-F7ABE770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62D8-3D33-40BF-83BD-D061102A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07D-AA49-42D8-8A42-B71D26FC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07B-7374-4A1A-A5CB-217F02B8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662-0098-4215-988C-85AE76D4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2FE5-A0C1-437E-81F7-BAE40050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de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de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861A-4871-4949-8C3B-7A5A83D090C2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009B-C27E-4371-BD0E-FB4B7209BF42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an%20Michel%20Jarre%20-%20Oxygen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an%20Michel%20Jarre%20-%20Oxygen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an%20Michel%20Jarre%20-%20Oxygen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oc.bras.de/" TargetMode="External"/><Relationship Id="rId2" Type="http://schemas.openxmlformats.org/officeDocument/2006/relationships/hyperlink" Target="http://soc.bras.de/" TargetMode="External"/><Relationship Id="rId3" Type="http://schemas.openxmlformats.org/officeDocument/2006/relationships/hyperlink" Target="http://soc.bras.de/" TargetMode="External"/><Relationship Id="rId4" Type="http://schemas.openxmlformats.org/officeDocument/2006/relationships/hyperlink" Target="http://soc.bras.de/" TargetMode="External"/><Relationship Id="rId5" Type="http://schemas.openxmlformats.org/officeDocument/2006/relationships/audio" Target="../media/Jean%20Michel%20Jarre%20-%20Oxygene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Jean%20Michel%20Jarre%20-%20Oxygen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020000" y="5948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clica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914400"/>
            <a:ext cx="61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Não beba Fanta Uva!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A propaganda parou...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Por quê? Reparem... a propaganda quase não se vê mais na mídia.... Por que será???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Estamos repassando o e-mail abaixo para conhecimento e prevenção, principalmente para aqueles que bebem este refrigerante: Fanta Uva. 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7280" y="1197000"/>
            <a:ext cx="712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Este e-mail está sendo repassado dentro do Hospital que trabalha uma pessoa amiga.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Fato já está confirmado: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Vinte e três pessoas já passaram pelo Hospital das Clínicas com um mesmo sintoma: falta de atividade renal e o aparecimento de tumores no reto. 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1" name="Jean%20Michel%20Jarre%20-%20Oxygen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87280" y="1197000"/>
            <a:ext cx="712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Todos os internados relataram o começo das dores e a conseqüente internação após ingerirem altas doses de Fanta Uva.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Pesquisas realizadas pelo renomado Instituto Fleury,apontaram grande quantidade de Fenofinol, almeido e Voliteral, substâncias tóxicas e que causam, respectivamente, a má atividade dos rins e câncer. 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1" name="Jean%20Michel%20Jarre%20-%20Oxygen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87280" y="1219320"/>
            <a:ext cx="765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Segundo Dr.Paulo José Teixeira, formado pela USP e Especialista em Toxicologia, as pessoas não devem ingerir mais o citado refrigerante.. A Direção da Coca-Cola já assumiu sua culpa e prometeu indenizar os pacientes e todos aqueles que venham a se contaminar com o refrigerante.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Pelo amor de "DEUS"...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Passem esta mensagem para frente. Pelo sim e pelo não, vamos tentar remediar enquanto há tempo.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1" name="Jean%20Michel%20Jarre%20-%20Oxygen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1219320"/>
            <a:ext cx="777240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Lembre-se: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Divulgar a todos de sua família, é a consciência de cada um que deve decidir, mas a nossa deve estar tranqüila. 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Monique Freitas. </a:t>
            </a:r>
            <a:r>
              <a:rPr b="0" lang="pt-BR" sz="2400" spc="-1" strike="noStrike" u="sng">
                <a:solidFill>
                  <a:srgbClr val="9191e1"/>
                </a:solidFill>
                <a:uFillTx/>
                <a:latin typeface="Tahoma"/>
                <a:ea typeface="Tahoma"/>
                <a:hlinkClick r:id="rId1"/>
              </a:rPr>
              <a:t>Soc</a:t>
            </a:r>
            <a:r>
              <a:rPr b="0" lang="pt-BR" sz="2400" spc="-1" strike="noStrike" u="sng">
                <a:solidFill>
                  <a:srgbClr val="9191e1"/>
                </a:solidFill>
                <a:uFillTx/>
                <a:latin typeface="Tahoma"/>
                <a:ea typeface="Tahoma"/>
                <a:hlinkClick r:id="rId2"/>
              </a:rPr>
              <a:t>.</a:t>
            </a:r>
            <a:r>
              <a:rPr b="0" lang="pt-BR" sz="2400" spc="-1" strike="noStrike" u="sng">
                <a:solidFill>
                  <a:srgbClr val="9191e1"/>
                </a:solidFill>
                <a:uFillTx/>
                <a:latin typeface="Tahoma"/>
                <a:ea typeface="Tahoma"/>
                <a:hlinkClick r:id="rId3"/>
              </a:rPr>
              <a:t>Bras</a:t>
            </a:r>
            <a:r>
              <a:rPr b="0" lang="pt-BR" sz="2400" spc="-1" strike="noStrike" u="sng">
                <a:solidFill>
                  <a:srgbClr val="9191e1"/>
                </a:solidFill>
                <a:uFillTx/>
                <a:latin typeface="Tahoma"/>
                <a:ea typeface="Tahoma"/>
                <a:hlinkClick r:id="rId4"/>
              </a:rPr>
              <a:t>.de</a:t>
            </a: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 Cardiologia / Secretaria.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Tel.: (21) 2537-8488 ramal:271 Fax: (21) 2286-9128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Por favor não deixem de repassar esta mensagem para todos que vocês conhecem....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FELIZ DAQUELE QUE TRANSFERE O QUE SABE E APRENDE O QUE ENSINA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5" name="Jean%20Michel%20Jarre%20-%20Oxygen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12193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1" name="Jean%20Michel%20Jarre%20-%20Oxygen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6:36:18Z</dcterms:created>
  <dc:creator>Marcos Peano</dc:creator>
  <dc:description/>
  <dc:language>en-US</dc:language>
  <cp:lastModifiedBy>Azevedo</cp:lastModifiedBy>
  <dcterms:modified xsi:type="dcterms:W3CDTF">2007-03-24T18:59:34Z</dcterms:modified>
  <cp:revision>109</cp:revision>
  <dc:subject/>
  <dc:title>Slide sem título </dc:title>
</cp:coreProperties>
</file>