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INTER~1.WAV" ContentType="audio/x-wav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0" y="30168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4303800"/>
            <a:ext cx="58561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02920" y="4303800"/>
            <a:ext cx="58561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78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es-ES" sz="4800" spc="-1" strike="noStrike" u="sng">
                <a:solidFill>
                  <a:srgbClr val="00cc99"/>
                </a:solidFill>
                <a:uFillTx/>
                <a:latin typeface="Modern No. 20"/>
              </a:rPr>
              <a:t>Descobertas no manto da Virgem de Guadalu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819520" y="6324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Comic Sans MS"/>
              </a:rPr>
              <a:t>Con So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767640" y="64911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Modern No. 20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324000" y="177336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O tamanho desta imagem?. A quarta parte de um milionésimo de milímetro. É evidente que todos estes fatos inexplicaveis nos foram dados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por uma razão: Queriam atrair nossa atencão. Atrairam a sua? Para finalizar considere mais três fatos: 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9640" y="90792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1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"Guadalupe"</a:t>
            </a: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 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significa no idioma indígena: “esmaga a cabeça da serpente"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  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Exatamente o  evangelho em Gênesis 3:15: María, vencedora do maligno.  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2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A imagem é una pintura tal e como a detalhada em Apocalipse 12: "apareceu no céu um grande sinal, uma mulher revestida do sol, com a lua debaixo de seus pés"</a:t>
            </a:r>
            <a:r>
              <a:rPr b="0" lang="en-GB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39640" y="2060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3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AVirgem tem uma fita em seu ventre, está “grávida" para indicar que Deus queria que Jesus nascesse na América, no coração de cada America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virgengpe_home_reducida"/>
          <p:cNvPicPr/>
          <p:nvPr/>
        </p:nvPicPr>
        <p:blipFill>
          <a:blip r:embed="rId2"/>
          <a:stretch/>
        </p:blipFill>
        <p:spPr>
          <a:xfrm>
            <a:off x="826920" y="1484280"/>
            <a:ext cx="3189600" cy="5029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Book Antiqua"/>
              </a:rPr>
              <a:t> </a:t>
            </a:r>
            <a:r>
              <a:rPr b="1" lang="es-ES_tradnl" sz="3200" spc="-1" strike="noStrike">
                <a:solidFill>
                  <a:srgbClr val="cc9900"/>
                </a:solidFill>
                <a:latin typeface="Book Antiqua"/>
              </a:rPr>
              <a:t>Não estou aqui eu, que sou sua mãe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211640" y="2492280"/>
            <a:ext cx="4608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Nossa Senhora de Guadalupe é milagrosa, peçam algo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26708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Carta à Virgem de Guadalup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Formosa Virgem de Guadalupe, te peço em nome de todos os meus irmãos do </a:t>
            </a:r>
            <a:br>
              <a:rPr sz="3200"/>
            </a:b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mundo que nos abençõe e nos prote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284720" y="198900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Dê-nos uma prova de teu amor e bondade e receba nossas preces e oraçõ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  </a:t>
            </a: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Oh Puríssima Virgem de Guadalupe.</a:t>
            </a:r>
            <a:r>
              <a:rPr b="0" lang="es-MX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995640" y="1557360"/>
            <a:ext cx="4648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Alcança para mim de teu Filho o perdão das minhas faltas, benção para o meu trabalho, </a:t>
            </a:r>
            <a:br>
              <a:rPr sz="3200"/>
            </a:b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remédio para minhas enfermidades e necessidades, e tudo o que creres conveniente para minha família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Times New Roman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284720" y="249228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Oh Santa Mãe de Deus, não despreze as suplicas que te dirigimos em noss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9564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Queridos irmãos, antes de qualquer coisa, quero dizer que a Virgem de Guadalupe é boa, milagrosa e sempre nos acompanha em qualquer lugar.</a:t>
            </a:r>
            <a:r>
              <a:rPr b="0" lang="es-MX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539640" y="134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962520" y="2590920"/>
            <a:ext cx="4800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Esta carta tem como objetivo dar a volta ao mundo para que todos recebam milagres </a:t>
            </a:r>
            <a:br>
              <a:rPr sz="3200"/>
            </a:b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com esta maravilhosa cadeia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174600"/>
            <a:ext cx="9144000" cy="72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Quer ler algo que não só te surpreenderá mas que também de transformará para sempre?  Então leia o que a ciência tem descoberto no manto da Virgem de Guadalu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1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Estudos oftalmológicos realizados nos olhos de María tem detectado que, ao atingir a luz, a retina se contrai e, ao retirar a luz, volta a se a  dilatar, exatamente como ocorre em  um olho vivo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14400" y="1905120"/>
            <a:ext cx="7162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" descr="virgengpe_home_reducida"/>
          <p:cNvPicPr/>
          <p:nvPr/>
        </p:nvPicPr>
        <p:blipFill>
          <a:blip r:embed="rId2"/>
          <a:stretch/>
        </p:blipFill>
        <p:spPr>
          <a:xfrm>
            <a:off x="838080" y="1447920"/>
            <a:ext cx="31892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924360" y="1989000"/>
            <a:ext cx="4800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Deve fazer todas as cópias que puder nas ultimas horas e em troca receberás uma prova da Virgem por muito impossível que seja. </a:t>
            </a:r>
            <a:br>
              <a:rPr sz="3200"/>
            </a:b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10526"/>
          <p:cNvPicPr/>
          <p:nvPr/>
        </p:nvPicPr>
        <p:blipFill>
          <a:blip r:embed="rId2"/>
          <a:srcRect l="45389" t="8529" r="0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irgengpe_home_reducida"/>
          <p:cNvPicPr/>
          <p:nvPr/>
        </p:nvPicPr>
        <p:blipFill>
          <a:blip r:embed="rId3"/>
          <a:stretch/>
        </p:blipFill>
        <p:spPr>
          <a:xfrm>
            <a:off x="4753080" y="-15840"/>
            <a:ext cx="4427280" cy="6873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685800" y="44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Modern No. 20"/>
              </a:rPr>
              <a:t>Não estou aqui eu, que sou sua mã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4005360"/>
            <a:ext cx="91440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Essa carta é sagrada, por favor não fuja dela, </a:t>
            </a:r>
            <a:br>
              <a:rPr sz="3200"/>
            </a:br>
            <a:r>
              <a:rPr b="1" lang="es-MX" sz="3200" spc="-1" strike="noStrike">
                <a:solidFill>
                  <a:srgbClr val="00cc99"/>
                </a:solidFill>
                <a:latin typeface="Modern No. 20"/>
              </a:rPr>
              <a:t>se a receber,  compartilhe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Modern No. 20"/>
              </a:rPr>
              <a:t>Que Nossa Senhora de Guadalupe abençoe você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Modern No. 20"/>
              </a:rPr>
              <a:t>Tenha um bom dia</a:t>
            </a:r>
            <a:r>
              <a:rPr b="1" lang="es-ES_tradnl" sz="3200" spc="-1" strike="noStrike">
                <a:solidFill>
                  <a:srgbClr val="336699"/>
                </a:solidFill>
                <a:latin typeface="Modern No. 20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4920" y="404640"/>
            <a:ext cx="910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Modern No. 20"/>
              </a:rPr>
              <a:t>2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A temperatura da fibra de maguey</a:t>
            </a:r>
            <a:r>
              <a:rPr b="1" i="1" lang="es-ES" sz="2000" spc="-1" strike="noStrike">
                <a:solidFill>
                  <a:srgbClr val="00cc99"/>
                </a:solidFill>
                <a:latin typeface="Modern No. 20"/>
              </a:rPr>
              <a:t>(</a:t>
            </a:r>
            <a:r>
              <a:rPr b="1" i="1" lang="pt-BR" sz="2000" spc="-1" strike="noStrike">
                <a:solidFill>
                  <a:srgbClr val="00cc99"/>
                </a:solidFill>
                <a:latin typeface="Modern No. 20"/>
              </a:rPr>
              <a:t>tipo de planta do México</a:t>
            </a:r>
            <a:r>
              <a:rPr b="0" lang="pt-BR" sz="2000" spc="-1" strike="noStrike">
                <a:solidFill>
                  <a:srgbClr val="00cc99"/>
                </a:solidFill>
                <a:latin typeface="Modern No. 20"/>
              </a:rPr>
              <a:t> )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da qual foi feita a Tilma</a:t>
            </a:r>
            <a:r>
              <a:rPr b="1" i="1" lang="es-ES" sz="2000" spc="-1" strike="noStrike">
                <a:solidFill>
                  <a:srgbClr val="00cc99"/>
                </a:solidFill>
                <a:latin typeface="Modern No. 20"/>
              </a:rPr>
              <a:t>(tecido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r>
              <a:rPr b="1" i="1" lang="es-ES" sz="2000" spc="-1" strike="noStrike">
                <a:solidFill>
                  <a:srgbClr val="00cc99"/>
                </a:solidFill>
                <a:latin typeface="Modern No. 20"/>
              </a:rPr>
              <a:t>indígena)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mantem uma temperatura constante de 36.6 graus, a mesma que no corpo de uma pessoa v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Modern No. 20"/>
              </a:rPr>
              <a:t>3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Um dos médicos que analizou a Tilma colocou seu estetoscopio debaixo da fita que Maria tem (sinal de que esta grávida) e escutou batidos que se repetem ritmamente em 115 pulsações por minuto, igual que em um bebê no ventre materno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920" y="-27000"/>
            <a:ext cx="91090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4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  Não se tem descoberto nenhum traço de pintura na tela. Na verdade, a uma distancia de 10 centímetros da imagem, só se vê a tela de maguey crua: as cores desaparecem. Estudos científicos fracassaram em descobrir a origem da coloracão que forma a imagem, nem a forma em que a mesma foi pintada. Não se detectam rastros de pinceladas nem de outra técnica de pintura  conhecida. Os cientístas da NASA afirmaram que o material do qual origina as cores não é de nenhum dos elementos conhecidos da Terra</a:t>
            </a:r>
            <a:r>
              <a:rPr b="1" i="1" lang="es-ES" sz="1800" spc="-1" strike="noStrike">
                <a:solidFill>
                  <a:srgbClr val="3366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652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5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r>
              <a:rPr b="1" i="1" lang="pt-BR" sz="3600" spc="-1" strike="noStrike">
                <a:solidFill>
                  <a:srgbClr val="00cc99"/>
                </a:solidFill>
                <a:latin typeface="Modern No. 20"/>
              </a:rPr>
              <a:t>Foi colocado um feixe de laser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lateralmente sobre a tela, detectando-se que a coloracão da mesma não está nem </a:t>
            </a:r>
            <a:r>
              <a:rPr b="1" i="1" lang="pt-BR" sz="3600" spc="-1" strike="noStrike">
                <a:solidFill>
                  <a:srgbClr val="00cc99"/>
                </a:solidFill>
                <a:latin typeface="Modern No. 20"/>
              </a:rPr>
              <a:t>na parte da frente nem na de trás, mas as cores flutuam a uma distância média de três décimos de milímetro sobre o tecido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, sem toca-lo. As cores flutuam no ar, sobre a superfície da  Ti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Isso te surpreende? Então se surpreenda um pouco mais com estes outros ach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20600" y="53496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6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A fibra de maguey que constitui a tela da imagem, não dura mais que 20 ou 30 anos. Há varios séculos pintaram uma réplica da imagem em uma tela de fibra de maguey similar, e a mesma se desintegrou despois de varias décadas. No entanto, já faz quase 500 anos do milagre, e a imagem de Maria segue tão firme como no primeiro dia. A ciência não explica a origem da incorruptibilidade da tela.</a:t>
            </a: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620640"/>
            <a:ext cx="914400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7 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No ano de 1791 caiu acidentalmente ácido muriático no lado superior direito da tela. Em 30 dias, sem tratamento algum, se reconstituiu milagrosamente o teci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 </a:t>
            </a: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8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As estrelas visíveis no manto de Maria refletem exatamente a configuração e posição que o céu do México apresentava no dia em que se produziu o milag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95280" y="7650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9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No início do século XX, um homem escondeu uma bomba de alta potência num arranjo de flores, o qual colocou aos pés da Tilma. A explosão destruiu tudo ao redor, menos a Tilma, que permaneceu em perfeito estado de conservac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cc99"/>
                </a:solidFill>
                <a:latin typeface="Modern No. 20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   </a:t>
            </a:r>
            <a:r>
              <a:rPr b="1" i="1" lang="es-ES" sz="3600" spc="-1" strike="noStrike">
                <a:solidFill>
                  <a:srgbClr val="ff0000"/>
                </a:solidFill>
                <a:latin typeface="Modern No. 20"/>
              </a:rPr>
              <a:t>10.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 A </a:t>
            </a:r>
            <a:r>
              <a:rPr b="1" i="1" lang="pt-BR" sz="3600" spc="-1" strike="noStrike">
                <a:solidFill>
                  <a:srgbClr val="00cc99"/>
                </a:solidFill>
                <a:latin typeface="Modern No. 20"/>
              </a:rPr>
              <a:t>ciência descobriu que os olhos de Maria tem os três efeitos de refração da imagem em um olho humano</a:t>
            </a:r>
            <a:r>
              <a:rPr b="1" i="1" lang="es-ES" sz="3600" spc="-1" strike="noStrike">
                <a:solidFill>
                  <a:srgbClr val="00cc99"/>
                </a:solidFill>
                <a:latin typeface="Modern No. 20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95280" y="1484280"/>
            <a:ext cx="827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Modern No. 20"/>
              </a:rPr>
              <a:t>11.</a:t>
            </a:r>
            <a:r>
              <a:rPr b="1" i="1" lang="es-ES" sz="3200" spc="-1" strike="noStrike">
                <a:solidFill>
                  <a:srgbClr val="00cc99"/>
                </a:solidFill>
                <a:latin typeface="Modern No. 20"/>
              </a:rPr>
              <a:t> Nos olhos de María (de apenas 7 e 8 mm) descobriram pequenas imagens humanas, que nenhum artista poderia pintar. São duas cenas e as duas se repetem em ambos os olhos. A imagem do bispo Zumárraga nos olhos de María foi alargada através de tecnología digital, revelando que em seus olhos está retratada a imagen do indio </a:t>
            </a:r>
            <a:r>
              <a:rPr b="1" i="1" lang="es-ES" sz="3200" spc="-1" strike="noStrike">
                <a:solidFill>
                  <a:srgbClr val="0033cc"/>
                </a:solidFill>
                <a:latin typeface="Modern No. 20"/>
              </a:rPr>
              <a:t>Juan Diego</a:t>
            </a:r>
            <a:r>
              <a:rPr b="1" i="1" lang="es-ES" sz="3200" spc="-1" strike="noStrike">
                <a:solidFill>
                  <a:srgbClr val="00cc99"/>
                </a:solidFill>
                <a:latin typeface="Modern No. 20"/>
              </a:rPr>
              <a:t>, abrindo sua Tilma frente ao bispo.</a:t>
            </a:r>
            <a:r>
              <a:rPr b="1" lang="es-ES" sz="3200" spc="-1" strike="noStrike">
                <a:solidFill>
                  <a:srgbClr val="00cc99"/>
                </a:solidFill>
                <a:latin typeface="Modern No. 2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734520" y="649116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Times New Roman"/>
              </a:rPr>
              <a:t>Yebi_1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0:48:31Z</dcterms:created>
  <dc:creator>RIG Arequipa</dc:creator>
  <dc:description/>
  <dc:language>en-US</dc:language>
  <cp:lastModifiedBy>Maria José </cp:lastModifiedBy>
  <dcterms:modified xsi:type="dcterms:W3CDTF">2009-06-22T00:40:13Z</dcterms:modified>
  <cp:revision>17</cp:revision>
  <dc:subject/>
  <dc:title>Diapositiva 1</dc:title>
</cp:coreProperties>
</file>