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Ernesto%20Cortazar%20-%20Corazon%20Solitario.%205.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0EB84-8C1A-4C78-95BA-ABCB6F340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2F67E-6735-45B4-BD7B-FA9E5D864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30401-3A16-439B-898D-D79102FE5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ABE66-321B-407B-B852-77F9D967F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63736-9682-47D0-80D9-617DC9894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D5F03-6186-49C3-BB1F-2B92C7283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D9AC9-3237-487F-870F-E409CED91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931D6-57E7-4AC6-B82B-7AA219AEA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59D88-D509-4799-8B63-6AC6056FC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FA24-49B0-42F2-8893-7CDBA9326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1678C-5917-4743-AE73-3D49C3198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F19A-ECF0-49A3-9870-4E1A2B61E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BF2F-2AA3-44E5-BC5C-1B4C1ABF4E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audio" Target="../media/Ernesto%20Cortazar%20-%20Corazon%20Solitario.%205.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www.educamor.ne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41"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42"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43"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44"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48" name="Rectangle 2"/>
          <p:cNvSpPr/>
          <p:nvPr/>
        </p:nvSpPr>
        <p:spPr>
          <a:xfrm>
            <a:off x="2843280" y="2347920"/>
            <a:ext cx="39290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Verdana"/>
                <a:ea typeface="Times New Roman"/>
              </a:rPr>
              <a:t>QUANDO ME TORNEI INVISÍVEL</a:t>
            </a:r>
            <a:endParaRPr b="0" lang="en-US" sz="2400" spc="-1" strike="noStrike">
              <a:solidFill>
                <a:srgbClr val="000000"/>
              </a:solidFill>
              <a:latin typeface="Calibri"/>
            </a:endParaRPr>
          </a:p>
        </p:txBody>
      </p:sp>
      <p:sp>
        <p:nvSpPr>
          <p:cNvPr id="49" name="Rectangle 3"/>
          <p:cNvSpPr/>
          <p:nvPr/>
        </p:nvSpPr>
        <p:spPr>
          <a:xfrm>
            <a:off x="2188800" y="3223440"/>
            <a:ext cx="2167920" cy="1736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Times New Roman"/>
              </a:rPr>
              <a:t>TRADUÇÃO HELSA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Times New Roman"/>
              </a:rPr>
              <a:t>hamiltonslide@gmail.com</a:t>
            </a:r>
            <a:endParaRPr b="0" lang="en-US" sz="1200" spc="-1" strike="noStrike">
              <a:solidFill>
                <a:srgbClr val="000000"/>
              </a:solidFill>
              <a:latin typeface="Calibri"/>
            </a:endParaRPr>
          </a:p>
        </p:txBody>
      </p:sp>
      <p:sp>
        <p:nvSpPr>
          <p:cNvPr id="50" name="CaixaDeTexto 15"/>
          <p:cNvSpPr/>
          <p:nvPr/>
        </p:nvSpPr>
        <p:spPr>
          <a:xfrm>
            <a:off x="7072200" y="623736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51" name="Semicírculos 17"/>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sndAc>
      <p:stSnd>
        <p:snd r:embed="rId5" name="Ernesto%20Cortazar%20-%20Corazon%20Solitario.%205.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3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3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3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3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39" name="Rectangle 1"/>
          <p:cNvSpPr/>
          <p:nvPr/>
        </p:nvSpPr>
        <p:spPr>
          <a:xfrm>
            <a:off x="1928880" y="2473920"/>
            <a:ext cx="5286240" cy="252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Desde então já não me aproximo deles, não quero lhes passar algo mal por minhas imprudências. Tenho tanto medo de contagiá-los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u os bendigo a todos e lhes perdôo, porque...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ea typeface="Times New Roman"/>
              </a:rPr>
              <a:t>‘</a:t>
            </a:r>
            <a:r>
              <a:rPr b="1" i="1" lang="pt-BR" sz="1600" spc="-1" strike="noStrike">
                <a:solidFill>
                  <a:srgbClr val="000000"/>
                </a:solidFill>
                <a:latin typeface="Arial"/>
                <a:ea typeface="Times New Roman"/>
              </a:rPr>
              <a:t>QUE CULPA  EU TENHO  DE  TER   ME  TORNADO INVISÍVE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ea typeface="Times New Roman"/>
              </a:rPr>
              <a:t>///////</a:t>
            </a:r>
            <a:endParaRPr b="0" lang="en-US" sz="1600" spc="-1" strike="noStrike">
              <a:solidFill>
                <a:srgbClr val="000000"/>
              </a:solidFill>
              <a:latin typeface="Calibri"/>
            </a:endParaRPr>
          </a:p>
        </p:txBody>
      </p:sp>
      <p:sp>
        <p:nvSpPr>
          <p:cNvPr id="140" name="CaixaDeTexto 9"/>
          <p:cNvSpPr/>
          <p:nvPr/>
        </p:nvSpPr>
        <p:spPr>
          <a:xfrm>
            <a:off x="7072200" y="6093000"/>
            <a:ext cx="131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4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4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4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4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4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Calibri"/>
              </a:rPr>
              <a:t>HAMILTON SLID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Calibri"/>
              </a:rPr>
              <a:t>MÚSICA 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Calibri"/>
              </a:rPr>
              <a:t>Ernesto Cortaza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Calibri"/>
              </a:rPr>
              <a:t>Corazon Solitario</a:t>
            </a:r>
            <a:endParaRPr b="0" lang="en-US" sz="1800" spc="-1" strike="noStrike">
              <a:solidFill>
                <a:srgbClr val="000000"/>
              </a:solidFill>
              <a:latin typeface="Calibri"/>
            </a:endParaRPr>
          </a:p>
        </p:txBody>
      </p:sp>
      <p:sp>
        <p:nvSpPr>
          <p:cNvPr id="14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49" name="CaixaDeTexto 8"/>
          <p:cNvSpPr/>
          <p:nvPr/>
        </p:nvSpPr>
        <p:spPr>
          <a:xfrm>
            <a:off x="7072200" y="6215040"/>
            <a:ext cx="131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50" name="Semicírculos 9"/>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
          <p:cNvSpPr/>
          <p:nvPr/>
        </p:nvSpPr>
        <p:spPr>
          <a:xfrm>
            <a:off x="6372360" y="658332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ff"/>
                </a:solidFill>
                <a:uFillTx/>
                <a:latin typeface="Arial"/>
                <a:hlinkClick r:id="rId5"/>
              </a:rPr>
              <a:t>www.educamor.net</a:t>
            </a:r>
            <a:endParaRPr b="0" lang="en-US" sz="12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5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5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5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5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59" name="Rectangle 1"/>
          <p:cNvSpPr/>
          <p:nvPr/>
        </p:nvSpPr>
        <p:spPr>
          <a:xfrm>
            <a:off x="2143080" y="1693080"/>
            <a:ext cx="471492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Verdana"/>
                <a:ea typeface="Times New Roman"/>
              </a:rPr>
              <a:t>Já</a:t>
            </a:r>
            <a:r>
              <a:rPr b="1" i="1" lang="es-PE" sz="1600" spc="-1" strike="noStrike">
                <a:solidFill>
                  <a:srgbClr val="000000"/>
                </a:solidFill>
                <a:latin typeface="Verdana"/>
                <a:ea typeface="Times New Roman"/>
              </a:rPr>
              <a:t> não sei em que data estamos. Lá em casa não há calendários e na minha memória as datas estão todas misturadas. Me recordo daquelas folhinhas grandes, uns primores, ilustradas com imagens dos santos que colocávamos no lado da penteadeira. Já não há nada disso. Todas as coisas antigas foram desaparecendo. E sem que ninguém desse conta, eu me fui apagando també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Primeiro me trocaram de quarto, pois a família cresceu. Depois me passaram para outro menor ainda com a companhia de minhas bisnetas. </a:t>
            </a:r>
            <a:endParaRPr b="0" lang="en-US" sz="1600" spc="-1" strike="noStrike">
              <a:solidFill>
                <a:srgbClr val="000000"/>
              </a:solidFill>
              <a:latin typeface="Calibri"/>
            </a:endParaRPr>
          </a:p>
        </p:txBody>
      </p:sp>
      <p:sp>
        <p:nvSpPr>
          <p:cNvPr id="60" name="CaixaDeTexto 9"/>
          <p:cNvSpPr/>
          <p:nvPr/>
        </p:nvSpPr>
        <p:spPr>
          <a:xfrm>
            <a:off x="7072200" y="6165720"/>
            <a:ext cx="1100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6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6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6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6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6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69" name="Rectangle 1"/>
          <p:cNvSpPr/>
          <p:nvPr/>
        </p:nvSpPr>
        <p:spPr>
          <a:xfrm flipH="1">
            <a:off x="2143080" y="1694160"/>
            <a:ext cx="492912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Agora ocupo um desvão, que está no pátio de trás. Prometeram trocar o vidro quebrado da janela, porém se esqueceram, e todas as noites por ali circula um ar gelado que aumenta minhas dores reumática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Mas tudo be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Desde há muito tempo tinha intenção de escrever, porém  passava semanas procurando um lápis. E quando o encontrava, eu mesma voltava a esquecer onde o tinha posto. Na minha idade as coisas se perdem facilmente: claro, não é uma enfermidade delas, das coisas, porque estou segura de tê-las, porém sempre desaparecem.</a:t>
            </a:r>
            <a:endParaRPr b="0" lang="en-US" sz="1600" spc="-1" strike="noStrike">
              <a:solidFill>
                <a:srgbClr val="000000"/>
              </a:solidFill>
              <a:latin typeface="Calibri"/>
            </a:endParaRPr>
          </a:p>
        </p:txBody>
      </p:sp>
      <p:sp>
        <p:nvSpPr>
          <p:cNvPr id="70" name="CaixaDeTexto 9"/>
          <p:cNvSpPr/>
          <p:nvPr/>
        </p:nvSpPr>
        <p:spPr>
          <a:xfrm>
            <a:off x="7072200" y="623736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7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7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7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7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7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79" name="Rectangle 1"/>
          <p:cNvSpPr/>
          <p:nvPr/>
        </p:nvSpPr>
        <p:spPr>
          <a:xfrm>
            <a:off x="2071800" y="1855800"/>
            <a:ext cx="500040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Noutra tarde dei-me conta que minha voz também tinha desaparecido. Quando eu falo com meus netos ou com meus filhos não me respondem. Todos falam sem me olhar, como se eu não estivesse com eles, escutando atenta o que dizem. As vezes intervenho na conversação, segura de que o que vou lhes dizer não ocorrera a nenhum deles, e de que lhes vai ser de grande utilidad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Porém não me ouvem, não me olham, não me respondem. Então cheia de tristeza me retiro para meu quarto e vou beber minha xícara de café. </a:t>
            </a:r>
            <a:endParaRPr b="0" lang="en-US" sz="1600" spc="-1" strike="noStrike">
              <a:solidFill>
                <a:srgbClr val="000000"/>
              </a:solidFill>
              <a:latin typeface="Calibri"/>
            </a:endParaRPr>
          </a:p>
        </p:txBody>
      </p:sp>
      <p:sp>
        <p:nvSpPr>
          <p:cNvPr id="80" name="CaixaDeTexto 9"/>
          <p:cNvSpPr/>
          <p:nvPr/>
        </p:nvSpPr>
        <p:spPr>
          <a:xfrm>
            <a:off x="7072200" y="616572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8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8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8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8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8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89" name="Rectangle 1"/>
          <p:cNvSpPr/>
          <p:nvPr/>
        </p:nvSpPr>
        <p:spPr>
          <a:xfrm>
            <a:off x="2143080" y="1907280"/>
            <a:ext cx="485784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 faço assim, de propósito, para que compreendam que estou aborrecida, para que se dêem conta que me entristecem e venham  buscar-me e me peçam perdão …Porém ninguém ve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Quando meu genro ficou doente, pensei ter a oportunidade de ser-lhe útil, lhe levei um chá especial que eu mesma preparei. Coloquei-o na mesinha e me sentei a esperar que  o  tomasse, só que ele estava vendo televisão e nem um só movimento me indicou que se dera conta da minha presença. O chá pouco a pouco foi esfriando……e junto com ele, meu coração</a:t>
            </a:r>
            <a:r>
              <a:rPr b="1" lang="es-PE" sz="1200" spc="-1" strike="noStrike">
                <a:solidFill>
                  <a:srgbClr val="000000"/>
                </a:solidFill>
                <a:latin typeface="Verdana"/>
                <a:ea typeface="Times New Roman"/>
              </a:rPr>
              <a:t>...</a:t>
            </a:r>
            <a:endParaRPr b="0" lang="en-US" sz="1200" spc="-1" strike="noStrike">
              <a:solidFill>
                <a:srgbClr val="000000"/>
              </a:solidFill>
              <a:latin typeface="Calibri"/>
            </a:endParaRPr>
          </a:p>
        </p:txBody>
      </p:sp>
      <p:sp>
        <p:nvSpPr>
          <p:cNvPr id="90" name="CaixaDeTexto 9"/>
          <p:cNvSpPr/>
          <p:nvPr/>
        </p:nvSpPr>
        <p:spPr>
          <a:xfrm>
            <a:off x="7072200" y="609300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9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9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9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9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9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99" name="Rectangle 1"/>
          <p:cNvSpPr/>
          <p:nvPr/>
        </p:nvSpPr>
        <p:spPr>
          <a:xfrm>
            <a:off x="2071800" y="1832400"/>
            <a:ext cx="507204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ntão noutro dia lhes disse que  quando  eu morresse todos iriam se arrepender. Meu neto menor disse: “Ainda estás viva vovó? “. Eles acharam tanta graça, que não pararam de rir. Três dias estive chorando no meu quarto, até que numa manhã entrou um dos rapazes para retirar umas rodas velhas e nem o bom dia me de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Foi então quando me convenci de que sou invisível...Parei no meio da sala para ver, se me tornando um estorvo me olhavam. Porém minha filha seguiu varrendo sem me tocar, os meninos correram em minha volta, de um lado para o outro, sem tropeçar em mim.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CaixaDeTexto 9"/>
          <p:cNvSpPr/>
          <p:nvPr/>
        </p:nvSpPr>
        <p:spPr>
          <a:xfrm>
            <a:off x="7072200" y="623736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0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0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0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0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0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09" name="Rectangle 1"/>
          <p:cNvSpPr/>
          <p:nvPr/>
        </p:nvSpPr>
        <p:spPr>
          <a:xfrm>
            <a:off x="2071800" y="1714320"/>
            <a:ext cx="492912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Um dia se agitaram os meninos, e me vieram dizer que no dia seguinte nós iríamos todos passar um dia no campo. Fiquei muito contente. Fazia tanto tempo que não saía e mais ainda ia ao campo!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No sábado fui a primeira a levantar-me. Quis arrumar as coisas com calma. Nós os velhos tardamos muito em fazer qualquer coisa, assim que adiantei meu tempo para não atrazá-los. Rápido entravam e saíam da casa correndo e levavam as bolsas e brinquedos para o carro.</a:t>
            </a:r>
            <a:r>
              <a:rPr b="0" i="1" lang="pt-BR" sz="1600" spc="-1" strike="noStrike">
                <a:solidFill>
                  <a:srgbClr val="000000"/>
                </a:solidFill>
                <a:latin typeface="Arial"/>
                <a:ea typeface="Times New Roman"/>
              </a:rPr>
              <a:t> </a:t>
            </a:r>
            <a:r>
              <a:rPr b="1" i="1" lang="es-PE" sz="1600" spc="-1" strike="noStrike">
                <a:solidFill>
                  <a:srgbClr val="000000"/>
                </a:solidFill>
                <a:latin typeface="Verdana"/>
                <a:ea typeface="Times New Roman"/>
              </a:rPr>
              <a:t>Eu já estava pronta e muito alegre, permaneci no saguão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a esperá-los</a:t>
            </a:r>
            <a:r>
              <a:rPr b="1" lang="es-PE" sz="1200" spc="-1" strike="noStrike">
                <a:solidFill>
                  <a:srgbClr val="000000"/>
                </a:solidFill>
                <a:latin typeface="Verdana"/>
                <a:ea typeface="Times New Roman"/>
              </a:rPr>
              <a:t>. </a:t>
            </a:r>
            <a:endParaRPr b="0" lang="en-US" sz="1200" spc="-1" strike="noStrike">
              <a:solidFill>
                <a:srgbClr val="000000"/>
              </a:solidFill>
              <a:latin typeface="Calibri"/>
            </a:endParaRPr>
          </a:p>
        </p:txBody>
      </p:sp>
      <p:sp>
        <p:nvSpPr>
          <p:cNvPr id="110" name="CaixaDeTexto 9"/>
          <p:cNvSpPr/>
          <p:nvPr/>
        </p:nvSpPr>
        <p:spPr>
          <a:xfrm>
            <a:off x="7072200" y="616572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1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1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1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1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1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19" name="Rectangle 1"/>
          <p:cNvSpPr/>
          <p:nvPr/>
        </p:nvSpPr>
        <p:spPr>
          <a:xfrm>
            <a:off x="2214720" y="1694160"/>
            <a:ext cx="457200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Quando me dei conta eles já tinham partido e o carro  desapareceu envolto em algazarra, compreendi que eu não estava convidada, talvez porque não coubesse no carr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Ou porque meus passos tão lentos impediriam que todos os demais caminhassem a seu gosto pelo bosque. Senti claro como meu coração se encolheu e a minha face ficou tremendo  como quando a gente tem que engolir a vontade de chora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u os entendo, eles vivem o mundo deles. Riem, gritam, sonham, choram, se abraçam, se beijam. E eu, já nem sinto mais o gosto de um beijo. </a:t>
            </a:r>
            <a:endParaRPr b="0" lang="en-US" sz="1600" spc="-1" strike="noStrike">
              <a:solidFill>
                <a:srgbClr val="000000"/>
              </a:solidFill>
              <a:latin typeface="Calibri"/>
            </a:endParaRPr>
          </a:p>
        </p:txBody>
      </p:sp>
      <p:sp>
        <p:nvSpPr>
          <p:cNvPr id="120" name="CaixaDeTexto 9"/>
          <p:cNvSpPr/>
          <p:nvPr/>
        </p:nvSpPr>
        <p:spPr>
          <a:xfrm>
            <a:off x="7072200" y="616572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2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2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2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2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25" name="Retângulo de cantos arredondados 12"/>
          <p:cNvSpPr/>
          <p:nvPr/>
        </p:nvSpPr>
        <p:spPr>
          <a:xfrm>
            <a:off x="2000160" y="857160"/>
            <a:ext cx="5214960" cy="485784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29" name="Rectangle 1"/>
          <p:cNvSpPr/>
          <p:nvPr/>
        </p:nvSpPr>
        <p:spPr>
          <a:xfrm>
            <a:off x="2143080" y="1923480"/>
            <a:ext cx="471492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Antes beijava os pequeninos, era um prazer enorme tê-los em meus braços, como se fossem meu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Sentia sua pele tenrinha e sua respiração doce bem perto de mim. A vida nova me produzia um alento e até me dava vontade de cantar canções que nunca acreditara me lembra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Porém um dia minha neta Laura, que acabava de ter um bebê disse que não era bom que os anciãos beijassem aos bebês, por questões de saúde... </a:t>
            </a:r>
            <a:endParaRPr b="0" lang="en-US" sz="1600" spc="-1" strike="noStrike">
              <a:solidFill>
                <a:srgbClr val="000000"/>
              </a:solidFill>
              <a:latin typeface="Calibri"/>
            </a:endParaRPr>
          </a:p>
        </p:txBody>
      </p:sp>
      <p:sp>
        <p:nvSpPr>
          <p:cNvPr id="130" name="CaixaDeTexto 9"/>
          <p:cNvSpPr/>
          <p:nvPr/>
        </p:nvSpPr>
        <p:spPr>
          <a:xfrm>
            <a:off x="7072200" y="616572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3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22:27:25Z</dcterms:created>
  <dc:creator>Usuario</dc:creator>
  <dc:description/>
  <dc:language>en-US</dc:language>
  <cp:lastModifiedBy>Usuario</cp:lastModifiedBy>
  <dcterms:modified xsi:type="dcterms:W3CDTF">2008-10-11T22:30:17Z</dcterms:modified>
  <cp:revision>1</cp:revision>
  <dc:subject/>
  <dc:title>Slide 1</dc:title>
</cp:coreProperties>
</file>