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F6F-EF55-4310-83FC-390011C2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F86-F453-495D-BDDA-08401C45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926-27B5-4D7F-A4B5-E2250835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4D5-B514-40C8-9312-84D4B9AD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15D-9E3D-40AD-B356-A2764F3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194-C069-4A9E-B431-EB74EFD3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6D5-1C88-4B92-A8E7-96D57DB8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CBC-3B8B-49DB-A5F9-646B13C3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648-426F-4E06-8137-CC01DC77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E71-1CE5-409F-AEAC-DB5C946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1B8-8B88-4F3F-96DA-77AFBD20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712-5480-4EB3-B114-B3D59ED2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1CBF-D617-43CC-B506-4402DE669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000680" cy="407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5680" y="5065560"/>
            <a:ext cx="730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rta ao SR. Presidente da Repúbl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828440"/>
            <a:ext cx="8064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ss.: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Um trabalhador que já não mais sabe 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fazer para conseguir sobreviver com dignidade.</a:t>
            </a:r>
            <a:br>
              <a:rPr sz="2400"/>
            </a:b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S: Podemos até negociar o percentual !!!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41400" y="615240"/>
            <a:ext cx="7610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gora vejam só a farra do Congresso Nacional :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Salário:................................................... ........R$ 12mil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uxílio-moradia..............................................R$ 3 mil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Verba para despesas "comprovadas...............R$ 7 mil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Verba para assessores...................................R$ 3,8 mil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ara 'trabalharem' no recesso.................. .......R$ 25,4 mil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Verba de gabinete mensal..............................R$ 35 mil; e mais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Transporte: Passagens aéreas de ida e volta a Brasília/mês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Direito a "contratar" 20 servidores para seu gabinete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13º e 14º salários, no fim e no início de cada ano legislativo; e 90 dias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e férias anuais e folga remunerada de 30 dias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78120" y="2926440"/>
            <a:ext cx="543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ISSO PARA CADA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UM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DOS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514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DEPUTADOS !!!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1706760"/>
            <a:ext cx="6959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Esse dinheiro sai dos cofres públicos, ou seja, do nosso bolso !!!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Mostre sua indignação e envie este texto a todos os seus amigos e conhecidos para que protestem junto aos deputados federais e senadores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TENHA SANTA PACIÊNCIA! ! ! 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0760" y="2786760"/>
            <a:ext cx="792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P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O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E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 V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C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Ê</a:t>
            </a:r>
            <a:r>
              <a:rPr b="1" lang="pt-BR" sz="1800" spc="-1" strike="noStrike">
                <a:solidFill>
                  <a:srgbClr val="66ff33"/>
                </a:solidFill>
                <a:latin typeface="Comic Sans MS"/>
              </a:rPr>
              <a:t>!!!!!</a:t>
            </a:r>
            <a:r>
              <a:rPr b="1" lang="pt-BR" sz="1800" spc="-1" strike="noStrike">
                <a:solidFill>
                  <a:srgbClr val="ffff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MANDE ESSA MENSAGEM A TODOS DE SUA   LISTA !!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172152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&gt;</a:t>
            </a:r>
            <a:br>
              <a:rPr sz="18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O negócio é repassar esse e-mail à 110.000.000 de eleitores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uvido que a coisa não mude!!!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2281680"/>
            <a:ext cx="75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xcelentíssimo Sr. Presidente da República Federativa do Brasil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nifesto meu total apoio ao seu esforço de modernização do nosso paí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o cidadão comum, não tenho muito mais a oferecer além do meu trabalho, mas já que o tema da moda é Reforma Tributária , percebi que posso definitivamente contribuir mai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6560" y="2007000"/>
            <a:ext cx="810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ou explica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Na atual legislação, pago na fonte 27,5% do meu salário.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Como pode ver, sou um brasileiro afortunado. Sou obrigado a concordar que é pouco dinheiro para o governo fazer tudo aquilo que promete ao cidadão em tempo de campanha eleitoral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esmo juntando ao valor pago por dezenas de milhões de assalariados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2144520"/>
            <a:ext cx="782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inha sugestão é invertermos os percentua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 partir do próximo mês autorizo o Governo a ficar com 72,5% do meu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  salário..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Portanto, eu receberia mensalmente apenas 27,5% do resultado do meu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Trabalho mensal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-36000"/>
            <a:ext cx="76536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uncionaria assim: Eu fico com 27,5% limpinhos, sem qualquer ônus.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O Governo fica com 72,5% e leva as contas de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Escola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Convênio médico 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Despesas com dentista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Remédio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Materiais escolares 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Condomínio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Água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Luz 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Telefone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24000" y="417600"/>
            <a:ext cx="2394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Energia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Supermercado 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Gasolina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Vestuário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Lazer 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Pedágios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Cultura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CPMF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IPVA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IPTU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ISS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ICMS;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29400" y="1598040"/>
            <a:ext cx="7064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IPI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PI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COFINS 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Segurança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Previdência privada e qualquer taxa extra que por ventura sej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pentinamente criada por qualquer dos Poderes Executivo,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Legislativo e Judiciári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4640" y="2469240"/>
            <a:ext cx="704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 abraç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r. President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 muito boa sor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 fundo do meu coração!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3:45:55Z</dcterms:created>
  <dc:creator>Isabel</dc:creator>
  <dc:description/>
  <dc:language>en-US</dc:language>
  <cp:lastModifiedBy>rr</cp:lastModifiedBy>
  <dcterms:modified xsi:type="dcterms:W3CDTF">2007-11-28T04:15:01Z</dcterms:modified>
  <cp:revision>4</cp:revision>
  <dc:subject/>
  <dc:title>Slide 1</dc:title>
</cp:coreProperties>
</file>