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09B-2903-4464-86AE-A6B5AACD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FFF-9C7E-4028-BA19-1BEC671C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6B9-8B05-4AA0-9BBC-FFA554C8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57E-0BC9-4856-BF1B-B317D7A5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6B6-89F3-4C1A-9336-C8CAF41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BE0-512F-4933-BA60-B001FC8A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BD4-08DC-45F5-830B-6C9DE14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210-075C-4633-8721-2E4DBC47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B61-7572-4CDA-83F9-79C17A86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B8E-BE63-4C26-829F-E5B90DB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2E7-4A6C-4093-9CC6-FB9A2C7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C7F-E746-4C25-B3D0-575FB8D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476-55C0-48AF-96AC-62F11F802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00068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5680" y="5065560"/>
            <a:ext cx="730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ta ao SR. Presidente da Repúbl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828440"/>
            <a:ext cx="806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ss.: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Um trabalhador que já não mais sabe 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fazer para conseguir sobreviver com dignidade.</a:t>
            </a:r>
            <a:br>
              <a:rPr sz="2400"/>
            </a:b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S: Podemos até negociar o percentual !!!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1400" y="615240"/>
            <a:ext cx="7610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gora vejam só a farra do Congresso Nacional :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Salário:................................................... ........R$ 12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uxílio-moradia..............................................R$ 3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Verba para despesas "comprovadas...............R$ 7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Verba para assessores...................................R$ 3,8 mil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ara 'trabalharem' no recesso.................. .......R$ 25,4 mil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Verba de gabinete mensal..............................R$ 35 mil; e mais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Transporte: Passagens aéreas de ida e volta a Brasília/mês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ireito a "contratar" 20 servidores para seu gabinete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13º e 14º salários, no fim e no início de cada ano legislativo; e 90 dia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 férias anuais e folga remunerada de 30 dias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78120" y="2926440"/>
            <a:ext cx="543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ISSO PARA CAD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UM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mic Sans MS"/>
              </a:rPr>
              <a:t>514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DEPUTADOS !!!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1706760"/>
            <a:ext cx="6959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sse dinheiro sai dos cofres públicos, ou seja, do nosso bolso !!!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Mostre sua indignação e envie este texto a todos os seus amigos e conhecidos para que protestem junto aos deputados federais e senadore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TENHA SANTA PACIÊNCIA! ! ! 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0760" y="2786760"/>
            <a:ext cx="792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P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E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 V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pt-BR" sz="2400" spc="-1" strike="noStrike">
                <a:solidFill>
                  <a:srgbClr val="66ff33"/>
                </a:solidFill>
                <a:latin typeface="Comic Sans MS"/>
              </a:rPr>
              <a:t>C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Ê</a:t>
            </a:r>
            <a:r>
              <a:rPr b="1" lang="pt-BR" sz="1800" spc="-1" strike="noStrike">
                <a:solidFill>
                  <a:srgbClr val="66ff33"/>
                </a:solidFill>
                <a:latin typeface="Comic Sans MS"/>
              </a:rPr>
              <a:t>!!!!!</a:t>
            </a:r>
            <a:r>
              <a:rPr b="1" lang="pt-BR" sz="18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ANDE ESSA MENSAGEM A TODOS DE SUA   LISTA !!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72152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&gt;</a:t>
            </a:r>
            <a:br>
              <a:rPr sz="18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O negócio é repassar esse e-mail à 110.000.000 de eleitore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uvido que a coisa não mude!!!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28168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xcelentíssimo Sr. Presidente da República Federativa do Brasi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nifesto meu total apoio ao seu esforço de modernização do nosso paí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o cidadão comum, não tenho muito mais a oferecer além do meu trabalho, mas já que o tema da moda é Reforma Tributária , percebi que posso definitivamente contribuir mai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2007000"/>
            <a:ext cx="810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ou explica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Na atual legislação, pago na fonte 27,5% do meu salário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omo pode ver, sou um brasileiro afortunado. Sou obrigado a concordar que é pouco dinheiro para o governo fazer tudo aquilo que promete ao cidadão em tempo de campanha eleitora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smo juntando ao valor pago por dezenas de milhões de assalariados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144520"/>
            <a:ext cx="782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nha sugestão é invertermos os percentua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 partir do próximo mês autorizo o Governo a ficar com 72,5% do me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  salário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Portanto, eu receberia mensalmente apenas 27,5% do resultado do me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Trabalho mensal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-36000"/>
            <a:ext cx="7653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ncionaria assim: Eu fico com 27,5% limpinhos, sem qualquer ônus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O Governo fica com 72,5% e leva as contas d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Escol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nvênio médico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Despesas com dentist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Remédio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Materiais escolares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ndomínio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Águ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Luz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Telefone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4000" y="417600"/>
            <a:ext cx="2394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Energi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Supermercado 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Gasolin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Vestuário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Lazer 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Pedágios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Cultur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CPMF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PVA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PTU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SS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-ICMS;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29400" y="1598040"/>
            <a:ext cx="706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PI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PI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COFINS 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Seguranç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Previdência privada e qualquer taxa extra que por ventura sej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pentinamente criada por qualquer dos Poderes Executivo,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Legislativo e Judiciári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4640" y="2469240"/>
            <a:ext cx="704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 abraç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r. President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 muito boa so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 fundo do meu coração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3:45:55Z</dcterms:created>
  <dc:creator>Isabel</dc:creator>
  <dc:description/>
  <dc:language>en-US</dc:language>
  <cp:lastModifiedBy>rr</cp:lastModifiedBy>
  <dcterms:modified xsi:type="dcterms:W3CDTF">2007-11-28T04:15:01Z</dcterms:modified>
  <cp:revision>4</cp:revision>
  <dc:subject/>
  <dc:title>Slide 1</dc:title>
</cp:coreProperties>
</file>