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orge%20Arag%C3%A3o%20-%20Ave%20Maria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946-578B-4DC0-BB7C-B24A0EE1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683-2274-4BD5-86C7-2ADB6F8A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6B1-5CE0-42E4-8627-F1DD1E93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4DB-6ECE-4F6E-BC06-3BAED210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139C-CEFB-4E03-B0CD-6C51150D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D921-C731-4FC9-AA6B-FF0F1144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59DF-7612-4CA0-980E-6E86B6D2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3015-59B7-4C27-86C7-5B5B08DD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0FA1-4FF9-4E48-BBCD-002131FE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9D7F-106C-4049-B320-2CCAEC46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8062-2999-40BF-846B-A00B04D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06A-D342-4200-9B99-F24C514F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4064-57B9-4BC8-8383-97C00AF1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EB3F-155B-4AA9-8583-6F82136C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AB19-76F5-452D-9222-C7A6584E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79D4-98A3-451A-994C-874668ED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9626-01BF-4759-829C-E22F6D1E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689-F607-443F-A9EB-E11A01E4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7C9-D032-4BA2-9DB3-2A44EB5E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C78-2B51-420E-A2A8-64C8F697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4E4-9CC7-43BD-BF98-191BE17F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8B1-127C-4FDB-8D26-974E067E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4B5-9956-4C9C-B75C-C07D8980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9B6-024B-45B4-AA02-EFB322A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451E-3EE8-4C59-A7DB-5D5A3D5257E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067F-1609-427A-AD57-5FC2B0229EF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rge%20Arag&#227;o%20-%20Ave%20Mari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1268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3800"/>
            </a:br>
            <a:r>
              <a:rPr b="1" i="1" lang="en-US" sz="3800" spc="-1" strike="noStrike">
                <a:solidFill>
                  <a:srgbClr val="ccf20e"/>
                </a:solidFill>
                <a:latin typeface="Arial"/>
              </a:rPr>
              <a:t>        </a:t>
            </a:r>
            <a:br>
              <a:rPr sz="3800"/>
            </a:b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7 de setembro, 17 horas!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967000"/>
            <a:ext cx="62643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O Brasil não tem povo, tem público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Lima Barre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518040"/>
            <a:ext cx="849780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podemos ser simple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pectador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provocar uma profunda e  radical  mudança na política, sem coloração partidá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impor o fim do cinismo descarado, da corrupção endêmica e do banditismo institucionaliz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mos de “saco cheio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ega de afro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 a lei de hoje puna (como puder) os canalhas que emporcalham e seviciam a nação. Mas isto não basta, a maioria dos que hoje acusam, foram os canalhas de ontem, ou serão os canalhas de amanhã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4560" y="474480"/>
            <a:ext cx="8569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Vamos iniciar um vigoroso movimento popular que produza uma verdadeira reforma político-administrativa, profunda, séria e radica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92280"/>
            <a:ext cx="8208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e uma reforma que afugente da vida pública a corja de escroques que se sugam o sangue da nação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99640" y="19162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 tudo continuará como sempre fo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4653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 impormos  mecanismos de punição implacável ao homem público que transgride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8480" y="3500280"/>
            <a:ext cx="67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911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4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6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106200"/>
            <a:ext cx="7777080" cy="70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reforma político-administrativa poderá instituir, dentre outras, as seguintes medid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prov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ocumental rigorosa da idoneidade dos candidat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xtinção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 profunda restrição da imunidade parla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de abertura do sigilo fiscal e bancári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e vereadores, prefeitos, deputados, senadores, ministros de estado, presidente da república, vice-presidente da república, partidos políticos, dirigentes de partidos políticos, diretores de entidades da administração direta e indireta, juízes e desembargado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ibição de contratação de parent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 afins de até o nível de 3º grau. E que a admissão de parentes ocorra apenas por concursos, onde o critério seja técni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equ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ou mesmo a redução drástica de salários, benefícios e aposentadorias para ocupantes de cargos legislativos a nível municipal, estadual e fede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dução d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sadas agravantes na legislação penal, cível e tributári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para crimes cometidos pelos homens públ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comprovada capacitação e experiência dos aspirantes a cargos de direção em entidades da administração direta e indire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156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13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76720" y="138240"/>
            <a:ext cx="39243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criarmos reais condições para que a esperança vença a descrença, pois, apenas assistimos  a este teatro como se não tivéssemos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pod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ara alterá-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205000"/>
            <a:ext cx="3851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agirmo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los nossos filhos e netos e em respeito aos 50 milhões 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ste país, que vivem o martírio de uma vida de sofrimento desum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66360" y="5408640"/>
            <a:ext cx="37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50 </a:t>
            </a: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milhõ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260280"/>
            <a:ext cx="8425080" cy="78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o dia 7 DE SETEMBRO às 17:00 horas!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aralisar o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romover um panelaç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xija que as redes de televisão, rádios, jornais, revistas e o político de sua confiança divulguem este movi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obilize sua escola, seu sindicato, sua igreja, seus ami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icie agora esta corrente de ação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mos atingir todos, de todas as camadas sociais, de todos os recantos deste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eta este e-mail para o máximo de pessoas e peça a elas que façam o me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765000"/>
            <a:ext cx="748836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189000"/>
            <a:ext cx="867564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 dia 7 de Setembro,  às 17 hor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nda na janela uma bandeira, uma toalha, um pano qualqu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ta panel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que corne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você estiver no carro, buzin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mova desfiles, passea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ça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mos fazer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í sim, saberemos que somos um povo que resgatou a esper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ciaremos a mud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6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meta este e-mail para o máximo de pessoas e peça a elas que façam o mesmo.</a:t>
            </a:r>
            <a:br>
              <a:rPr sz="1600"/>
            </a:br>
            <a:r>
              <a:rPr b="1" i="1" lang="en-US" sz="6600" spc="-1" strike="noStrike">
                <a:solidFill>
                  <a:srgbClr val="f1b60f"/>
                </a:solidFill>
                <a:latin typeface="Arial"/>
              </a:rPr>
              <a:t>        </a:t>
            </a:r>
            <a:br>
              <a:rPr sz="66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7 de setembro,</a:t>
            </a: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6600"/>
            </a:b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17 horas!</a:t>
            </a:r>
            <a:endParaRPr b="0" lang="en-US" sz="6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04440" y="602136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Verdana"/>
              </a:rPr>
              <a:t>www.estaeahora.cjb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3:23:06Z</dcterms:created>
  <dc:creator/>
  <dc:description/>
  <dc:language>en-US</dc:language>
  <cp:lastModifiedBy>Valter Garcia Cota</cp:lastModifiedBy>
  <dcterms:modified xsi:type="dcterms:W3CDTF">2005-08-03T21:05:10Z</dcterms:modified>
  <cp:revision>39</cp:revision>
  <dc:subject/>
  <dc:title>Slide 1</dc:title>
</cp:coreProperties>
</file>