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Jorge%20Arag%C3%A3o%20-%20Ave%20Maria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3729-761F-4C43-A1C0-84169F9E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3B38-DDD1-48A3-AC4B-E6AD8918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9B53-DE14-4953-B4B3-231D4BE3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7D7E-F618-4EEB-AE3B-38AF6887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222F-ABEC-4340-9C5E-35F378C6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0C13-50D8-4D3A-B55A-77DBEECF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016A-99C3-40FF-9E93-52A1CAE6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66BC-5B94-4412-AAAF-1C318097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5625-4333-4DCA-BCF5-E4B10FFC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B5F1-9671-4919-9443-0C10AC67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40D5-D6A2-4BA3-81CF-9FEA84C2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6F2D-E883-4380-B00F-F16678DE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20C2-25DA-444F-B23E-B31D2AE2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1800-0895-443E-B6FF-79C1A0C8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517D-60FB-4236-8F30-3EEFF0C0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3F3A-E628-4C61-96B4-0844202A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A0C3-0BA4-4E40-B498-C2AEF3C5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3E0D-58B4-423D-AA55-FD44467C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C21-90E3-4109-ADF2-3B4B371D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493-7785-4E25-8889-548F19D7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D237-24AE-4170-AD4A-B0B98857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D0E-2D7C-4C93-A8A2-3E17F7ED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7871-9131-4B15-91C8-4674720E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5BC-71A6-4F85-AD7B-2FD1093D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BEAC-4E0E-4D77-89ED-D225BA9EEB63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8D6F-B99C-4D9B-BF85-F7A32F4876B7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orge%20Arag&#227;o%20-%20Ave%20Mari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8000" y="1268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en-US" sz="3800" spc="-1" strike="noStrike">
                <a:solidFill>
                  <a:srgbClr val="ffff00"/>
                </a:solidFill>
                <a:latin typeface="Arial"/>
              </a:rPr>
              <a:t>ESTA É A HORA!</a:t>
            </a:r>
            <a:br>
              <a:rPr sz="3800"/>
            </a:br>
            <a:r>
              <a:rPr b="1" i="1" lang="en-US" sz="3800" spc="-1" strike="noStrike">
                <a:solidFill>
                  <a:srgbClr val="ccf20e"/>
                </a:solidFill>
                <a:latin typeface="Arial"/>
              </a:rPr>
              <a:t>        </a:t>
            </a:r>
            <a:br>
              <a:rPr sz="3800"/>
            </a:br>
            <a:r>
              <a:rPr b="1" i="1" lang="en-US" sz="3800" spc="-1" strike="noStrike">
                <a:solidFill>
                  <a:srgbClr val="ffffff"/>
                </a:solidFill>
                <a:latin typeface="Arial"/>
              </a:rPr>
              <a:t>7 de setembro, 17 horas!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5967000"/>
            <a:ext cx="626436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O Brasil não tem povo, tem público.”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(Lima Barre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518040"/>
            <a:ext cx="849780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Esta é a hora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ão podemos ser simple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spectador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mos provocar uma profunda e  radical  mudança na política, sem coloração partidár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mos impor o fim do cinismo descarado, da corrupção endêmica e do banditismo institucionaliz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mos de “saco cheio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ega de afro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 a lei de hoje puna (como puder) os canalhas que emporcalham e seviciam a nação. Mas isto não basta, a maioria dos que hoje acusam, foram os canalhas de ontem, ou serão os canalhas de amanhã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74560" y="474480"/>
            <a:ext cx="8569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a é a hora.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Vamos iniciar um vigoroso movimento popular que produza uma verdadeira reforma político-administrativa, profunda, séria e radical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852640"/>
            <a:ext cx="7777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492280"/>
            <a:ext cx="8208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de uma reforma que afugente da vida pública a corja de escroques que se sugam o sangue da nação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99640" y="191628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u tudo continuará como sempre fo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640" y="465300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 impormos  mecanismos de punição implacável ao homem público que transgride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8480" y="3500280"/>
            <a:ext cx="67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..ou tudo continuará como sempre fo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91192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...ou tudo continuará como sempre fo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4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36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71640" y="106200"/>
            <a:ext cx="7777080" cy="70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reforma político-administrativa poderá instituir, dentre outras, as seguintes medid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mprovaçã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ocumental rigorosa da idoneidade dos candidat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xtinção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 profunda restrição da imunidade parlamenta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brigatoriedade de abertura do sigilo fiscal e bancári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e vereadores, prefeitos, deputados, senadores, ministros de estado, presidente da república, vice-presidente da república, partidos políticos, dirigentes de partidos políticos, diretores de entidades da administração direta e indireta, juízes e desembargado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roibição de contratação de parent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e afins de até o nível de 3º grau. E que a admissão de parentes ocorra apenas por concursos, onde o critério seja técnic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dequaçã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ou mesmo a redução drástica de salários, benefícios e aposentadorias para ocupantes de cargos legislativos a nível municipal, estadual e feder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rodução de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esadas agravantes na legislação penal, cível e tributári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para crimes cometidos pelos homens públic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brigatoriedad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 comprovada capacitação e experiência dos aspirantes a cargos de direção em entidades da administração direta e indiret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1156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133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76720" y="138240"/>
            <a:ext cx="392436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de criarmos reais condições para que a esperança vença a descrença, pois, apenas assistimos  a este teatro como se não tivéssemos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pode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para alterá-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2205000"/>
            <a:ext cx="3851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de agirmo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elos nossos filhos e netos e em respeito aos 50 milhões de miserá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ste país, que vivem o martírio de uma vida de sofrimento desum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66360" y="5408640"/>
            <a:ext cx="375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50 </a:t>
            </a:r>
            <a:r>
              <a:rPr b="1" lang="en-US" sz="5400" spc="-1" strike="noStrike">
                <a:solidFill>
                  <a:srgbClr val="ffff00"/>
                </a:solidFill>
                <a:latin typeface="Verdana"/>
              </a:rPr>
              <a:t>milhõ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 miserá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9640" y="260280"/>
            <a:ext cx="8425080" cy="78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o dia 7 DE SETEMBRO às 17:00 horas!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Às 17:00 horas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mos paralisar o Bras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Às 17:00 horas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mos promover um panelaç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xija que as redes de televisão, rádios, jornais, revistas e o político de sua confiança divulguem este movim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obilize sua escola, seu sindicato, sua igreja, seus amig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icie agora esta corrente de ação n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mos atingir todos, de todas as camadas sociais, de todos os recantos deste Bras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meta este e-mail para o máximo de pessoas e peça a elas que façam o mes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765000"/>
            <a:ext cx="748836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189000"/>
            <a:ext cx="867564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 dia 7 de Setembro,  às 17 hora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enda na janela uma bandeira, uma toalha, um pano qualqu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ta panel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que cornet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você estiver no carro, buzin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mova desfiles, passeat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ça a nação trem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por 1 minuto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mos fazer a nação trem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por 1 minu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í sim, saberemos que somos um povo que resgatou a esperanç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ciaremos a mudanç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ESTA É A HORA!</a:t>
            </a:r>
            <a:br>
              <a:rPr sz="6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meta este e-mail para o máximo de pessoas e peça a elas que façam o mesmo.</a:t>
            </a:r>
            <a:br>
              <a:rPr sz="1600"/>
            </a:br>
            <a:r>
              <a:rPr b="1" i="1" lang="en-US" sz="6600" spc="-1" strike="noStrike">
                <a:solidFill>
                  <a:srgbClr val="f1b60f"/>
                </a:solidFill>
                <a:latin typeface="Arial"/>
              </a:rPr>
              <a:t>        </a:t>
            </a:r>
            <a:br>
              <a:rPr sz="6600"/>
            </a:b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7 de setembro,</a:t>
            </a: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6600"/>
            </a:b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17 horas!</a:t>
            </a:r>
            <a:endParaRPr b="0" lang="en-US" sz="6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04440" y="6021360"/>
            <a:ext cx="27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Verdana"/>
              </a:rPr>
              <a:t>www.estaeahora.cjb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4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03:23:06Z</dcterms:created>
  <dc:creator/>
  <dc:description/>
  <dc:language>en-US</dc:language>
  <cp:lastModifiedBy>Valter Garcia Cota</cp:lastModifiedBy>
  <dcterms:modified xsi:type="dcterms:W3CDTF">2005-08-03T21:05:10Z</dcterms:modified>
  <cp:revision>39</cp:revision>
  <dc:subject/>
  <dc:title>Slide 1</dc:title>
</cp:coreProperties>
</file>