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AF35-95BD-47C4-9778-4FB6F5B9312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AF4-7CC5-45DA-9268-8F12473B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B91-4438-40B9-AD1B-62CE8583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51B-E93D-4B69-9FC1-6EDBD50F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C5E9-7E0F-4707-BD3B-F666B81D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D35FF-A9BD-49BE-B2AC-C5989AF8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BFCD1-6400-49F6-8173-6B0B22FB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2E497-FC07-4B32-9D8B-74BF24E4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7ACA1-BE66-4160-8767-7C2A12C4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24A65-DE61-4C00-B0B5-42F92632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E51FA-C751-4DD4-B92C-D7C72C70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98848-E179-49F4-B3BA-E0FC746E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7742-7CCA-4B2E-BDC4-8767E169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C0BCF-C613-4F8A-98D5-8223C237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0A182-8AA3-4077-9E56-1895504E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A986D-F480-4E4D-AC3C-4EFBDA15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62B0B-20C8-4D16-A65C-37676F59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36C1B-A0D0-4DFE-9AA1-975E43A5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7739-F431-4DF5-9952-F19F365B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954-67FB-4A6C-AB6E-8B0743D9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F6D-176F-42BD-B706-20ACD288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D183-EEE5-489F-AE33-FC525991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E9AB-8925-4CDD-A456-BFFAE3CB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3E3-8FBB-41C0-8A00-76F75490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EDE5-728C-487C-A50F-7A4B6E94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BE86-29CA-48D0-B0AF-5C0816ED9DA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0AE8-3A87-48F6-BE8E-6C56154BDA5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040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6000" spc="-1" strike="noStrike">
                <a:solidFill>
                  <a:srgbClr val="000099"/>
                </a:solidFill>
                <a:latin typeface="Times New Roman"/>
              </a:rPr>
              <a:t>Icebergs Assombrosos Rajados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52240" y="2742840"/>
            <a:ext cx="611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Somente olhe como a onda se congelo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na colisãocom  ar!!!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0120"/>
            <a:ext cx="84960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16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610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6560" y="404640"/>
            <a:ext cx="820908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77880" y="837720"/>
            <a:ext cx="598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Ter acesso à Internet significa que conseguimos ver alg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1828080"/>
            <a:ext cx="55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¡</a:t>
            </a: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que nós nunca  imaginaríamo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423160"/>
            <a:ext cx="82296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Passe estas belas imagens  para que  outros possam desfruta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Abraços  A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imes New Roman"/>
              </a:rPr>
              <a:t>janeiro/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762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Os icebergs na Antártida às vezes tem listras, formadas pelas capas de neve que reagem a condições diferentes.</a:t>
            </a:r>
            <a:br>
              <a:rPr sz="2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Listras azuis frequentemente são criadas quando uma fenda na folha de gelo se enche com água líquida e não se congela rapidamente ficam então  borbulhas na fôrma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920" y="19065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Quando um iceberg cai no mar, uma capa de água salgada pode congelar-se do  lado de baixo. Se essa capa contiver algas, isso pode formar uma franja verde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Linhas marrons, negras e amarelas são causadas por sedimentos recolhidos, quando a lâmina de gelo move-se pelo movimento das águas mar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398520"/>
            <a:ext cx="83534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24000" y="268200"/>
            <a:ext cx="6588000" cy="63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9640" y="486720"/>
            <a:ext cx="763272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  </a:t>
            </a:r>
            <a:br>
              <a:rPr sz="1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Na Antártida uma onda congelada no ato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- A Natureza é assombrosa!</a:t>
            </a:r>
            <a:br>
              <a:rPr sz="2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 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68400" y="2626920"/>
            <a:ext cx="720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A água se congelou no instante, que a onda abriu caminho no gelo.</a:t>
            </a: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6800" y="4498560"/>
            <a:ext cx="61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Isto é o que está na Antártid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Onde o clima é o mais frio em décad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484360" y="134064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A água congela no instante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29091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Isso deve-se ao contato com o ar.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4720" y="4235400"/>
            <a:ext cx="813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A temperatura da  água é  alguns graus abaixo do ponto de congelam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 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12:02:35Z</dcterms:created>
  <dc:creator>Francisco Galindez</dc:creator>
  <dc:description/>
  <dc:language>en-US</dc:language>
  <cp:lastModifiedBy>José Eduardo</cp:lastModifiedBy>
  <dcterms:modified xsi:type="dcterms:W3CDTF">2009-02-03T00:00:12Z</dcterms:modified>
  <cp:revision>8</cp:revision>
  <dc:subject/>
  <dc:title> Icebergs asombrosos rayados    </dc:title>
</cp:coreProperties>
</file>