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75BC-4993-4B70-8D3F-9DBCB6F04FD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FAB8-4E20-430D-A553-5841C9230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8909-5A63-46A7-8B8A-9CBC12A1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DD21-5E7F-4AE1-BF16-D6A170073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BF55-10DF-4B8E-880B-25203D0DB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6B101-EB5D-495C-8EF6-6EA4996E2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6D1831-AFA4-4CC6-837C-1CF67515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5920A-1389-41FD-9127-F02F8773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ED8D8-3C52-41C1-A5E8-931EBB27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2F6DA-A464-4F3F-904F-B6607C06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BFB290-0D78-40C4-8771-3EBC420A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8670D-A545-4516-AE67-181E9D4C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94CA-48DC-4BE2-9605-119C55F7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D28D6-6371-4626-A9FB-0BBD7846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ECB75C-7904-4EDE-B0B9-A5368D8D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9EEDD-4D29-4D7B-92C6-3FAB6B13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5DA53-A838-4632-A504-9B55D5E09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F9072-9D4A-40A2-81A3-D127F6792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0A67-E9C2-44DD-AEB8-3CD8DCF6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2731-7DBF-4460-AA41-ECCEAC0F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AD14-894D-42F9-B756-3D913CE6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751E-6DF4-4784-A087-6CAF4204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FFD6-5F73-4D9E-89A7-258F4ACB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3FD4-02B6-44BB-AF2F-E26BC280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647E-25EF-48A7-88CB-AD8B2398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F386-EA53-4723-AF2E-37AC7E87CEA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B5DD-BA15-4C0F-9612-A09B4D909C3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1915920"/>
            <a:ext cx="77040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6000" spc="-1" strike="noStrike">
                <a:solidFill>
                  <a:srgbClr val="000099"/>
                </a:solidFill>
                <a:latin typeface="Times New Roman"/>
              </a:rPr>
              <a:t>Icebergs Assombrosos Rajados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452240" y="2742840"/>
            <a:ext cx="6115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Somente olhe como a onda se congelo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na colisãocom  ar!!!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209080" cy="61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3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330120"/>
            <a:ext cx="849600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61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616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80360" cy="610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6560" y="404640"/>
            <a:ext cx="820908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77880" y="837720"/>
            <a:ext cx="598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Ter acesso à Internet significa que conseguimos ver alg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68360" y="1828080"/>
            <a:ext cx="550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¡</a:t>
            </a: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que nós nunca  imaginaríamos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423160"/>
            <a:ext cx="822960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Passe estas belas imagens  para que  outros possam desfruta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Abraços  A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imes New Roman"/>
              </a:rPr>
              <a:t>janeiro/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762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Os icebergs na Antártida às vezes tem listras, formadas pelas capas de neve que reagem a condições diferentes.</a:t>
            </a:r>
            <a:br>
              <a:rPr sz="2800"/>
            </a:b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Listras azuis frequentemente são criadas quando uma fenda na folha de gelo se enche com água líquida e não se congela rapidamente ficam então  borbulhas na fôrma.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50920" y="19065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Quando um iceberg cai no mar, uma capa de água salgada pode congelar-se do  lado de baixo. Se essa capa contiver algas, isso pode formar uma franja verde.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Linhas marrons, negras e amarelas são causadas por sedimentos recolhidos, quando a lâmina de gelo move-se pelo movimento das águas mar.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95280" y="398520"/>
            <a:ext cx="835344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24000" y="268200"/>
            <a:ext cx="6588000" cy="63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39640" y="486720"/>
            <a:ext cx="763272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  </a:t>
            </a:r>
            <a:br>
              <a:rPr sz="1800"/>
            </a:b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Na Antártida uma onda congelada no ato.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- A Natureza é assombrosa!</a:t>
            </a:r>
            <a:br>
              <a:rPr sz="2800"/>
            </a:b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 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68400" y="2626920"/>
            <a:ext cx="7207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A água se congelou no instante, que a onda abriu caminho no gelo.</a:t>
            </a:r>
            <a:r>
              <a:rPr b="0" lang="es-E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16800" y="4498560"/>
            <a:ext cx="615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Isto é o que está na Antártid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Onde o clima é o mais frio em década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484360" y="1340640"/>
            <a:ext cx="45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A água congela no instante</a:t>
            </a: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290916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Isso deve-se ao contato com o ar.</a:t>
            </a: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4720" y="4235400"/>
            <a:ext cx="8134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A temperatura da  água é  alguns graus abaixo do ponto de congelame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 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5T12:02:35Z</dcterms:created>
  <dc:creator>Francisco Galindez</dc:creator>
  <dc:description/>
  <dc:language>en-US</dc:language>
  <cp:lastModifiedBy>José Eduardo</cp:lastModifiedBy>
  <dcterms:modified xsi:type="dcterms:W3CDTF">2009-02-03T00:00:12Z</dcterms:modified>
  <cp:revision>8</cp:revision>
  <dc:subject/>
  <dc:title> Icebergs asombrosos rayados    </dc:title>
</cp:coreProperties>
</file>