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LANJA~12.WAV" ContentType="audio/x-wav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778-AADC-4342-BB8F-D0F7C7DC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292-5421-45A5-BD93-65406E93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AC9-4782-4DA4-9B04-A72D421F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20C-D95B-4CEB-9E11-88DDA49D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1C3-FCC8-478F-A9F4-926AE9FC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AB8-DF15-4D6E-96C5-A5DC07A5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A47-CB9A-4DD8-BAF5-7C69FB87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4FF-C01C-4DC4-AA2B-15C2339E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EA3-F7A3-4F7B-A96A-28EB7424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153-64F9-4709-B399-3EF4A62B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FDA-6C3D-4F51-9148-50FE1321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59C4-4612-4B96-B93C-2BBF096F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F2E4-A484-47C0-A914-AD5B4568F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ANJA~1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04920" y="1828800"/>
            <a:ext cx="83818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LOUCUR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825560"/>
            <a:ext cx="9144000" cy="5032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304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qui está o te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533520"/>
            <a:ext cx="8039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Loucura resolveu convidar os amigos para tomarem um café em sua cas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Todos os convidados fora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pós tomarem o café, a Loucura propô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-Vamos brincar de esconde-escond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que é iss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perguntou a Curiosidad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5335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sconde-esconde é uma brincadeira em que eu conto até cem e vou procur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primeiro a ser encontrado será o próximo a cont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Todos aceitaram, menos o Medo   e a Preguiç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1,2,3...,a Loucura começou a cont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74600"/>
            <a:ext cx="8839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Pressa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se escondeu primeiro, em qualquer  lug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Timidez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, tímida como sempre, escondeu-se na copa da árvo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Alegria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correu para o meio do jardim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já 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Tristeza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começou a chorar, pois não achava um local apropriado para se escond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Inveja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acompanhou o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Triunfo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e se escondeu perto dele, debaixo de uma pedr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304920"/>
            <a:ext cx="8305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Loucura continuava a contar e os seus amigos iam se escondend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O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Desespero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ficou desesperado ao ver a Loucura que já estava no noventa e nov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cem...(gritou a Loucura)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Vou começar a procur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primeira a aparecer foi 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riosidade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já que não agüentava mais, querendo saber quem seria o próximo a cont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380880"/>
            <a:ext cx="84582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o olhar para o lado, a Loucura viu 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Dúvida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em cima do muro, sem saber em qual dos lados se esconderia melho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E assim foram aparecendo, a Alegria, a Tristeza, a Timidez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ando estavam todos reunidos, a Curiosidade perguntou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Onde está o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mor?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883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inguém o tinha vist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Loucura começou a procurar. Procurou em cima da montanha, nos rios, debaixo das pedras e nada do Amor aparec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ocurando por todos os lados, a Loucura viu uma roseira, pegou um pauzinho, começou a procurar entre os galhos, e de repente ouviu um  grit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ra o Amor, gritando por ter furado o olho com o espinh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808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Loucura não sabia o que faz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Pediu desculpas, implorou pelo perdão do Amor e até prometeu servi-lo para semp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O Amor aceitou as desculp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Desde então e até hoje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4572000"/>
            <a:ext cx="73152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"O amor é cego,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 a loucura sempre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 acompanha".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380880"/>
            <a:ext cx="81536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Meu desejo para você hoje é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Aproveite a vida e beije muito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O número de pessoas a quem tu mandares este e-mail  será, com certeza, o número de beijos que receberás  hoje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Todos merecemos ganhar beij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Especialmente você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Entã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2:14:15Z</dcterms:created>
  <dc:creator>Alex</dc:creator>
  <dc:description/>
  <dc:language>en-US</dc:language>
  <cp:lastModifiedBy>GITANA</cp:lastModifiedBy>
  <dcterms:modified xsi:type="dcterms:W3CDTF">2008-04-15T17:32:15Z</dcterms:modified>
  <cp:revision>5</cp:revision>
  <dc:subject/>
  <dc:title>Apresentação do PowerPoint</dc:title>
</cp:coreProperties>
</file>