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91B-2A38-43E9-8915-BA5D233F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E9F-C80D-4415-A4F2-71519C2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69C-316B-4F09-880A-9D3090E3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32F-49CF-45FF-9D78-EA931A8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901-16F8-4395-A530-453CF56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96B-8EED-45D7-8726-58A83C1E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630-644A-4501-8702-44D2BCB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F26-5219-40A9-B3C7-E4A018F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D43-164A-4A11-B7D1-B38D40F6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644-8EEC-4330-BB76-0816FF8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AF8-2F8E-4A8D-BF41-4F65D20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20C-FFBD-4BFE-82D8-01DBA8A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8A87-FE08-4186-BE36-92B04C9B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2130480"/>
            <a:ext cx="73864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Descobre a Mensagem  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- Os barbeiros existem, </a:t>
            </a:r>
            <a:br>
              <a:rPr sz="3200"/>
            </a:b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essas perssoas é que não veem a m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xacto...! disse o cliente. Esse é o po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eus existe, o que se passa é que as pessoas não vão até Ele, não O procura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por isso há tanta dor e misé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 o barbeiro calou-se pensand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tu crês que Deus existe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nvia esta mensag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as se para ti não exis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ignora-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nvia às pessoas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são algo para t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diz-lhe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Procura primeiro a De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 as demais coi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te serão dadas por além'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repete com o coraç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sta oração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'Senhor, amo-te e necessito de 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stás no meu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bençoa a minha famíl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inha casa, minhas finan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eus amigos e a minha noiva/o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m nome de Jesú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men.!'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ictures_of_jes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Não ignores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que DEUS te abençoe sempre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briste isto porque di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‘</a:t>
            </a: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99 formas para beijar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as não abreria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tivesse dito</a:t>
            </a:r>
            <a:br>
              <a:rPr sz="4000"/>
            </a:br>
            <a:br>
              <a:rPr sz="4000"/>
            </a:br>
            <a:r>
              <a:rPr b="1" i="1" lang="es-ES" sz="4000" spc="-1" strike="noStrike">
                <a:solidFill>
                  <a:srgbClr val="002060"/>
                </a:solidFill>
                <a:latin typeface="Book Antiqua"/>
              </a:rPr>
              <a:t> ‘Eu amo Deus</a:t>
            </a:r>
            <a:br>
              <a:rPr sz="4000"/>
            </a:br>
            <a:r>
              <a:rPr b="1" i="1" lang="es-ES" sz="4000" spc="-1" strike="noStrike">
                <a:solidFill>
                  <a:srgbClr val="002060"/>
                </a:solidFill>
                <a:latin typeface="Book Antiqua"/>
              </a:rPr>
              <a:t>não importa o que aconteça…' </a:t>
            </a: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Manda isto em 7 minutos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com 99 formas para beijar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Se é verdade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amas DEU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Um milagre vai-te aconte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Hoje à noite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PD. Não ignores porque 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Deus está te observando sempre.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 se acreditas Nele então envi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 todas as pesso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Para que comec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 crer em D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desde agora, por fav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Um homem foi a uma barbe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cortar o seu cabelo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E iniciou um diálo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com a pessoa que o atende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apidamente começaram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falar sobre tema de Deu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de%20Center%2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O barbeiro diz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Eu não acredito que Deus exista, como você disse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¿</a:t>
            </a: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orque diz você isso?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regunta o clie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É muito fácil, ao sair para a rua nos apercebemos </a:t>
            </a:r>
            <a:br>
              <a:rPr sz="2800"/>
            </a:b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de que Deus não exi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O...diga-me, por acaso se Deus existis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¿haveria tantos doentes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¿Haveria meninos abandonad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Se Deus existisse, não haveria sofr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nem tanta dor para a humanidade. 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obreza-hn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2060"/>
                </a:solidFill>
                <a:latin typeface="Book Antiqua"/>
              </a:rPr>
              <a:t>Não posso pensar que exista um D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2060"/>
                </a:solidFill>
                <a:latin typeface="Book Antiqua"/>
              </a:rPr>
              <a:t>que permita todas estas coisa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O cliente calou-se pensan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não quis responder para evitar um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discussão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o terminar o corte de cab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o cliente saíu do estabelecimento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viu um homem com a barb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 o cabelo compri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552626072_48060e066d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ntrou novamente na barb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 disse ao barbe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Sabe uma coi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Os barbeiros não exi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¿Como? Se aqui estou e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Não...! diz o cliente, não exist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se existissem não haveria pessoa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com o pelos e barba tão gran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como a de esse homem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3:05:18Z</dcterms:created>
  <dc:creator>000000</dc:creator>
  <dc:description/>
  <dc:language>en-US</dc:language>
  <cp:lastModifiedBy>Manuel Gomes</cp:lastModifiedBy>
  <dcterms:modified xsi:type="dcterms:W3CDTF">2009-05-10T01:18:49Z</dcterms:modified>
  <cp:revision>18</cp:revision>
  <dc:subject/>
  <dc:title>Descubre el Mensaje</dc:title>
</cp:coreProperties>
</file>