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305-4FF5-4946-B297-33364BE0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FF8-A848-4A3F-86F9-6D94DD8C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942-0704-4D39-A2A5-BBB901E7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343-C35B-4287-ACB7-602DB311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51F-6618-4C52-9FD6-314C3AC6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099-48D8-4430-831A-D83C9F7C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2DF-1660-43C8-A0A9-71ECCAB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DCC-4BDE-4AA9-B85F-FA083984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BE6-AE8C-4062-A198-D58E7B52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69F-D4D4-4AFA-A3D9-68BCAFC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D31-3F90-4D17-A8BE-5DF7D8D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5F9-D31B-4641-B4B2-E282EF3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0B57-9C62-4038-AD8B-2A5E8F89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2130480"/>
            <a:ext cx="73864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Descobre a Mensagem  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2060"/>
                </a:solidFill>
                <a:latin typeface="Book Antiqua"/>
              </a:rPr>
              <a:t>- Os barbeiros existem, </a:t>
            </a:r>
            <a:br>
              <a:rPr sz="3200"/>
            </a:br>
            <a:r>
              <a:rPr b="1" i="1" lang="es-ES" sz="3200" spc="-1" strike="noStrike">
                <a:solidFill>
                  <a:srgbClr val="002060"/>
                </a:solidFill>
                <a:latin typeface="Book Antiqua"/>
              </a:rPr>
              <a:t>essas perssoas é que não veem a m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xacto...! disse o cliente. Esse é o po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Deus existe, o que se passa é que as pessoas não vão até Ele, não O procura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por isso há tanta dor e misé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 o barbeiro calou-se pensand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Se tu crês que Deus existe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nvia esta mensag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as se para ti não exis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ignora-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nvia às pessoas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são algo para ti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 diz-lhe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Procura primeiro a De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 as demais coi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te serão dadas por além'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 repete com o coraç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sta oração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'Senhor, amo-te e necessito de t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stás no meu co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bençoa a minha famíl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inha casa, minhas finanç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eus amigos e a minha noiva/o,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m nome de Jesú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men.!'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ictures_of_jes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Não ignores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que DEUS te abençoe sempre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briste isto porque di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 Antiqua"/>
              </a:rPr>
              <a:t>‘</a:t>
            </a:r>
            <a:r>
              <a:rPr b="1" lang="es-ES" sz="4000" spc="-1" strike="noStrike">
                <a:solidFill>
                  <a:srgbClr val="ff0000"/>
                </a:solidFill>
                <a:latin typeface="Book Antiqua"/>
              </a:rPr>
              <a:t>99 formas para beijar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mas não abreria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se tivesse dito</a:t>
            </a:r>
            <a:br>
              <a:rPr sz="4000"/>
            </a:br>
            <a:br>
              <a:rPr sz="4000"/>
            </a:br>
            <a:r>
              <a:rPr b="1" i="1" lang="es-ES" sz="4000" spc="-1" strike="noStrike">
                <a:solidFill>
                  <a:srgbClr val="002060"/>
                </a:solidFill>
                <a:latin typeface="Book Antiqua"/>
              </a:rPr>
              <a:t> ‘Eu amo Deus</a:t>
            </a:r>
            <a:br>
              <a:rPr sz="4000"/>
            </a:br>
            <a:r>
              <a:rPr b="1" i="1" lang="es-ES" sz="4000" spc="-1" strike="noStrike">
                <a:solidFill>
                  <a:srgbClr val="002060"/>
                </a:solidFill>
                <a:latin typeface="Book Antiqua"/>
              </a:rPr>
              <a:t>não importa o que aconteça…' </a:t>
            </a: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Manda isto em 7 minutos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com 99 formas para beijar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Se é verdade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amas DEU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Um milagre vai-te aconte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Hoje à noite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PD. Não ignores porque 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Deus está te observando sempre.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 se acreditas Nele então envia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 todas as pesso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Para que comec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 crer em D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desde agora, por fav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Um homem foi a uma barbe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cortar o seu cabelo,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E iniciou um diálog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com a pessoa que o atende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apidamente começaram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falar sobre tema de Deus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ade%20Center%2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O barbeiro diz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Eu não acredito que Deus exista, como você disse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¿</a:t>
            </a: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Porque diz você isso?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pregunta o client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É muito fácil, ao sair para a rua nos apercebemos </a:t>
            </a:r>
            <a:br>
              <a:rPr sz="2800"/>
            </a:b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de que Deus não exi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O...diga-me, por acaso se Deus existis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¿haveria tantos doentes?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¿Haveria meninos abandonad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Se Deus existisse, não haveria sofr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Book Antiqua"/>
              </a:rPr>
              <a:t>nem tanta dor para a humanidade. 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obreza-hn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2060"/>
                </a:solidFill>
                <a:latin typeface="Book Antiqua"/>
              </a:rPr>
              <a:t>Não posso pensar que exista um De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2060"/>
                </a:solidFill>
                <a:latin typeface="Book Antiqua"/>
              </a:rPr>
              <a:t>que permita todas estas coisas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O cliente calou-se pensand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e não quis responder para evitar um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Book Antiqua"/>
              </a:rPr>
              <a:t>discussão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Ao terminar o corte de cab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o cliente saíu do estabelecimento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viu um homem com a barb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e o cabelo compri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552626072_48060e066d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ntrou novamente na barb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 disse ao barbei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Sabe uma coi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Os barbeiros não exi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2060"/>
                </a:solidFill>
                <a:latin typeface="Book Antiqua"/>
              </a:rPr>
              <a:t>¿Como? Se aqui estou e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Não...! diz o cliente, não exist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se existissem não haveria pessoa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 com o pelos e barba tão gran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como a de esse homem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23:05:18Z</dcterms:created>
  <dc:creator>000000</dc:creator>
  <dc:description/>
  <dc:language>en-US</dc:language>
  <cp:lastModifiedBy>Manuel Gomes</cp:lastModifiedBy>
  <dcterms:modified xsi:type="dcterms:W3CDTF">2009-05-10T01:18:49Z</dcterms:modified>
  <cp:revision>18</cp:revision>
  <dc:subject/>
  <dc:title>Descubre el Mensaje</dc:title>
</cp:coreProperties>
</file>