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D2D-925F-4287-8C88-F2EC4C4B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3CA-3E29-4353-811A-11AA2436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750-7A6B-4199-B45D-9A3714D9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C28-E87A-4057-88E0-FF1A016D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A40-EDFF-41DE-847F-E3B699E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001-5609-4A98-8CD7-BE86A26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D23-1585-4801-9055-C6F1F974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361-BA45-493C-88EB-F4BB530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5BE-3AD9-4218-8A87-86A62600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09E-B917-48B1-BA10-67337EE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A33-8ED9-452D-A909-9E91655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CA2-D607-44AF-91A9-CF0EA7E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722C-0C5D-4D47-9F9D-D57594B5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3040" y="2060640"/>
            <a:ext cx="8181720" cy="2562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o não s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saltado eletronicam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627280" y="3213000"/>
            <a:ext cx="151308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5661000"/>
            <a:ext cx="24480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lguém supostamente lhe enviou um car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760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a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941720"/>
            <a:ext cx="381636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 2 -  Ao abrir o email, ele lhe orienta a clicar no 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ser redirecionado à página do site de cartões. Neste caso  “o provedor mascarado” é o Ter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3428640"/>
            <a:ext cx="9352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229360"/>
            <a:ext cx="3024360" cy="1191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em que os 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hacker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ascaram até mesmo o nome do e-mail do reme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907640" y="2133360"/>
            <a:ext cx="431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708280"/>
            <a:ext cx="223200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link aponta para o provedor Terra, ma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udo não passa de uma másc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95280" y="299736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6216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a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5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8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80360" y="1700280"/>
            <a:ext cx="1547640" cy="1739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que o endereço aonde o link lhe direcionou foi ou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492000" y="980640"/>
            <a:ext cx="4032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88360" y="3860640"/>
            <a:ext cx="1763640" cy="2288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do nesta página é mascarado (a barra com o logotipo do terra, os anúncios, et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826920" y="1267920"/>
            <a:ext cx="66247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5229360"/>
            <a:ext cx="2735280" cy="824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 clicar no botão acima em vez de aparecer o cartão, pede para ser executada uma instalação. Observe as instruções abaixo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85080" cy="3843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403280" y="33336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te muita atenção nesta hora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5661000"/>
            <a:ext cx="2808360" cy="33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 que não é do Te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87280" y="3213000"/>
            <a:ext cx="288000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5157720"/>
            <a:ext cx="4608360" cy="1465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e tipo de arquivo é um espião. Quando você tentar logar em qualquer programa que lhe peça senha, ele lhe remeterá automaticamente à pessoa  que lhe armou esta arapu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148360" y="2708280"/>
            <a:ext cx="2519280" cy="24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84360" y="3206880"/>
            <a:ext cx="4057560" cy="368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assem este e-mail a seus ami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37:34Z</dcterms:created>
  <dc:creator>Aplicativos/Arquivos</dc:creator>
  <dc:description/>
  <dc:language>en-US</dc:language>
  <cp:lastModifiedBy>claudiojose</cp:lastModifiedBy>
  <dcterms:modified xsi:type="dcterms:W3CDTF">2006-02-16T19:41:44Z</dcterms:modified>
  <cp:revision>11</cp:revision>
  <dc:subject/>
  <dc:title>Co</dc:title>
</cp:coreProperties>
</file>