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D2F-7C96-4F04-8F3E-5046A623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897-9C14-4D32-AF20-CBD26A1B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7E5-5558-4E84-A56B-5626A44F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7AD-08D4-4EAA-8217-186DAA6A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D63-1030-41D6-9607-A412ED31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8BA-E211-4F24-9C64-84BE5553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D1D-4CE3-4D2B-90D4-C0AD04A1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3F2-0911-49CF-9AE9-7195449C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6A3-11E5-401E-A3EA-7959D282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390-8DC7-469C-B284-76059ED4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D38-E4F3-4760-A628-98C760F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B8A-56E2-4016-B13C-7A621EC0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541C-8779-4D70-8308-50C658DC8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3040" y="2060640"/>
            <a:ext cx="8181720" cy="2562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mo não s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ssaltado eletronicame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627280" y="3213000"/>
            <a:ext cx="151308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5661000"/>
            <a:ext cx="244800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lguém supostamente lhe enviou um cart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8760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a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941720"/>
            <a:ext cx="381636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o 2 -  Ao abrir o email, ele lhe orienta a clicar no 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ser redirecionado à página do site de cartões. Neste caso  “o provedor mascarado” é o Ter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3428640"/>
            <a:ext cx="93528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5229360"/>
            <a:ext cx="3024360" cy="11912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ervem que os 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hacker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ascaram até mesmo o nome do e-mail do reme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1907640" y="2133360"/>
            <a:ext cx="4319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2708280"/>
            <a:ext cx="223200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link aponta para o provedor Terra, ma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udo não passa de uma másc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95280" y="2997360"/>
            <a:ext cx="252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46216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a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50"/>
                            </p:stCondLst>
                            <p:childTnLst>
                              <p:par>
                                <p:cTn id="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78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80360" y="1700280"/>
            <a:ext cx="1547640" cy="17398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que o endereço aonde o link lhe direcionou foi ou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492000" y="980640"/>
            <a:ext cx="4032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88360" y="3860640"/>
            <a:ext cx="1763640" cy="2288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do nesta página é mascarado (a barra com o logotipo do terra, os anúncios, etc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826920" y="1267920"/>
            <a:ext cx="662472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5229360"/>
            <a:ext cx="2735280" cy="824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 clicar no botão acima em vez de aparecer o cartão, pede para ser executada uma instalação. Observe as instruções abaixo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185080" cy="3843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1403280" y="333360"/>
            <a:ext cx="638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ste muita atenção nesta hora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5661000"/>
            <a:ext cx="2808360" cy="33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 que não é do Te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187280" y="3213000"/>
            <a:ext cx="288000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5157720"/>
            <a:ext cx="4608360" cy="1465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e tipo de arquivo é um espião. Quando você tentar logar em qualquer programa que lhe peça senha, ele lhe remeterá automaticamente à pessoa  que lhe armou esta arapu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148360" y="2708280"/>
            <a:ext cx="2519280" cy="24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84360" y="3206880"/>
            <a:ext cx="4057560" cy="368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assem este e-mail a seus ami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37:34Z</dcterms:created>
  <dc:creator>Aplicativos/Arquivos</dc:creator>
  <dc:description/>
  <dc:language>en-US</dc:language>
  <cp:lastModifiedBy>claudiojose</cp:lastModifiedBy>
  <dcterms:modified xsi:type="dcterms:W3CDTF">2006-02-16T19:41:44Z</dcterms:modified>
  <cp:revision>11</cp:revision>
  <dc:subject/>
  <dc:title>Co</dc:title>
</cp:coreProperties>
</file>