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hino_%C3%A0_bandeira.wav" ContentType="audio/x-wav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DDFD-F291-45BC-84F4-954A64EB3AB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228D-836A-424B-9585-94D9D5EE69D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F9F6-3803-4432-ACA5-88A52B75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EEF4-AE0F-40DA-8AD6-4E1862D6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5EA9-40FD-45B2-98EC-03D244C3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C9B8-DCAC-4228-8E17-3211DFB8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85F9-F254-4843-BE28-DB00463F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0E23-7691-46B7-9BBB-656535A1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1FC6-91EE-4AA7-9931-0CDBE9B7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CF89-0EE9-462D-A46E-1080B3C1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9A9C-29AF-43C0-819D-7E4A7FD6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C7A1-4CE8-4ACF-BF65-37BA98CD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0E5F-EAAA-4D19-B93F-11D8D390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6E30-506D-4A00-B638-C38FB150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8A35-C799-4230-B4FF-14639DC83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hino_&#224;_bandeir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810880" y="6477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CaixaDeTexto 3"/>
          <p:cNvSpPr/>
          <p:nvPr/>
        </p:nvSpPr>
        <p:spPr>
          <a:xfrm>
            <a:off x="500040" y="321480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b0f0"/>
                </a:solidFill>
                <a:uFillTx/>
                <a:latin typeface="Arial Narrow"/>
              </a:rPr>
              <a:t>PARA O CONHECIMENTO DE TODOS OS BRASILEI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wipe dir="r"/>
    <p:sndAc>
      <p:stSnd>
        <p:snd r:embed="rId1" name="hino_%C3%A0_bandei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CaixaDeTexto 5"/>
          <p:cNvSpPr/>
          <p:nvPr/>
        </p:nvSpPr>
        <p:spPr>
          <a:xfrm>
            <a:off x="1143000" y="2071800"/>
            <a:ext cx="7215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Não representa isso a promiscuidade que vai degradando o sistema político e jurídico? Será que não temos mecanismos para colocar na cadeia quem conduz dólar na cueca, em mala, mente, suborna, usa o Poder em benefício próprio, declara que falsificou a Constituição, compra consciências etc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CaixaDeTexto 3"/>
          <p:cNvSpPr/>
          <p:nvPr/>
        </p:nvSpPr>
        <p:spPr>
          <a:xfrm>
            <a:off x="1000080" y="1214280"/>
            <a:ext cx="7643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Estamos cheios de processos que se arrastam nos meandros das filigranas jurídicas e, de repente, são presos desembargadores, procuradores, bicheiros e outras autoridades envolvidas nos porões da criminalidade. Estamos vivendo a época dos AL-CAPONES ou, talvez, pior, e parece-nos que isso não é mais do que a conseqüência da impunidad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aixaDeTexto 3"/>
          <p:cNvSpPr/>
          <p:nvPr/>
        </p:nvSpPr>
        <p:spPr>
          <a:xfrm>
            <a:off x="1357200" y="1357200"/>
            <a:ext cx="7072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Será que Vossas Excelências não sentem no pulsar do coração, o que o povo sente? O povo esclarecido experimenta nojo, náusea, enjôo, repugnância e asco com esses criminosos enquanto Vossas Excelências, muitas vezes, permitem que eles estejam freqüentando o Congresso, os Palácios, as reuniões soci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CaixaDeTexto 3"/>
          <p:cNvSpPr/>
          <p:nvPr/>
        </p:nvSpPr>
        <p:spPr>
          <a:xfrm>
            <a:off x="1000080" y="1500120"/>
            <a:ext cx="7215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Chegou-se ao ponto de degradação social em que, muitas vezes, aqueles que não souberam honrar seus mandatos ou posições conquistadas merecem elogios de autoridades, que fingem esquecer um passado que degradou a sociedade brasileira, para se manterem a qualquer custo no POD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CaixaDeTexto 3"/>
          <p:cNvSpPr/>
          <p:nvPr/>
        </p:nvSpPr>
        <p:spPr>
          <a:xfrm>
            <a:off x="928800" y="2071800"/>
            <a:ext cx="7286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Será que Vossas Excelências não sabem que gostamos de modismo? Agora vivemos na época dos “apagãos”. “Apagão” elétrico, “apagão” aéreo e não se fala no mais grave deles que são os “</a:t>
            </a:r>
            <a:r>
              <a:rPr b="1" i="1" lang="pt-BR" sz="3200" spc="-1" strike="noStrike">
                <a:solidFill>
                  <a:srgbClr val="ffff00"/>
                </a:solidFill>
                <a:latin typeface="Times New Roman"/>
              </a:rPr>
              <a:t>APAGÃOS” ético e moral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CaixaDeTexto 3"/>
          <p:cNvSpPr/>
          <p:nvPr/>
        </p:nvSpPr>
        <p:spPr>
          <a:xfrm>
            <a:off x="857160" y="1857240"/>
            <a:ext cx="742968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Vossas Excelências estão esquecidos que o fundamental do homem público é o exemplo? O melhor exemplo é pregar a VERDADE, SER ÉTICO E SER UM EXEMPLO de DIGNIDADE.. Não se pode esquecer que 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pt-BR" sz="2800" spc="-1" strike="noStrike">
                <a:solidFill>
                  <a:srgbClr val="ffff00"/>
                </a:solidFill>
                <a:latin typeface="Times New Roman"/>
              </a:rPr>
              <a:t>discursos sobre ética nada valem se a prática é outra”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pt-BR" sz="2800" spc="-1" strike="noStrike">
                <a:solidFill>
                  <a:srgbClr val="ffff00"/>
                </a:solidFill>
                <a:latin typeface="Times New Roman"/>
              </a:rPr>
              <a:t>A FALTA DA PRÁTICA DE ÉT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i="1" lang="pt-BR" sz="2800" spc="-1" strike="noStrike">
                <a:solidFill>
                  <a:srgbClr val="ffff00"/>
                </a:solidFill>
                <a:latin typeface="Times New Roman"/>
              </a:rPr>
              <a:t>ESTÁ DEGRADANDO O PAÍS.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CaixaDeTexto 3"/>
          <p:cNvSpPr/>
          <p:nvPr/>
        </p:nvSpPr>
        <p:spPr>
          <a:xfrm>
            <a:off x="1357200" y="1643040"/>
            <a:ext cx="69296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          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Será que Vossas Excelências não sabem que nossa juventude se degrada no álcool e nas outras drogas? Será que não sabem que ela está sem esperança no futuro? Será que não sabem que “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a juventude é algo que se conquista. E sem um ideal, a conquista da juventude é impossível”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aixaDeTexto 3"/>
          <p:cNvSpPr/>
          <p:nvPr/>
        </p:nvSpPr>
        <p:spPr>
          <a:xfrm>
            <a:off x="1357200" y="1357200"/>
            <a:ext cx="692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Qual é O IDEAL que Vossas Excelências estão transmitindo aos jovens do nosso País? Qual o exemplo que estão mostrando? Temos que ser sinceros. O que promovem nos indica a prática da degradação moral, onde o fácil, o apadrinhamento e o golpe servem de exempl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CaixaDeTexto 3"/>
          <p:cNvSpPr/>
          <p:nvPr/>
        </p:nvSpPr>
        <p:spPr>
          <a:xfrm>
            <a:off x="1357200" y="1428840"/>
            <a:ext cx="7000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Chegou-se ao fim de uma linha, pois somos governados, em princípio, por MEDÍOCRES. Num opúsculo, escrito aos jovens pelo autor dessas linhas, encontramos: O medíocre é capaz de não se indignar ante uma ofensa, pois não tem honra. Bóvio pintou o HOMEM MEDÍOCRE em maravilhosas letras incandescent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CaixaDeTexto 3"/>
          <p:cNvSpPr/>
          <p:nvPr/>
        </p:nvSpPr>
        <p:spPr>
          <a:xfrm>
            <a:off x="857160" y="1643040"/>
            <a:ext cx="7500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pt-BR" sz="2800" spc="-1" strike="noStrike">
                <a:solidFill>
                  <a:srgbClr val="ffff00"/>
                </a:solidFill>
                <a:latin typeface="Times New Roman"/>
              </a:rPr>
              <a:t>é dócil, é acomodado a todas as pequenas oportunidades, adaptadíssimo a todas as temperaturas de um dia variável para todos os negócios”.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Nós, autor dessas linhas, afirmamos que O MEDÍOCRE é escorregadiço, sem forma, sem idéias, sem caráter, se ajusta de acordo com suas conveniências e não tem o mínimo de personalidade. Afirmar é fácil, mas é preciso que se mostre o que aconte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aixaDeTexto 2"/>
          <p:cNvSpPr/>
          <p:nvPr/>
        </p:nvSpPr>
        <p:spPr>
          <a:xfrm>
            <a:off x="285840" y="2071800"/>
            <a:ext cx="850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2d050"/>
                </a:solidFill>
                <a:latin typeface="Times New Roman"/>
              </a:rPr>
              <a:t>Carta do General TORRES DE ME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Times New Roman"/>
              </a:rPr>
              <a:t>AOS RESPONSÁVEIS PE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Times New Roman"/>
              </a:rPr>
              <a:t>REPÚBLICA FEDERATIVA DO BRAS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CaixaDeTexto 3"/>
          <p:cNvSpPr/>
          <p:nvPr/>
        </p:nvSpPr>
        <p:spPr>
          <a:xfrm>
            <a:off x="1428840" y="1357200"/>
            <a:ext cx="6929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Será que mudanças de Partido, políticos que da oposição passa a ser governo num piscar de olhos, ladrões chamados ontem, santos hoje, a luta para encobrir apuração da verdade seja qual for a verdade nos parecem indícios graves da presença da mediocridade nos meandros do PODER.  Poderia até parar por aqui, mas há dois pontos que penso serem fundamentais: As publicações das revistas semanais e a nossa Receita fed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CaixaDeTexto 4"/>
          <p:cNvSpPr/>
          <p:nvPr/>
        </p:nvSpPr>
        <p:spPr>
          <a:xfrm>
            <a:off x="1285920" y="1643040"/>
            <a:ext cx="7072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         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  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As revistas semanais, com o sistema investigativo, publicam reportagens que deveriam abalar toda a sociedade brasileira. Ou as publicações são mentirosas e as Revistas deveriam ser processadas pelos que estão envolvidos ou são verdades ditas que deveriam ser apuradas pelos órgãos oficiais do governo. O comum é nada acontecer e vamos vivendo a vida de uma sociedade que aceita o fá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aixaDeTexto 1"/>
          <p:cNvSpPr/>
          <p:nvPr/>
        </p:nvSpPr>
        <p:spPr>
          <a:xfrm>
            <a:off x="785880" y="2071800"/>
            <a:ext cx="7858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Assim, marchou-se para a destruição de ROMA, para as sangrentas revoluções francesa, inglesa e russa e outras que trouxeram a morte de milhões de inocentes.   Tudo continua no melhor dos mundos. Até quando precisamos, urgentemente, de um CÍCERO para repetir: “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OS HOMENS SEM LEI SÃO ANIMAIS E, SEM ELA, AS NAÇÕES CAEM NA ANARQUIA”.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CaixaDeTexto 1"/>
          <p:cNvSpPr/>
          <p:nvPr/>
        </p:nvSpPr>
        <p:spPr>
          <a:xfrm>
            <a:off x="714240" y="1857240"/>
            <a:ext cx="77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Quanto à nossa RECEITA FEDERAL? Não podemos esquecer que ela é o grande trunfo que podemos ter para restabelecer a VERDADE DA LEI. Ela poderá ser a chave que descobrirá as grandes fortunas que aparecem do nada. O Brasil aguarda que a JUSTIÇA seja fei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CaixaDeTexto 1"/>
          <p:cNvSpPr/>
          <p:nvPr/>
        </p:nvSpPr>
        <p:spPr>
          <a:xfrm>
            <a:off x="928800" y="1357200"/>
            <a:ext cx="7500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Não queremos a perseguição e sim o cumprimento da lei. Todo cidadão brasileiro pode ficar rico, mas não pode passar por cima da sociedade e da lei para assim chegar ao dinheiro podre e as vezes ao Poder. Como pode o cidadão que foi ou é funcionário público e político se tornar da noite para o dia dono de grande fortuna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CaixaDeTexto 1"/>
          <p:cNvSpPr/>
          <p:nvPr/>
        </p:nvSpPr>
        <p:spPr>
          <a:xfrm>
            <a:off x="285840" y="1643040"/>
            <a:ext cx="8715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Chegou a hora de parar. Iremos copiar dois pensamentos que expressam todo um sentimento da Nação brasileira. Palavras de CÉVOLA, o canho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quando uma nação se torna corrupta e cínica, preferindo o governo dos homens e não o governo da lei, é que começou a sua destruição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aixaDeTexto 1"/>
          <p:cNvSpPr/>
          <p:nvPr/>
        </p:nvSpPr>
        <p:spPr>
          <a:xfrm>
            <a:off x="857160" y="2143080"/>
            <a:ext cx="7858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VAMOS DESTRUIR O BRASIL ou escrever em letras de forma o que os defensores das TERMÓPILAS inscreve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Times New Roman"/>
              </a:rPr>
              <a:t>      “</a:t>
            </a:r>
            <a:r>
              <a:rPr b="1" i="1" lang="pt-BR" sz="3200" spc="-1" strike="noStrike">
                <a:solidFill>
                  <a:srgbClr val="ffff00"/>
                </a:solidFill>
                <a:latin typeface="Times New Roman"/>
              </a:rPr>
              <a:t>à Esparta que aqui morremo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i="1" lang="pt-BR" sz="3200" spc="-1" strike="noStrike">
                <a:solidFill>
                  <a:srgbClr val="ffff00"/>
                </a:solidFill>
                <a:latin typeface="Times New Roman"/>
              </a:rPr>
              <a:t>em obediência às suas santas leis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.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aixaDeTexto 1"/>
          <p:cNvSpPr/>
          <p:nvPr/>
        </p:nvSpPr>
        <p:spPr>
          <a:xfrm>
            <a:off x="357120" y="857160"/>
            <a:ext cx="878688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LEIS AS TEMOS. PRECISAMOS APLICÁ-LAS COM RIG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00"/>
                </a:solidFill>
                <a:latin typeface="Arial Narrow"/>
              </a:rPr>
              <a:t>         </a:t>
            </a:r>
            <a:r>
              <a:rPr b="0" i="1" lang="pt-BR" sz="2000" spc="-1" strike="noStrike">
                <a:solidFill>
                  <a:srgbClr val="ffff00"/>
                </a:solidFill>
                <a:latin typeface="Arial Narrow"/>
              </a:rPr>
              <a:t>NÃO ESQUEÇAM DO QUE AFIRMOU O GRANDE AUGUST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       “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A LIBERDADE SÓ É UMA COISA BO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QUANDO SE OBEDECE À LEI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 u="sng">
                <a:solidFill>
                  <a:srgbClr val="ffff00"/>
                </a:solidFill>
                <a:uFillTx/>
                <a:latin typeface="Times New Roman"/>
              </a:rPr>
              <a:t>NÃO QUEIRAM PERDER A SANTA LIBERDA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Fortaleza, 16 Abr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Gen Div Ref FRANCISCO BATISTA TORRES DE M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i="1" lang="pt-B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Coordenador Geral do Grupo Guararapes. 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777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400"/>
            </a:b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 </a:t>
            </a:r>
            <a:br>
              <a:rPr sz="4400"/>
            </a:b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 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 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0" lang="pt-BR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CaixaDeTexto 6"/>
          <p:cNvSpPr/>
          <p:nvPr/>
        </p:nvSpPr>
        <p:spPr>
          <a:xfrm>
            <a:off x="1428840" y="3571920"/>
            <a:ext cx="6215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2d050"/>
                </a:solidFill>
                <a:latin typeface="Arial Narrow"/>
              </a:rPr>
              <a:t>Texto e Imagens via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2d050"/>
                </a:solidFill>
                <a:latin typeface="Arial Narrow"/>
              </a:rPr>
              <a:t>Formatado em Power Point por AGAVEH  H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2d050"/>
                </a:solidFill>
                <a:latin typeface="Arial Narrow"/>
              </a:rPr>
              <a:t>Fundo Musical: HINO Á BANDEIRA NA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10880" y="6477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52" name="Imagem 4" descr="brazilian_flag.gif"/>
          <p:cNvPicPr/>
          <p:nvPr/>
        </p:nvPicPr>
        <p:blipFill>
          <a:blip r:embed="rId1"/>
          <a:stretch/>
        </p:blipFill>
        <p:spPr>
          <a:xfrm>
            <a:off x="2143080" y="1433520"/>
            <a:ext cx="4929120" cy="3567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CaixaDeTexto 5"/>
          <p:cNvSpPr/>
          <p:nvPr/>
        </p:nvSpPr>
        <p:spPr>
          <a:xfrm>
            <a:off x="857160" y="1928880"/>
            <a:ext cx="76438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Aos Excelentíssimos Senhor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Presidente da República, Senadores, Deputados Federais e Estaduais, Vereadores, Ministros do STF e dos demais Tribunais Superiores, Ministros de Estado, Juízes, Procuradores e demais autor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CaixaDeTexto 2"/>
          <p:cNvSpPr/>
          <p:nvPr/>
        </p:nvSpPr>
        <p:spPr>
          <a:xfrm>
            <a:off x="2000160" y="6143760"/>
            <a:ext cx="514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b0f0"/>
                </a:solidFill>
                <a:latin typeface="Arial Narrow"/>
              </a:rPr>
              <a:t>PARA SUA  COMODIDADE NA LEITURA  </a:t>
            </a:r>
            <a:r>
              <a:rPr b="1" lang="pt-BR" sz="1600" spc="-1" strike="noStrike">
                <a:solidFill>
                  <a:srgbClr val="00b0f0"/>
                </a:solidFill>
                <a:latin typeface="Wingdings"/>
                <a:ea typeface="Wingdings"/>
              </a:rPr>
              <a:t></a:t>
            </a:r>
            <a:r>
              <a:rPr b="1" lang="pt-BR" sz="1600" spc="-1" strike="noStrike">
                <a:solidFill>
                  <a:srgbClr val="00b0f0"/>
                </a:solidFill>
                <a:latin typeface="Arial Narrow"/>
              </a:rPr>
              <a:t> FAVOR CLIC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CaixaDeTexto 3"/>
          <p:cNvSpPr/>
          <p:nvPr/>
        </p:nvSpPr>
        <p:spPr>
          <a:xfrm>
            <a:off x="642960" y="18572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           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Mais um Dom Quixote aparece na história do Brasil. Neste País, todo aquele que sonha, por um Brasil mais ou menos sério, é considerado, no mínimo, um bobo da corte, quando não o alcunham de outros termos mais vulgares. Tal é a degradação existente no Estado Brasileiro que a busca do conhecimento da VERDADE passa por ser considerada um ato de hipocrisia por quem deseja conhecê-la. Vivemos a inversão de valores e tudo passa a ser permissí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aixaDeTexto 3"/>
          <p:cNvSpPr/>
          <p:nvPr/>
        </p:nvSpPr>
        <p:spPr>
          <a:xfrm>
            <a:off x="1285920" y="1571760"/>
            <a:ext cx="7215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          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Esse Dom Quixote escreve para todos. Não podemos mais concorrer com Vossas Excelências, pela idade. Tenho 82 anos e correndo para 83. Podem ficar tranqüilos.  Não estou interessado em direita, esquerda ou centro, nem em qual partido Vossas Excelências se encontram ou no cargo. Estou pensando em ajudar a salvar a Nação que se encontra ameaçada de uma grande ruptura social. Cada um de Vossas Excelências é responsável pelo que poderá acontecer no futuro próx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aixaDeTexto 5"/>
          <p:cNvSpPr/>
          <p:nvPr/>
        </p:nvSpPr>
        <p:spPr>
          <a:xfrm>
            <a:off x="928800" y="1643040"/>
            <a:ext cx="7429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O que estamos vivendo? Uma tragédia. Somos todos responsáveis. A sociedade por calar, e Vossas Excelências, em maioria nos diversos campos de atuação, por ficarem silentes, aceitando o crime ou sendo conivente com o crime. No livro A MARCHA DA INSENSATEZ, de Bárbara W. Tuchman, onde se aborda o excesso do poder na base da insensatez política, pode-se vislumbrar o nosso destino, pois todos os casos analisados no livro levam aos grandes desastres da humanida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214280" y="1376640"/>
            <a:ext cx="7215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H</a:t>
            </a:r>
            <a:r>
              <a:rPr b="0" lang="pt-BR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á</a:t>
            </a:r>
            <a:r>
              <a:rPr b="0" lang="pt-BR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crime maior de INSENSATEZ do que a INQUISI</a:t>
            </a:r>
            <a:r>
              <a:rPr b="0" lang="pt-BR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Ç</a:t>
            </a:r>
            <a:r>
              <a:rPr b="0" lang="pt-BR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ÃO e o PAPA vestindo-se de general para manter o PODER, a todo custo? Não </a:t>
            </a:r>
            <a:r>
              <a:rPr b="0" lang="pt-BR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é</a:t>
            </a:r>
            <a:r>
              <a:rPr b="0" lang="pt-BR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o que estamos vivendo no nosso Pa</a:t>
            </a:r>
            <a:r>
              <a:rPr b="0" lang="pt-BR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í</a:t>
            </a:r>
            <a:r>
              <a:rPr b="0" lang="pt-BR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? Tudo ao PODER, VENDENDO-SE AT</a:t>
            </a:r>
            <a:r>
              <a:rPr b="0" lang="pt-BR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É</a:t>
            </a:r>
            <a:r>
              <a:rPr b="0" lang="pt-BR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A HONRA, </a:t>
            </a:r>
            <a:r>
              <a:rPr b="0" lang="pt-BR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é</a:t>
            </a:r>
            <a:r>
              <a:rPr b="0" lang="pt-BR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o que se presencia no Brasil de hoje. Vamos aos f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CaixaDeTexto 3"/>
          <p:cNvSpPr/>
          <p:nvPr/>
        </p:nvSpPr>
        <p:spPr>
          <a:xfrm>
            <a:off x="1857240" y="1928880"/>
            <a:ext cx="6072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          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Será que os títulos de Vossas Excelências, Meritíssimos, Digníssimos, que os colocam entre os mais altos, acima de tudo, ou no vulgar, habitam o andar de cima, podem conviver com pessoas que praticam o crime, até alguns réus confessos? Ou crime só para os humildes da vi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16:41:39Z</dcterms:created>
  <dc:creator/>
  <dc:description/>
  <dc:language>en-US</dc:language>
  <cp:lastModifiedBy>Helio Victor</cp:lastModifiedBy>
  <dcterms:modified xsi:type="dcterms:W3CDTF">2007-04-25T21:34:32Z</dcterms:modified>
  <cp:revision>87</cp:revision>
  <dc:subject/>
  <dc:title>Pérolas_Nacionais</dc:title>
</cp:coreProperties>
</file>