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!Enya_-_Heaven.wav" ContentType="audio/x-wav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924-9BEE-44A8-999E-8FB08B27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686-E552-43E8-8695-6E79C63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C6D-AD46-4A36-8366-D672A4F6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CF4-2C65-42A1-B356-3AEE18A2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E82-556B-4B1D-8FAD-0CEBCA9C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C5E-7720-4420-AF8D-D395996A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737-2CD2-491F-BEFE-D5E829B5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131-FFFA-4965-B127-4EAEFD63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0DF-7E1B-4379-A290-BEFAFAAA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B29-D49C-49D8-8399-1AF8D69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FBA-4783-4E4A-9F46-CCE0B59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E8D-0A1B-43DD-8114-B92C064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532F-B6DF-49EC-98CC-D7D12F48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audio" Target="../media/!Enya_-_Heave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0366800">
            <a:off x="6011280" y="4652640"/>
            <a:ext cx="1368360" cy="1440000"/>
          </a:xfrm>
          <a:custGeom>
            <a:avLst/>
            <a:gdLst>
              <a:gd name="textAreaLeft" fmla="*/ 312120 w 1368360"/>
              <a:gd name="textAreaRight" fmla="*/ 1056240 w 136836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981000"/>
            <a:ext cx="1152720" cy="1008000"/>
          </a:xfrm>
          <a:custGeom>
            <a:avLst/>
            <a:gdLst>
              <a:gd name="textAreaLeft" fmla="*/ 263160 w 1152720"/>
              <a:gd name="textAreaRight" fmla="*/ 889560 w 115272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92720" y="256536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276720" y="47628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851280" y="4724280"/>
            <a:ext cx="1666800" cy="132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26920" y="2133720"/>
            <a:ext cx="3889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Precisamos uns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dos outros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7" name="!Enya_-_Heav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2456400">
            <a:off x="4571640" y="12679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836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1197000"/>
            <a:ext cx="2951280" cy="450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a verdade... todos nós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recisamos uns dos outros,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u por exemplo preciso de você...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o seu carinho e da sua amizade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7 L 0.125 -0.16644 L 0.158 -0.04527 L 0.249 0 L 0.158 0.04527 L 0.125 0.16644 L 0.091 0.04527 L 0 0 Z">
                                      <p:cBhvr>
                                        <p:cTn id="144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720" y="907920"/>
            <a:ext cx="1584360" cy="158436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836640"/>
            <a:ext cx="3816360" cy="5184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907920"/>
            <a:ext cx="3743280" cy="557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ão se esqueça: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mizade é sempre quer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pessoa que ama ao seu lado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mizade não é ocasional, interessada ou pretensiosa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mizade é para ser constante</a:t>
            </a:r>
            <a:br>
              <a:rPr sz="2800"/>
            </a:br>
            <a:r>
              <a:rPr b="1" i="1" lang="en-US" sz="4000" spc="-1" strike="noStrike">
                <a:solidFill>
                  <a:srgbClr val="ffff00"/>
                </a:solidFill>
                <a:latin typeface="Monotype Corsiva"/>
              </a:rPr>
              <a:t>e para sempre</a:t>
            </a:r>
            <a:r>
              <a:rPr b="0" i="1" lang="en-US" sz="4000" spc="-1" strike="noStrike">
                <a:solidFill>
                  <a:srgbClr val="ffff00"/>
                </a:solidFill>
                <a:latin typeface="Monotype Corsiva"/>
              </a:rPr>
              <a:t>.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456400">
            <a:off x="4642920" y="220464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920" y="476280"/>
            <a:ext cx="3240360" cy="57592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268280"/>
            <a:ext cx="3097440" cy="46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do você ajuda alguém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 mais pequeno que seja,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cê está liberando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licidade para sua vid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27280" y="616572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73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620640"/>
            <a:ext cx="3311280" cy="568800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licidade impl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 ajuda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próximo...se doar.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 voc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ó quer rece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ão se iluda, pois</a:t>
            </a:r>
            <a:br>
              <a:rPr sz="2800"/>
            </a:b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a tal felicidade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nunca lhe bater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à port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2456400">
            <a:off x="4427280" y="227664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83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981000"/>
            <a:ext cx="3384720" cy="460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11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2924280"/>
            <a:ext cx="3024000" cy="18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Bom dia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456400">
            <a:off x="3131640" y="12679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89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456400">
            <a:off x="4355640" y="19159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836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981000"/>
            <a:ext cx="2449800" cy="478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via uma garotinha que gostav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passear pelos jardins,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do um dia vê uma borbolet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petada em um espinh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84720" y="692280"/>
            <a:ext cx="2016000" cy="216036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052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341360"/>
            <a:ext cx="2808360" cy="431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ito cuidadosamente ela a soltou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 a borboleta começou a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ar para longe. Mas...de repente, ela volta e lhe diz: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2456400">
            <a:off x="4211280" y="3573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981000"/>
            <a:ext cx="295272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125360"/>
            <a:ext cx="287964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Por sua bondade, vou conceder-lh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u maior desejo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garotinha pensou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 um momento e replicou: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ero ser feliz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00720" y="3357720"/>
            <a:ext cx="2017440" cy="2089080"/>
          </a:xfrm>
          <a:prstGeom prst="star5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907920"/>
            <a:ext cx="295308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907920"/>
            <a:ext cx="3095640" cy="478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borboleta inclinou-se até el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 sussurrou algo em seu ouvido e desapareceu subitamente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garota crescia e ningué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 terra era mais feliz do que e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456400">
            <a:off x="4500360" y="162864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765000"/>
            <a:ext cx="295272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765000"/>
            <a:ext cx="3240000" cy="54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mpre que alguém lhe perguntav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bre o segredo de sua felicidade,ela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nte sorria e respondia: 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oltei a borboleta e ela me fez ser feliz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2360" y="3500280"/>
            <a:ext cx="1368360" cy="208944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836640"/>
            <a:ext cx="2952720" cy="4968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268280"/>
            <a:ext cx="280836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do ela ficou bem velha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vizinhos temeram que o seu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gredo fabuloso pudess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rer com ela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2456400">
            <a:off x="4571640" y="213336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620640"/>
            <a:ext cx="3529080" cy="518472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1125360"/>
            <a:ext cx="3241800" cy="500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ga-nos, por favor, eles implorav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Diga-nos o que a fada disse .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gora a amável velhinh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mplesmente sorriu e disse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1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16360" y="1197000"/>
            <a:ext cx="1656000" cy="1944720"/>
          </a:xfrm>
          <a:prstGeom prst="flowChartMer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907920"/>
            <a:ext cx="2952720" cy="4969080"/>
          </a:xfrm>
          <a:prstGeom prst="flowChartAlternateProcess">
            <a:avLst/>
          </a:prstGeom>
          <a:solidFill>
            <a:srgbClr val="ffcc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2205000"/>
            <a:ext cx="18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413000"/>
            <a:ext cx="2592360" cy="418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- Ela me disse que todas as pessoas,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or mais seguras que 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arecem ser, precisavam de mim!"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828360" cy="685800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0:31:27Z</dcterms:created>
  <dc:creator>EXTRAIDO DO LIVRO *ANJO BOM *</dc:creator>
  <dc:description/>
  <cp:keywords>DOLY</cp:keywords>
  <dc:language>en-US</dc:language>
  <cp:lastModifiedBy>smtt-vera</cp:lastModifiedBy>
  <dcterms:modified xsi:type="dcterms:W3CDTF">2008-02-28T12:02:15Z</dcterms:modified>
  <cp:revision>6</cp:revision>
  <dc:subject>MENSAGEM</dc:subject>
  <dc:title>PPS / PRECISAMOS UNS DOS OUTROS</dc:title>
</cp:coreProperties>
</file>