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930-CBAA-4137-AEEF-40D60841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013-6399-4CE6-B778-D4D26BD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59F-2417-4EFF-8AA5-AF45AEFD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D0D-C327-4FAF-B4A1-08B727B3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014-7801-4C48-A21B-E693D71F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861-6952-41CF-8EFF-6709F1F7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12E-3EED-4224-AB3E-0E1ACF2E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06E-A305-4EFD-9C87-B1DBB7D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A6A-9A11-4606-B6F6-BFB5870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8D6-F89E-4FCB-9198-35A5BC5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7AB-5228-461C-8FE5-D2F03A7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34B-10CC-4102-A057-DDD9B03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F4FC-0953-4ECC-BA3B-96CC7009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590920"/>
            <a:ext cx="365760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QUEIJO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1752480" cy="668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562720" y="4800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620120" y="1143000"/>
            <a:ext cx="784080" cy="468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066680" y="1295280"/>
            <a:ext cx="762120" cy="461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8686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de origem suíça e copiado em todo o mundo, o queijo Gruyère é menor que o Emmenthal e os buracos são pequenos e em menor quantida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u sabor é mais forte do que o emmenthal e sua textura mais crem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fabricado com leite cru de vaca e cada peça tem de 20  a 45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natural é dura, seca e de cor castanho-ferrug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textura do queijo é ligeiramente granulosa, densa e compacta, ao mesmo tempo é flexível. Esta densidade é a responsável pela sua excelente capacidade de derreter ao gratinar e apresenta um sabor bem complexo: no primeiro momento, frutado, mas em seguida percebe-se um sabor de nozes. O queijo Gruyère tem coloração amarela, um pouco mais escura que a do Emmenth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054760"/>
            <a:ext cx="83059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Ótimo para gratinar, ralar e no preparo da fondue. Experimente incluí-lo em sanduíches quentes, misto ou bauru, em legumes gratinados, em sopas, como na sopa de cebola e molhos à base de queijo. Experimente preparar filé de frango recheado com fatias de gruyère e presunto, depois empanado e fr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181480" y="914400"/>
            <a:ext cx="11210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UYÈ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5120"/>
            <a:ext cx="838188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eito com leite cru ou pasteurizado, o queijo de cabra pode ser encontrado em diversas variedades de sabor e formato. Geralmente, são produzidos apenas com leite de cabra, porém pode haver mistura com leite de vaca e de ovelh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palavra chèvre (cabra em português) estampada na embalagem mostra que o queijo é feito somente com leite de cabra. Se for feito com 50% de leite de cabra e 50% de outro tipo de leite é chamado de mi-chèv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maioria dos queijos é produzida de maneira artesanal, principalmente na França, onde os queijos caseiros respondem pela maior parte da produçã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queijo de cabra pode ser classificado de acordo com a consistência da massa e o processo de cura, que irão determinar o seu aroma e o seu sa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gumas versões desse queijo apresentam ervas e especiarias em sua superfíc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925880"/>
            <a:ext cx="83818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consumido ao natural, mas fica ótimo amassado com um garfo e temperado com azeite de oliva e ervas frescas como salsinha, cebolinha e até hortelã ou com especiarias. Experimente com pimenta-do-reino moída, pimenta rosa ou cur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servido como aperitivo, em saladas, sanduíches ou entrar no preparo de massas e rechei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1752480" cy="1314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732200" y="914400"/>
            <a:ext cx="2125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IJO DE CABR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3276720"/>
            <a:ext cx="7696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ita com leite de vaca, é comercializada sem cur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 sabor mais acentuado e menos delicado do que a mussarela de búfala, sendo também menos ma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038480"/>
            <a:ext cx="77724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mussarela é usada em pizzas, sanduíches e par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gratin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029200" y="1981080"/>
            <a:ext cx="1432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SSAREL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057400"/>
            <a:ext cx="8153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o nome diz, é feita com leite de búfala e tem vários tamanhos e forma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comum ser vendida mergulhada no soro, quando apresenta textura elástica e é bem mais macia, mas pode ser encontrada de outras manei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 tratar-se de um queijo fresco deve ser consumido em poucos 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a mussarela de búfala é defumada recebe o nome de mussarela affumicata (em italian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343400"/>
            <a:ext cx="83059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vido ao elevado teor de água, a mussarela absorve facilmente os sabores de outros ingredientes e tempe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a textura macia rende pratos interess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 ser temperada com ervas e azeite de oliva e servida com pão, em saladas, como na clássica Caprese e em pizzas e para gratina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1143000"/>
            <a:ext cx="18129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SSARELA D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FAL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3429000"/>
            <a:ext cx="7391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na é o nome genérico dos queijos duros e granulosos que tiveram origem no Vale do Rio Pó, na época do Império Roma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a-se de um queijo frutado, de sabor excelente e que deve ser maturado por pelo menos 12 me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granas mais famosos (protegidos pela DO - denominação de origem) são o Grana Padano e o Parmiggiano Reggia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nto um como outro são conhecidos no Brasil como parmes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24280" y="1523880"/>
            <a:ext cx="17607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IJO GRA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2133720"/>
            <a:ext cx="7086600" cy="36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eniente de Piemonte, Lombardia, Emilia Romagna, Veneto e Trentino, o grana padano é um queijo duro, elaborado com leite cru de vaca e tem a forma de um tambor pesando de 24 kg a 40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resenta uma casca muito dura, de cor amarelo forte, de textura lisa, grossa e, normalmente, ole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Grana Padano deve ter um gosto fresco frutado e doce (lembrando abacax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verdadeiro Grana Padano e em boas condições de armazenamento deve ter um gosto suave e jamais ser amar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arte interna do queijo deve ter uma cor amarelo-claro e de textura 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81280" y="1295280"/>
            <a:ext cx="18511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A PAD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2971800"/>
            <a:ext cx="67816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corino é o nome genérico que se dá aos queijos feitos exclusivamente com queijo d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italiana, tem características específicas, dependendo da região e da forma como é produzido; os diferentes tamanhos dos grânulos, o tempo de maturação, o tipo de leite empregado e as misturas de le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a-se de um queijo com boa capacidade de conser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o Pecorino fresco, o semicurado, o doce e o pepato (com adição de pimen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 medida que o queijo fica mais curado, é usado para ral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variações mais famosas são o Pecorino Romano, o Sardo e o Toscan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257800" y="1676520"/>
            <a:ext cx="1211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2666880"/>
            <a:ext cx="7772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 região de Lazio e Sardenha, trata-se de um queijo duro produzido com leite cru de ovelha, tem a forma de um tambor pesando de 22  a 33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asca é dura e lisa e tem uma cor que varia com a idade do queijo, começando pelo palha, passando pelo amarelo-claro até o castanho-escu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extura do queijo é granul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ra de 8 a 10 meses para maturar, período que desenvolve seu sabor: salgado e picante, que se torna cada vez mais robusto à medida que se torna mais mad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1600200"/>
            <a:ext cx="2293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 ROM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2666880"/>
            <a:ext cx="78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 região da Sardenha, é feito com leite cru d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nor que o romano, tem forma cilíndrica e pesa de 1 a 4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dura e lisa e sua cor varia com a idade, começando pelo palha até o castanho-avermelhado-escu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textura é granulosa e o sabor é de nozes e erv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dois tipos de Pecorino Sar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ce, maturado de 20 a 60 dias, pesa de 1  a 2 kg e tem a massa branca e  firme, com sabor delicado e não pic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duro, maturado por até 1 ano, é mais duro, seco e com textura bem granul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u sabor é salgado e pican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76720" y="1447920"/>
            <a:ext cx="2079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 SARD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43828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 região da Toscana, trata-se de um queijo duro produzido com leite cru de ovelha, tem forma cilíndrica e pesa de 1  a 3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varia do palha até o castanho, podendo chegar ao preto (Pecorino Toscano Crosta Ne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e os Pecorinos é o menor e o que tem maturação mais ráp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jovem, o Pecorino Toscano é frutado, aromático, com textura flexível e sabor de nozes e carame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267080"/>
            <a:ext cx="777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lado e servido em massas ou risotos, no preparo de molhos e em saladas (ralado na parte mais grossa do ralad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 cozinha siciliana é usado no preparo das clássicas e deliciosas sardinhas frescas recheadas com uma pasta de alho e Pecorino e marinadas em lou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76720" y="1371600"/>
            <a:ext cx="24080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 TOSC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371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aproveitar todo o sabor do queijo é importante alguns cuidados na compra, na manipulação e no armazenamento, mas o principal é conhecer cada um deles. E para conhecer é preciso experimenta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133720"/>
            <a:ext cx="792504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quer que seja o tipo de queijo, a matéria-prima é uma só: o leite, que pode ser de vaca, de ovelha, de cabra e de búfa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acontece com os vinhos, as condições climáticas e geológicas têm influência no sabor e no estilo do queijo, já que determinam a forma como o animal é criado e aliment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m, seu leite terá características específicas e irá determinar o sabor final do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76212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bre Que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191120"/>
            <a:ext cx="80010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quantidade de gordura do leite, integral, semidesnatado, desnatado ou enriquecido com nata, resulta em diferentes tipos de que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alguns casos se usa o leite cru, não-pasteurizado (cada vez menos comum), como no caso do queijo Taleggio do norte da Itália e a mistura de diferentes tipos de leite; de cabra, vaca 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quantidade de água que se elimina no processo de produção do queijo determina a maciez, o tipo de casca e o mofo que irá se desenvolver no queijo. A casca é um dos primeiros aspectos a se avaliar em um que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2514600"/>
            <a:ext cx="8153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a-se de um queijo de massa semidura, holandês, produzido em várias regiões a partir de leite de vaca gordo ou semidesnatado, com formato esférico (prensado na forma de uma bola) e peso médio de 1,5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pouco percebida, coberta com uma cera verm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ideal é consumir o Edam jovem quando sua textura é ainda flexível (evite os queijos borrachudo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abor adocicado e suave lembra no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Edam revestido com cera preta significa que foi maturado por pelo menos 17 seman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também os maturados por 10 meses, deixando o queijo com sabor mais forte e indicado para a culinár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7913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acompanhar refeições rápidas, ser usado em sanduíches e para gratin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480" y="1295280"/>
            <a:ext cx="6638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DA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057400"/>
            <a:ext cx="83818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bricado com leite de vaca, é feito com massa cozida e amassada (formaggi a pasta filata, como é denominado na Itáli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a região da Lombardia, tem diversos formatos e o peso varia de 200 g a 5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dura e fina, de cor amarela-dourada e brilhante. Em alguns casos pode ser encer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ovolone de 2 a 3 meses é flexível e apresenta uma textura avelud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conhecido como Provolone doce ou sua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Provolone picante se emprega o coalho de cabrito, que acelera a maturação e deixa seu sabor mais for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ainda o Provolone envelhecido de 6 meses a 12 anos, que apresenta uma casca bem mais dura e sabor mais forte e condimen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638680"/>
            <a:ext cx="82296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gratinar, na fondue e em petiscos. O Provolone envelhecido é ótimo para ralar e acompanhar mas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952880" y="1371600"/>
            <a:ext cx="1432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VOL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2209680"/>
            <a:ext cx="8534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italiano produzido a partir de leite cru de vaca, tem formato cilíndrico, pesando de 8 a 20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lisa, acetinada e com uma linda cor amarela quando o queijo é jov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 medida que envelhece ganha a cor amarelo-torr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dois tipos de queijo Asiago: o Pressato, que é elaborado com leite integral e curado por 20 a 30 dias, tem cor amarelo-claro, textura elástica e seu sabor e fragrância são doces e delic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o Asiago d'Allevo, um queijo maturado e o preferido pelos apreciadores de Asiago. Elaborado com leite desnatado, o longo processo de maturação (12 meses) resulta em um queijo frutado, levemente picante, de textura granulosa e compac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seu interior encontram-se pequenos buracos e depois de maturado por 2 anos, se torna quebradiç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65680"/>
            <a:ext cx="815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jovem é usado como queijo de mesa. Maturado, pode ser ralado para servir sobre massas, risotos ou em gratinados e saladas. Pode ser usado em sanduích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4120" y="1371600"/>
            <a:ext cx="892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G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0" y="24908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3505320"/>
            <a:ext cx="7086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 o queijo mais consumido em nosso país, seja pela facilidade em produzi-lo, seja pela vasta distribuição no mercado, sem falar no seu sabor que agrada ao paladar dos brasilei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variedades de queijo das diferentes regiões queijeiras de Minas Gerais distinguem-se umas das out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leite é diferente em razão do clima, do solo, da raça e da alimentação das vacas que dá a identidade para cada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952880" y="1828800"/>
            <a:ext cx="207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IJO DE MINA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2514600"/>
            <a:ext cx="7391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e Ile-de-France é elaborado com leite cru de va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duas principais variedades, ambas com denominação de origem, são o Brie de Meaux e o Brie de Melu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imeiro tem textura macia, mas firme (sem derreter) e tem aroma e sabor de cogumel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está bem curado, tem sabor forte, mas não pic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Brie de Melum tem sabor mais pronunciado e é um pouco mais salg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curado, sua textura quase derrete, o aroma é penetrante e o sabor, f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029200"/>
            <a:ext cx="7467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ente como queijo de mesa. Sirva acompanhado de pães diversos, incluindo o sue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9200" y="1523880"/>
            <a:ext cx="555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R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2057400"/>
            <a:ext cx="8382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origem italiana, a Ricota é produzida a partir do soro de leite de vaca, bem poucas são elaboradas com soro de leite d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do se faz o queijo, o leite deve ser antes coagulado, separando a parte sólida (massa para fazer queijo) da líquida (so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ssa separação, a parte líquida ainda contém um pouco de sólido, que pode ser recuper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isso, ferve-se o soro e a parte sólida e pequenos pedaços brancos vem à superfície. Em seguida, essa mistura é coada, resultando num produto mole, esbranquiçado, que nada mais é do que a Ricota. Uma Ricota de boa qualidade deve ser firme, mas jamais sólida e não deve esfarelar, a verdadeira ricota derrete na boca. Pedaços grosseiros de coágulos resultam num produto de qualidade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te as ricotas de textura granulosa e arenosa e as que apresentam umidade excessiva. Existe ainda a ricota defumada, usada para ral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8686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sabor bem suave, a Ricota pode entrar na composição de recheios de massas e pastéis, na elaboração de sobremesas e para fazer pastas para canapê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1066680"/>
            <a:ext cx="8845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COT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2895480"/>
            <a:ext cx="8534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ário da região da Normandia, é produzido com leite cru de va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 outras regiões pode ser feito também com leite pasteuri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formato é arredondado e pode pesar até 250 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asca apresenta uma crosta branca de bolor, que deve ser f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À medida que o queijo matura, a casca ganha pigmentos coloridos, vermelhos, caramelo e amarelos e o sabor e o aroma se intensific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 textura macia muito agradável, aroma e sabor delicados e caracterís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original da Normandia apresenta sabor mais pica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18148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ente como queijo de mesa. Sirva com pães divers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95680" y="1752480"/>
            <a:ext cx="13255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MEMBER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2819520"/>
            <a:ext cx="739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ito com leite cru de vaca, tem formato de cabaça, onde a parte mais estreita é usada para amarrar um barbante para pendurar o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sa de 2 a 3 kg e tem elevado teor de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asca é lisa e ole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s 3 meses, tem sabor levemente doce e textura mais flexível, mas pode ser maturado por até 2 anos, quando pode ser ral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interior é amarelo-brilhante, a textura é fechada e o aroma, inten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029200"/>
            <a:ext cx="79246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ser usado em sanduíches (frios ou quentes) e em gratin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76920" y="1600200"/>
            <a:ext cx="1812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CIOCAVALL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2743200"/>
            <a:ext cx="701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norte-americana, é elaborado com leite de vaca e apresenta massa ácida, de cor branca, sem forma e de textura cremosa e grum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m, no máximo, 15% de gordura, sendo ideal para quem faz dietas de controle de pe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marcas que possuem 5% de gordura, o menor teor entre os queijos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7696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companhar o pão, substituindo a manteiga, em saladas e para preparações mais leves e com menos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562720" y="1676520"/>
            <a:ext cx="11127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TTAG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2819520"/>
            <a:ext cx="7239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origem norte-americana, é feito com leite de va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sabor é suave, tem textura cremosa e levemente aveludada e um gosto fresco, ligeiramente ác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versões feitas com leite integral têm uma riqueza de sabor conferido pela gordura da nata. já as versões desnatadas têm uma textura um pouco granulosa, devido à adição de leite em pó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267080"/>
            <a:ext cx="7010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servir com pão ou com torradas em substituição à manteiga, temperado com ervas e servido como patê, para fazer molhos cremosos, para rechear panquecas ou em sobremesas, como o cheeseca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95680" y="1828800"/>
            <a:ext cx="1828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REAM CHEE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1752480"/>
            <a:ext cx="71629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COMP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algumas lojas especializadas se pode contar com a ajuda de funcionários com conhecimento, que dão boas sugestões mas quando você entra no supermercado e se depara com uma grande quantidade de queijos, a escolha pode ser mais com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caso de dúvida, procure experimentar o queijo antes de comprá-lo. Como acontece com outros produtos, verifique a data de validade, o aspecto e os cuidados com a temperatura à qual o queijo se encontra fato que pode alterar o processo de matu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5280" y="33526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origem grega, é tradicionalmente feito apenas de leite cru de ovelha, mas pode ser feito de leite de cabra ou uma mistura dos do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 versões industrializadas, se utiliza o leite de vaca pasteur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esenta textura firme, macia e esfarelada e sabor acentu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0960" y="4876920"/>
            <a:ext cx="496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ompanhado de pão, em saladas e em reche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00600" y="2057400"/>
            <a:ext cx="60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ET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990720"/>
            <a:ext cx="457200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e Modena, Parma, Reggio Emilia, zonas de Bolonha e Mântua, é um queijo duro, elaborado com leite cru de vaca e tem a forma de um tambor pesando de 24 a 40 qui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controle de qualidade é tão grande, que as vacas que produzem o leite para a sua produção só podem alimentar-se de grama fresca, feno ou alfafa, dessa maneira, garante-se um queijo de excelente qualidade. Apresenta uma casca muito dura, grossa, brilhante e tem uma cor que vai do amarelo ao alaranj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armiggiano Reggiano tem um aroma doce e frutado, lembrando abacax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m um sabor forte, robusto, encorpado e rico, mas jamais demasiadamente forte. Pode ser guardado durante meses e meses na geladei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86400" y="2971800"/>
            <a:ext cx="3124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servido em lascas como entr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lado ou em lascas, entra em molhos, massas, risotos, sopas e sal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r ser ralado e guardado no congelador,é melhor do que comprar o queijo ralado industrializado, que nem sempre tem um sabor agrad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43600" y="685800"/>
            <a:ext cx="16606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MIGGI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95280" y="2590920"/>
            <a:ext cx="7162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italiana, é cremoso, apresenta textura macia e homogênea e contém alto teor de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esar de suas características, o Mascarpone não pode ser, tecnicamente, definido como um queijo (está mais próximo de um crem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obtido a partir da nata, que é aquecida, à qual se adiciona ácido cítrico ou tartárico, que provoca a coagulação, dando origem ao Mascarp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57200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sobremesas (como no clássico tiramisù), pratos cremosos, recheios e molhos. Pode ser substituído por uma mistura de ricota e creme de leite, embora o resultado não seja o mesm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4120" y="1447920"/>
            <a:ext cx="16221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SCARP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4360" y="1523880"/>
            <a:ext cx="37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ijos e vinhos sem confl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6668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nda que nosso inverno não seja rigoroso, é comum nessa época do ano reunir os amigos para saborear queijos e vin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sar de ser esse um hábito antigo, a mistura não é tão simples quanto pare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vinho errado pode matar o sabor do queijo, o contrário também é verdade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ja algumas sugestões de harmoniza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905120"/>
            <a:ext cx="7620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o harmonizar uma tábua de queij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ve uma época em que os queijos eram servidos no lugar da sobremesa nos países europe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é hoje, os queijos costumam ser servidos para finalizar a refeição (antes ou depois da sobremesa) em países como França, Grã-Bretanha e Itália. Saiba como escolher os queijos e acompanhamentos para compor uma tábua de queijos, seja para terminar uma refeição ou para servir como aperit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457200"/>
            <a:ext cx="8305920" cy="22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fres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ito apreciados pelo paladar nacional, os queijos frescos são ideais para iniciar uma reunião e pedem vinhos brancos frescos, secos, com boa acidez e aromáticos, como o Gewürztraminer, Riesling, Moscatel e Malvasia. Vale abrir também uma garrafa de um rosé. A maioria dos queijos cremosos de leite de cabra também casam perfeitamente com esses vinh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895480"/>
            <a:ext cx="84582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ma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nto o Brie quanto o Camembert combinam com vinhos brancos estruturados, como um Chardonnay que tenha permanecido em barrica de madeira por algum temp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Sancerre é outra alternativa de primei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ntos leves, pouco tânicos, como os do Vale do Ródano, os conhecidos Côtes du Rhône, ou um cru Beaujolais, são outros exemplos de boa companh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 Normandia, região de origem do Camembert, acompanha-se esse queijo com goles de calvados, destilado feito de maçã, assim como a sidra, o fermentado da mesma fru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Camembert maduro e de boa procedência não fará feio se for saboreado com um champan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09480"/>
            <a:ext cx="8305920" cy="27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azu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abor complexo e picante do Roquefort combina com um Sauternes, vinho francês de sobremesa de alta concentração de açúc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caso do italiano Gorgonzola, a combinação clássica é um tinto leve como um Valpolicella nobre, um Barbera ou Bardoli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risque também com um Passito di Pantelleria, o vinho licoroso da Sicília. Você verá que não fica nada m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ra possibilidade é abrir um Moscatel portuguê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352680"/>
            <a:ext cx="82296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geral, esses queijos são reservados para a seqüência final, uma vez que com sabor demasiadamente marcante, acabam ofuscando os dema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virtudes de um Parmiggiano Reggiano ou de um Grana Padano são ressaltadas com tintos potentes como um Cabernet Sauvignon Reserva chileno, um Amarone della Valpolicella ou um Zinfandel californiano encorp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ecorino vai bem com vinhos de médio corp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le provar com um Malbec argentino, por exemp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Malbec traz uma doçura que produz um interessante contraste com esse que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990720"/>
            <a:ext cx="762012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semi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como o Emmenthal, o Gruyère e o Queijo-de-Minas curado e semicurado ficam bem com tintos leves, no máximo de médio corpo, como um Côtes du Rhône, um Pinot Noir ou um Beaujolais (feito com a uva Gamay, já tem versões brasileiras), todos poucos tân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vão bem com alguns italianos mais leves como o Barbera e o Dolcet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m ser bons parceiros brancos secos como os Chardonnays estruturados que permaneceram em barricas de carv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holandeses Gouda e Edam e o italiano Asiago têm sabor mais pronunciado e pedem vinhos potentes, como os da uva Shiraz - não a casta original francesa Syrah, mas sua variação espalhada pelo Novo Mundo (Austrália, África do Sul, Argentin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formam ótima parceria com um Rioja Reserva, um Cabernet Sauvignon proveniente do Chile ou mesmo um Tannat urugua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ovolone pode ser associado com um Chianti Clássico, tinto da Toscana, ou um outro tinto de médio corp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Mussarela funciona bem com um tinto leve ou de méd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r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685800"/>
            <a:ext cx="777240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acompanh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bons queijos deveriam ser degustados ao natural, sem nenhum acompanha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tanto, ao escolher itens para acompanhar uma tábua de queijos tenha em mente que o sabor deve ser sutil e não pode mascarar o ingrediente principal. Veja algumas sugest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ães frescos, de casca crocante e sabor neutro, para não "brigar" com o queijo. Nada de pães com frutas secas, nozes, tomate ou azeit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utas da época também podem ser incluídas. Mas evite as de sabor mais ácido (limão, abacaxi, kiwi) e as muito doces. As mais indicadas são maçã, pêra, uva e f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utas secas, como uva passa, damasco, ameixa e figo, combinam muito bem com queijo, principalmente os duros, como o Parmesão e o Pecori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frutas oleaginosas, como noz, castanha de caju, castanha-do-pará, amêndoa e avelã, também são bons acompanha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79720" y="3105000"/>
            <a:ext cx="287964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atação: Vania May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0" y="5410080"/>
            <a:ext cx="6094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47920"/>
            <a:ext cx="80010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Conser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este atenção na temperatura e verifique sempre se o queijo mantém suas características durante o armazena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de massa dura devem ser envolvidos individualmente em filme plástico ou papel-alumínio, neste caso, faça alguns furos com um garfo para que o queijo possa respirar e não ressequ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de massa macia como Brie e Camembert devem ser mantidos no próprio papel da embalagem, que já é especial para sua conservação e guardados na geladeira, assim como os frescos e fund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 apresentam mofo interno (os azuis) devem ser envolvidos em papel-alumín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conservar queijos duros por pouco tempo, deixe-os em uma queijeira,com base de madeira e tampa de vidro, que não feche hermeticamente, permitindo que os queijos respir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362320"/>
            <a:ext cx="8001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podem ser classificados de acordo com o tipo de leite, a textura, o grau de maturação e a intensidade de seu sabor e aro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lassificação mais comum é de acordo com a textura; queijos duros e semiduros, macios, frescos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onsistência dos chamados queijos duros varia de lisa e fácil de cortar até a áspera e granu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duros: Emmenthal,  Gruyère,  Grana (parmesão),  Provolone,  Pecorino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edar e Gou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macios: Brie e Camember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azuis:    Roquefort e Gorgonz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frescos: Queijo de cabra, Cream Cheese, Ricota, Cottage, Mascarpone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2160" y="137160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TIPOS DE QUE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209680"/>
            <a:ext cx="74678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um queijo holandês, de corte, produzido em várias regiões a partir de leite de vaca pasteurizado ou de leite cru, que mas é menos comum, com formato redondo, pesando de 5 kg a 1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muito lisa e de cor verm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pois de maturado (após 18 meses) ganha uma consistência um pouco granulosa, a parte interna ganha uma cor amarelo-escuro e seu sabor se torna mais complex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poucos meses de maturação já é firme, de textura lisa e flexí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arte interna é permeada por pequenos bura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abor do queijo mais jovem é frutado e doce, mas à medida que envelhece o seu sabor e aroma se intensific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algumas versões de GOUDA que incluem temperos como alho, cebola ou comi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2840" y="5486400"/>
            <a:ext cx="697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ser usado em sanduíches frios e em gratin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05520" y="1295280"/>
            <a:ext cx="8222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UD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286000"/>
            <a:ext cx="7848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o norte da Itália, é produzido com leite de vaca sendo o tradicional, com leite cru e a versão mais moderna, com leite pasteurizado e apresenta um alto teor de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m forma de um tambor pesando de 6 kg a 12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textura interna tem veios de mofo que vão do cinza ao azul, obtidos pela presença da penicillium gorgonzola (ou glaucum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diferentes métodos de fabricação, o tipo de mofo e a quantidade de sal dão origem a uma variedade de queijos, mas os mais famosos são o gorgonzola doce, suave, e o picante, esse de sabor mais inten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curados em grutas (na versão mais tradicional) resultam nos melhores gorgonzol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70600"/>
            <a:ext cx="8001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ém de ser consumido ao natural, o gorgonzola pode ser usado no preparo de molhos, misturado com creme de leite, para massas, no recheio de tortas ou em pastas para canapê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800600" y="1371600"/>
            <a:ext cx="16160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RGONZOL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19520"/>
            <a:ext cx="8076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produzido com leite de ovelha não-pasteurizado ao qual é adicionado o mofo penicillium roquefor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umidade e a quantidade de ar no local de maturação, necessárias para que o mofo se desenvolva no queijo, são rigorosamente control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a região de Rouergue, França, tem forma cilíndrica e pesa  2 a 3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pegajosa de cor marfim bem clara e a textura é macia, com um aroma característico e sabor que pode ser mais ou menos picante de acordo com o grau de matu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952880"/>
            <a:ext cx="79250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ser servido com pão ou acompanhado de nozes e frutas secas. Fica gostoso em saladas com verduras, como radicchio e endí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257800" y="1447920"/>
            <a:ext cx="1432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QUEFOR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133720"/>
            <a:ext cx="8305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suíça (há também o alemão e o francês), o queijo Emmenthal se caracteriza pelo grande número de buracos, quanto menores e mais redondos, mais forte e picante o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aroma do queijo jovem, até 3 meses, é suave, ligeiramente adocicado e frutado, com sabor de no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mais curados, de 4 a 5 meses, são mais fortes e pic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Emmenthal é fabricado com leite cru de vaca e cada peça tem de 60 a 130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natural é fina e dura, com uma cor beige-amare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ainda os chamados Emmenthal de massa dura, fabricados com leite pasteur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1752480" cy="131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673520"/>
            <a:ext cx="807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Emmenthal é usado para gratinados (ralado) e no preparo da fondue. Assim como o gruyère, pode entrar na composição da clássica sopa de cebola francesa  Experimente incluí-lo no preparo de omeletes ou ralado sobre batatas cozidas, temperadas com ervas e azeite de oliva e levadas ao forno para gratinar. Fica bom, ainda, em sanduí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30920" y="1066680"/>
            <a:ext cx="14698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MENTHAL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1:07:44Z</dcterms:created>
  <dc:creator>Vania Mayer</dc:creator>
  <dc:description/>
  <dc:language>en-US</dc:language>
  <cp:lastModifiedBy>Vania Mayer</cp:lastModifiedBy>
  <dcterms:modified xsi:type="dcterms:W3CDTF">2009-02-26T19:44:26Z</dcterms:modified>
  <cp:revision>6</cp:revision>
  <dc:subject/>
  <dc:title>Slide 1</dc:title>
</cp:coreProperties>
</file>