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B4FA-9AD4-4CD4-A85A-0B801533F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ACA5-4CCC-47DD-A028-7E833376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C79D-5A87-4849-99B4-F779C4E26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DA3C-8877-42D0-8BE1-E23A1E62B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72AD-7A6A-4797-9FDF-90B32B84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660B-FE1A-4070-94CD-325B7EBA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FFE8-ADF6-45A1-B676-3745DB12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65EA-760F-462C-AD72-4C71D552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27A3-F50A-4C31-BF56-BDCAA503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1AC8-5DD1-4399-A570-8A808CA8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EFD7-4ABB-4C0D-A5B4-5ECD6C26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0404-5AD8-46D0-9CAB-C2BC3840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C526-94B9-4018-9569-753D5EC1A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743200" y="2590920"/>
            <a:ext cx="3657600" cy="12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oudy Old Style"/>
              </a:rPr>
              <a:t>QUEIJOS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oudy Old Style"/>
              <a:ea typeface="Goudy Old Style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2971800" y="1143000"/>
            <a:ext cx="1752480" cy="668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5562720" y="48006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7620120" y="1143000"/>
            <a:ext cx="784080" cy="4689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1066680" y="1295280"/>
            <a:ext cx="762120" cy="4613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1905120"/>
            <a:ext cx="8686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ambém de origem suíça e copiado em todo o mundo, o queijo Gruyère é menor que o Emmenthal e os buracos são pequenos e em menor quantida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u sabor é mais forte do que o emmenthal e sua textura mais cremo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É fabricado com leite cru de vaca e cada peça tem de 20  a 45 k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casca natural é dura, seca e de cor castanho-ferrug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textura do queijo é ligeiramente granulosa, densa e compacta, ao mesmo tempo é flexível. Esta densidade é a responsável pela sua excelente capacidade de derreter ao gratinar e apresenta um sabor bem complexo: no primeiro momento, frutado, mas em seguida percebe-se um sabor de nozes. O queijo Gruyère tem coloração amarela, um pouco mais escura que a do Emmenth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7200" y="5054760"/>
            <a:ext cx="830592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o usar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Ótimo para gratinar, ralar e no preparo da fondue. Experimente incluí-lo em sanduíches quentes, misto ou bauru, em legumes gratinados, em sopas, como na sopa de cebola e molhos à base de queijo. Experimente preparar filé de frango recheado com fatias de gruyère e presunto, depois empanado e fri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181480" y="914400"/>
            <a:ext cx="11210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UYÈR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1905120"/>
            <a:ext cx="8381880" cy="32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Feito com leite cru ou pasteurizado, o queijo de cabra pode ser encontrado em diversas variedades de sabor e formato. Geralmente, são produzidos apenas com leite de cabra, porém pode haver mistura com leite de vaca e de ovelh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 palavra chèvre (cabra em português) estampada na embalagem mostra que o queijo é feito somente com leite de cabra. Se for feito com 50% de leite de cabra e 50% de outro tipo de leite é chamado de mi-chèv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 maioria dos queijos é produzida de maneira artesanal, principalmente na França, onde os queijos caseiros respondem pela maior parte da produçã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O queijo de cabra pode ser classificado de acordo com a consistência da massa e o processo de cura, que irão determinar o seu aroma e o seu sabo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lgumas versões desse queijo apresentam ervas e especiarias em sua superfíc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4925880"/>
            <a:ext cx="8381880" cy="19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o us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ode ser consumido ao natural, mas fica ótimo amassado com um garfo e temperado com azeite de oliva e ervas frescas como salsinha, cebolinha e até hortelã ou com especiarias. Experimente com pimenta-do-reino moída, pimenta rosa ou cur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ode ser servido como aperitivo, em saladas, sanduíches ou entrar no preparo de massas e recheio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1752480" cy="1314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732200" y="914400"/>
            <a:ext cx="21258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UEIJO DE CABRA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90720" y="3276720"/>
            <a:ext cx="769608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ita com leite de vaca, é comercializada sem cura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m sabor mais acentuado e menos delicado do que a mussarela de búfala, sendo também menos maci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4038480"/>
            <a:ext cx="7772400" cy="15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mo us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mussarela é usada em pizzas, sanduíches e para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gratin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5029200" y="1981080"/>
            <a:ext cx="1432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USSARELA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09480" y="2057400"/>
            <a:ext cx="815364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mo o nome diz, é feita com leite de búfala e tem vários tamanhos e format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É comum ser vendida mergulhada no soro, quando apresenta textura elástica e é bem mais macia, mas pode ser encontrada de outras maneir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or tratar-se de um queijo fresco deve ser consumido em poucos di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ndo a mussarela de búfala é defumada recebe o nome de mussarela affumicata (em italiano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o us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4343400"/>
            <a:ext cx="830592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vido ao elevado teor de água, a mussarela absorve facilmente os sabores de outros ingredientes e temper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ua textura macia rende pratos interessan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ode ser temperada com ervas e azeite de oliva e servida com pão, em saladas, como na clássica Caprese e em pizzas e para gratina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05320" y="1143000"/>
            <a:ext cx="1812960" cy="5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USSARELA D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FALA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66680" y="3429000"/>
            <a:ext cx="73915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rana é o nome genérico dos queijos duros e granulosos que tiveram origem no Vale do Rio Pó, na época do Império Roman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rata-se de um queijo frutado, de sabor excelente e que deve ser maturado por pelo menos 12 mes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s granas mais famosos (protegidos pela DO - denominação de origem) são o Grana Padano e o Parmiggiano Reggian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anto um como outro são conhecidos no Brasil como parmesã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81080" y="121932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724280" y="1523880"/>
            <a:ext cx="17607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UEIJO GRANA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219320" y="2133720"/>
            <a:ext cx="7086600" cy="36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oveniente de Piemonte, Lombardia, Emilia Romagna, Veneto e Trentino, o grana padano é um queijo duro, elaborado com leite cru de vaca e tem a forma de um tambor pesando de 24 kg a 40 k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presenta uma casca muito dura, de cor amarelo forte, de textura lisa, grossa e, normalmente, oleo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Grana Padano deve ter um gosto fresco frutado e doce (lembrando abacaxi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m verdadeiro Grana Padano e em boas condições de armazenamento deve ter um gosto suave e jamais ser amarg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parte interna do queijo deve ter uma cor amarelo-claro e de textura du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581280" y="1295280"/>
            <a:ext cx="18511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NA PADAN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71600" y="2971800"/>
            <a:ext cx="678168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ecorino é o nome genérico que se dá aos queijos feitos exclusivamente com queijo de ovelh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 origem italiana, tem características específicas, dependendo da região e da forma como é produzido; os diferentes tamanhos dos grânulos, o tempo de maturação, o tipo de leite empregado e as misturas de lei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rata-se de um queijo com boa capacidade de conserv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Há o Pecorino fresco, o semicurado, o doce e o pepato (com adição de pimenta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À medida que o queijo fica mais curado, é usado para rala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s variações mais famosas são o Pecorino Romano, o Sardo e o Toscan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1904760" cy="142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5257800" y="1676520"/>
            <a:ext cx="12114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ECORIN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14400" y="2666880"/>
            <a:ext cx="7772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 região de Lazio e Sardenha, trata-se de um queijo duro produzido com leite cru de ovelha, tem a forma de um tambor pesando de 22  a 33 k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casca é dura e lisa e tem uma cor que varia com a idade do queijo, começando pelo palha, passando pelo amarelo-claro até o castanho-escu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textura do queijo é granulo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ra de 8 a 10 meses para maturar, período que desenvolve seu sabor: salgado e picante, que se torna cada vez mais robusto à medida que se torna mais mad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81280" y="1600200"/>
            <a:ext cx="22939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ECORINO ROMAN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38080" y="2666880"/>
            <a:ext cx="7848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a região da Sardenha, é feito com leite cru de ovelh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enor que o romano, tem forma cilíndrica e pesa de 1 a 4 k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casca é dura e lisa e sua cor varia com a idade, começando pelo palha até o castanho-avermelhado-escu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textura é granulosa e o sabor é de nozes e erv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Há dois tipos de Pecorino Sardo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oce, maturado de 20 a 60 dias, pesa de 1  a 2 kg e tem a massa branca e  firme, com sabor delicado e não pica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aduro, maturado por até 1 ano, é mais duro, seco e com textura bem granulo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u sabor é salgado e picant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276720" y="1447920"/>
            <a:ext cx="20793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ECORINO SARD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2438280"/>
            <a:ext cx="7543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a região da Toscana, trata-se de um queijo duro produzido com leite cru de ovelha, tem forma cilíndrica e pesa de 1  a 3 k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casca varia do palha até o castanho, podendo chegar ao preto (Pecorino Toscano Crosta Nero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ntre os Pecorinos é o menor e o que tem maturação mais rápid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ndo jovem, o Pecorino Toscano é frutado, aromático, com textura flexível e sabor de nozes e caramel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4267080"/>
            <a:ext cx="7772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alado e servido em massas ou risotos, no preparo de molhos e em saladas (ralado na parte mais grossa do ralado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a cozinha siciliana é usado no preparo das clássicas e deliciosas sardinhas frescas recheadas com uma pasta de alho e Pecorino e marinadas em lou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276720" y="1371600"/>
            <a:ext cx="24080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ECORINO TOSCAN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37160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a aproveitar todo o sabor do queijo é importante alguns cuidados na compra, na manipulação e no armazenamento, mas o principal é conhecer cada um deles. E para conhecer é preciso experimentar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133720"/>
            <a:ext cx="792504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quer que seja o tipo de queijo, a matéria-prima é uma só: o leite, que pode ser de vaca, de ovelha, de cabra e de búfal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o acontece com os vinhos, as condições climáticas e geológicas têm influência no sabor e no estilo do queijo, já que determinam a forma como o animal é criado e alimentad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sim, seu leite terá características específicas e irá determinar o sabor final do queij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762120"/>
            <a:ext cx="190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bre Queij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4191120"/>
            <a:ext cx="800100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quantidade de gordura do leite, integral, semidesnatado, desnatado ou enriquecido com nata, resulta em diferentes tipos de queij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m alguns casos se usa o leite cru, não-pasteurizado (cada vez menos comum), como no caso do queijo Taleggio do norte da Itália e a mistura de diferentes tipos de leite; de cabra, vaca e ovelh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quantidade de água que se elimina no processo de produção do queijo determina a maciez, o tipo de casca e o mofo que irá se desenvolver no queijo. A casca é um dos primeiros aspectos a se avaliar em um queij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09680" y="68580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85800" y="2514600"/>
            <a:ext cx="81532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rata-se de um queijo de massa semidura, holandês, produzido em várias regiões a partir de leite de vaca gordo ou semidesnatado, com formato esférico (prensado na forma de uma bola) e peso médio de 1,5 k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casca é pouco percebida, coberta com uma cera vermelh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ideal é consumir o Edam jovem quando sua textura é ainda flexível (evite os queijos borrachudos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sabor adocicado e suave lembra noz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Edam revestido com cera preta significa que foi maturado por pelo menos 17 seman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Há também os maturados por 10 meses, deixando o queijo com sabor mais forte e indicado para a culinári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o us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5791320"/>
            <a:ext cx="77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eijo de mesa, pode acompanhar refeições rápidas, ser usado em sanduíches e para gratina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181480" y="1295280"/>
            <a:ext cx="6638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DAM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2057400"/>
            <a:ext cx="83818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Fabricado com leite de vaca, é feito com massa cozida e amassada (formaggi a pasta filata, como é denominado na Itália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riginário da região da Lombardia, tem diversos formatos e o peso varia de 200 g a 5 k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casca é dura e fina, de cor amarela-dourada e brilhante. Em alguns casos pode ser encerad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Provolone de 2 a 3 meses é flexível e apresenta uma textura aveludad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É conhecido como Provolone doce ou suav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o Provolone picante se emprega o coalho de cabrito, que acelera a maturação e deixa seu sabor mais for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Há ainda o Provolone envelhecido de 6 meses a 12 anos, que apresenta uma casca bem mais dura e sabor mais forte e condiment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mo usar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5638680"/>
            <a:ext cx="822960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ara gratinar, na fondue e em petiscos. O Provolone envelhecido é ótimo para ralar e acompanhar mass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952880" y="1371600"/>
            <a:ext cx="1432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OVOLON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133720" y="609480"/>
            <a:ext cx="1904760" cy="1428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09480" y="2209680"/>
            <a:ext cx="85345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eijo italiano produzido a partir de leite cru de vaca, tem formato cilíndrico, pesando de 8 a 20 k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casca é lisa, acetinada e com uma linda cor amarela quando o queijo é jov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À medida que envelhece ganha a cor amarelo-torrad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xistem dois tipos de queijo Asiago: o Pressato, que é elaborado com leite integral e curado por 20 a 30 dias, tem cor amarelo-claro, textura elástica e seu sabor e fragrância são doces e delicad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 o Asiago d'Allevo, um queijo maturado e o preferido pelos apreciadores de Asiago. Elaborado com leite desnatado, o longo processo de maturação (12 meses) resulta em um queijo frutado, levemente picante, de textura granulosa e compac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o seu interior encontram-se pequenos buracos e depois de maturado por 2 anos, se torna quebradiç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o us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5665680"/>
            <a:ext cx="815364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ndo jovem é usado como queijo de mesa. Maturado, pode ser ralado para servir sobre massas, risotos ou em gratinados e saladas. Pode ser usado em sanduích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4120" y="1371600"/>
            <a:ext cx="892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SIAG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86000" y="249084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43000" y="3505320"/>
            <a:ext cx="7086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 o queijo mais consumido em nosso país, seja pela facilidade em produzi-lo, seja pela vasta distribuição no mercado, sem falar no seu sabor que agrada ao paladar dos brasileir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 variedades de queijo das diferentes regiões queijeiras de Minas Gerais distinguem-se umas das outr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leite é diferente em razão do clima, do solo, da raça e da alimentação das vacas que dá a identidade para cada queij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952880" y="1828800"/>
            <a:ext cx="2079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UEIJO DE MINAS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914400" y="2514600"/>
            <a:ext cx="7391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riginário de Ile-de-France é elaborado com leite cru de vac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s duas principais variedades, ambas com denominação de origem, são o Brie de Meaux e o Brie de Melu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primeiro tem textura macia, mas firme (sem derreter) e tem aroma e sabor de cogumel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ndo está bem curado, tem sabor forte, mas não pica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Brie de Melum tem sabor mais pronunciado e é um pouco mais salgad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ndo curado, sua textura quase derrete, o aroma é penetrante e o sabor, for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5029200"/>
            <a:ext cx="74674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o us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ente como queijo de mesa. Sirva acompanhado de pães diversos, incluindo o sue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9200" y="1523880"/>
            <a:ext cx="5554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RI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80880" y="2057400"/>
            <a:ext cx="83822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origem italiana, a Ricota é produzida a partir do soro de leite de vaca, bem poucas são elaboradas com soro de leite de ovelh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do se faz o queijo, o leite deve ser antes coagulado, separando a parte sólida (massa para fazer queijo) da líquida (soro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ssa separação, a parte líquida ainda contém um pouco de sólido, que pode ser recuperad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a isso, ferve-se o soro e a parte sólida e pequenos pedaços brancos vem à superfície. Em seguida, essa mistura é coada, resultando num produto mole, esbranquiçado, que nada mais é do que a Ricota. Uma Ricota de boa qualidade deve ser firme, mas jamais sólida e não deve esfarelar, a verdadeira ricota derrete na boca. Pedaços grosseiros de coágulos resultam num produto de qualidade inferi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ite as ricotas de textura granulosa e arenosa e as que apresentam umidade excessiva. Existe ainda a ricota defumada, usada para rala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5334120"/>
            <a:ext cx="86868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o us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 sabor bem suave, a Ricota pode entrar na composição de recheios de massas e pastéis, na elaboração de sobremesas e para fazer pastas para canapê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1066680"/>
            <a:ext cx="8845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ICOTA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62120" y="2895480"/>
            <a:ext cx="85341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iginário da região da Normandia, é produzido com leite cru de vac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 outras regiões pode ser feito também com leite pasteuriz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formato é arredondado e pode pesar até 250 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casca apresenta uma crosta branca de bolor, que deve ser fin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À medida que o queijo matura, a casca ganha pigmentos coloridos, vermelhos, caramelo e amarelos e o sabor e o aroma se intensifica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m textura macia muito agradável, aroma e sabor delicados e característic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original da Normandia apresenta sabor mais pican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5181480"/>
            <a:ext cx="800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o us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ente como queijo de mesa. Sirva com pães divers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495680" y="1752480"/>
            <a:ext cx="13255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MEMBER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76520" y="838080"/>
            <a:ext cx="1904760" cy="1428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90720" y="2819520"/>
            <a:ext cx="7391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ito com leite cru de vaca, tem formato de cabaça, onde a parte mais estreita é usada para amarrar um barbante para pendurar o queij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sa de 2 a 3 kg e tem elevado teor de gordu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casca é lisa e oleo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os 3 meses, tem sabor levemente doce e textura mais flexível, mas pode ser maturado por até 2 anos, quando pode ser ralad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interior é amarelo-brilhante, a textura é fechada e o aroma, intens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5029200"/>
            <a:ext cx="792468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o us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eijo de mesa, pode ser usado em sanduíches (frios ou quentes) e em gratinad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876920" y="1600200"/>
            <a:ext cx="1812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CIOCAVALL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133720" y="1066680"/>
            <a:ext cx="1904760" cy="1428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143000" y="2743200"/>
            <a:ext cx="7010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 origem norte-americana, é elaborado com leite de vaca e apresenta massa ácida, de cor branca, sem forma e de textura cremosa e grumo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em, no máximo, 15% de gordura, sendo ideal para quem faz dietas de controle de pes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Há marcas que possuem 5% de gordura, o menor teor entre os queijos.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4572000"/>
            <a:ext cx="7696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o us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ara acompanhar o pão, substituindo a manteiga, em saladas e para preparações mais leves e com menos gordu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562720" y="1676520"/>
            <a:ext cx="11127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TTAG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066680" y="2819520"/>
            <a:ext cx="72392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origem norte-americana, é feito com leite de vac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sabor é suave, tem textura cremosa e levemente aveludada e um gosto fresco, ligeiramente ácid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 versões feitas com leite integral têm uma riqueza de sabor conferido pela gordura da nata. já as versões desnatadas têm uma textura um pouco granulosa, devido à adição de leite em pó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4267080"/>
            <a:ext cx="70102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mo us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ara servir com pão ou com torradas em substituição à manteiga, temperado com ervas e servido como patê, para fazer molhos cremosos, para rechear panquecas ou em sobremesas, como o cheesecak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495680" y="1828800"/>
            <a:ext cx="18288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REAM CHEES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14400" y="1752480"/>
            <a:ext cx="71629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O COMPR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m algumas lojas especializadas se pode contar com a ajuda de funcionários com conhecimento, que dão boas sugestões mas quando você entra no supermercado e se depara com uma grande quantidade de queijos, a escolha pode ser mais complic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m caso de dúvida, procure experimentar o queijo antes de comprá-lo. Como acontece com outros produtos, verifique a data de validade, o aspecto e os cuidados com a temperatura à qual o queijo se encontra fato que pode alterar o processo de maturaçã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295280" y="3352680"/>
            <a:ext cx="685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origem grega, é tradicionalmente feito apenas de leite cru de ovelha, mas pode ser feito de leite de cabra ou uma mistura dos doi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s versões industrializadas, se utiliza o leite de vaca pasteurizad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resenta textura firme, macia e esfarelada e sabor acentu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80960" y="4876920"/>
            <a:ext cx="496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o us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companhado de pão, em saladas e em reche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800600" y="2057400"/>
            <a:ext cx="6015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ETA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09480" y="990720"/>
            <a:ext cx="4572000" cy="54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riginário de Modena, Parma, Reggio Emilia, zonas de Bolonha e Mântua, é um queijo duro, elaborado com leite cru de vaca e tem a forma de um tambor pesando de 24 a 40 quil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controle de qualidade é tão grande, que as vacas que produzem o leite para a sua produção só podem alimentar-se de grama fresca, feno ou alfafa, dessa maneira, garante-se um queijo de excelente qualidade. Apresenta uma casca muito dura, grossa, brilhante e tem uma cor que vai do amarelo ao alaranjad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Parmiggiano Reggiano tem um aroma doce e frutado, lembrando abacax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em um sabor forte, robusto, encorpado e rico, mas jamais demasiadamente forte. Pode ser guardado durante meses e meses na geladei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486400" y="2971800"/>
            <a:ext cx="31240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o us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eijo de mesa, servido em lascas como entrad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alado ou em lascas, entra em molhos, massas, risotos, sopas e salad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oder ser ralado e guardado no congelador,é melhor do que comprar o queijo ralado industrializado, que nem sempre tem um sabor agradáve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943600" y="685800"/>
            <a:ext cx="16606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RMIGGIAN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09680" y="83808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295280" y="2590920"/>
            <a:ext cx="71629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 origem italiana, é cremoso, apresenta textura macia e homogênea e contém alto teor de gordu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pesar de suas características, o Mascarpone não pode ser, tecnicamente, definido como um queijo (está mais próximo de um creme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É obtido a partir da nata, que é aquecida, à qual se adiciona ácido cítrico ou tartárico, que provoca a coagulação, dando origem ao Mascarpo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4572000"/>
            <a:ext cx="7086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mo us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m sobremesas (como no clássico tiramisù), pratos cremosos, recheios e molhos. Pode ser substituído por uma mistura de ricota e creme de leite, embora o resultado não seja o mesm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334120" y="1447920"/>
            <a:ext cx="16221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SCARPON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664360" y="1523880"/>
            <a:ext cx="378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ijos e vinhos sem confl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2666880"/>
            <a:ext cx="693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nda que nosso inverno não seja rigoroso, é comum nessa época do ano reunir os amigos para saborear queijos e vinh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esar de ser esse um hábito antigo, a mistura não é tão simples quanto pare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 vinho errado pode matar o sabor do queijo, o contrário também é verdadei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ja algumas sugestões de harmonizaçã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14400" y="1905120"/>
            <a:ext cx="76201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o harmonizar uma tábua de queijo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uve uma época em que os queijos eram servidos no lugar da sobremesa nos países europeu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é hoje, os queijos costumam ser servidos para finalizar a refeição (antes ou depois da sobremesa) em países como França, Grã-Bretanha e Itália. Saiba como escolher os queijos e acompanhamentos para compor uma tábua de queijos, seja para terminar uma refeição ou para servir como aperitiv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57200" y="457200"/>
            <a:ext cx="8305920" cy="222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Queijos fres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uito apreciados pelo paladar nacional, os queijos frescos são ideais para iniciar uma reunião e pedem vinhos brancos frescos, secos, com boa acidez e aromáticos, como o Gewürztraminer, Riesling, Moscatel e Malvasia. Vale abrir também uma garrafa de um rosé. A maioria dos queijos cremosos de leite de cabra também casam perfeitamente com esses vinh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2895480"/>
            <a:ext cx="845820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Queijos maci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anto o Brie quanto o Camembert combinam com vinhos brancos estruturados, como um Chardonnay que tenha permanecido em barrica de madeira por algum temp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m Sancerre é outra alternativa de primei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ntos leves, pouco tânicos, como os do Vale do Ródano, os conhecidos Côtes du Rhône, ou um cru Beaujolais, são outros exemplos de boa companhi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a Normandia, região de origem do Camembert, acompanha-se esse queijo com goles de calvados, destilado feito de maçã, assim como a sidra, o fermentado da mesma frut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m Camembert maduro e de boa procedência não fará feio se for saboreado com um champanh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609480"/>
            <a:ext cx="8305920" cy="27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Queijos azu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sabor complexo e picante do Roquefort combina com um Sauternes, vinho francês de sobremesa de alta concentração de açúca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o caso do italiano Gorgonzola, a combinação clássica é um tinto leve como um Valpolicella nobre, um Barbera ou Bardolin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rrisque também com um Passito di Pantelleria, o vinho licoroso da Sicília. Você verá que não fica nada m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utra possibilidade é abrir um Moscatel portuguê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3352680"/>
            <a:ext cx="822960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Queijos d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m geral, esses queijos são reservados para a seqüência final, uma vez que com sabor demasiadamente marcante, acabam ofuscando os demai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s virtudes de um Parmiggiano Reggiano ou de um Grana Padano são ressaltadas com tintos potentes como um Cabernet Sauvignon Reserva chileno, um Amarone della Valpolicella ou um Zinfandel californiano encorpad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Pecorino vai bem com vinhos de médio corp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ale provar com um Malbec argentino, por exempl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Malbec traz uma doçura que produz um interessante contraste com esse queij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14400" y="990720"/>
            <a:ext cx="7620120" cy="48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Queijos semid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eijos como o Emmenthal, o Gruyère e o Queijo-de-Minas curado e semicurado ficam bem com tintos leves, no máximo de médio corpo, como um Côtes du Rhône, um Pinot Noir ou um Beaujolais (feito com a uva Gamay, já tem versões brasileiras), todos poucos tânic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ambém vão bem com alguns italianos mais leves como o Barbera e o Dolcet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odem ser bons parceiros brancos secos como os Chardonnays estruturados que permaneceram em barricas de carvalh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s holandeses Gouda e Edam e o italiano Asiago têm sabor mais pronunciado e pedem vinhos potentes, como os da uva Shiraz - não a casta original francesa Syrah, mas sua variação espalhada pelo Novo Mundo (Austrália, África do Sul, Argentina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ambém formam ótima parceria com um Rioja Reserva, um Cabernet Sauvignon proveniente do Chile ou mesmo um Tannat uruguai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Provolone pode ser associado com um Chianti Clássico, tinto da Toscana, ou um outro tinto de médio corp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Mussarela funciona bem com um tinto leve ou de médi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rp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38080" y="685800"/>
            <a:ext cx="7772400" cy="65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 acompanh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s bons queijos deveriam ser degustados ao natural, sem nenhum acompanhamen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ortanto, ao escolher itens para acompanhar uma tábua de queijos tenha em mente que o sabor deve ser sutil e não pode mascarar o ingrediente principal. Veja algumas sugestõ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ães frescos, de casca crocante e sabor neutro, para não "brigar" com o queijo. Nada de pães com frutas secas, nozes, tomate ou azeiton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Frutas da época também podem ser incluídas. Mas evite as de sabor mais ácido (limão, abacaxi, kiwi) e as muito doces. As mais indicadas são maçã, pêra, uva e fig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Frutas secas, como uva passa, damasco, ameixa e figo, combinam muito bem com queijo, principalmente os duros, como o Parmesão e o Pecorin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s frutas oleaginosas, como noz, castanha de caju, castanha-do-pará, amêndoa e avelã, também são bons acompanhament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2979720" y="3105000"/>
            <a:ext cx="2879640" cy="5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ormatação: Vania Mayer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8000" y="5410080"/>
            <a:ext cx="60948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00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1447920"/>
            <a:ext cx="8001000" cy="43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mo Conserv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este atenção na temperatura e verifique sempre se o queijo mantém suas características durante o armazenamen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s queijos de massa dura devem ser envolvidos individualmente em filme plástico ou papel-alumínio, neste caso, faça alguns furos com um garfo para que o queijo possa respirar e não ressequ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s queijos de massa macia como Brie e Camembert devem ser mantidos no próprio papel da embalagem, que já é especial para sua conservação e guardados na geladeira, assim como os frescos e fundid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s que apresentam mofo interno (os azuis) devem ser envolvidos em papel-alumíni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ara conservar queijos duros por pouco tempo, deixe-os em uma queijeira,com base de madeira e tampa de vidro, que não feche hermeticamente, permitindo que os queijos respir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2362320"/>
            <a:ext cx="80010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s queijos podem ser classificados de acordo com o tipo de leite, a textura, o grau de maturação e a intensidade de seu sabor e arom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classificação mais comum é de acordo com a textura; queijos duros e semiduros, macios, frescos et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consistência dos chamados queijos duros varia de lisa e fácil de cortar até a áspera e granulad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eijos duros: Emmenthal,  Gruyère,  Grana (parmesão),  Provolone,  Pecorino,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hedar e Gou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eijos macios: Brie e Camember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eijos azuis:    Roquefort e Gorgonzo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eijos frescos: Queijo de cabra, Cream Cheese, Ricota, Cottage, Mascarpone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72160" y="1371600"/>
            <a:ext cx="30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S TIPOS DE QUEIJ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09680" y="68580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38080" y="2209680"/>
            <a:ext cx="746784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É um queijo holandês, de corte, produzido em várias regiões a partir de leite de vaca pasteurizado ou de leite cru, que mas é menos comum, com formato redondo, pesando de 5 kg a 10 k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casca é muito lisa e de cor vermelh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pois de maturado (após 18 meses) ganha uma consistência um pouco granulosa, a parte interna ganha uma cor amarelo-escuro e seu sabor se torna mais complex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m poucos meses de maturação já é firme, de textura lisa e flexív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parte interna é permeada por pequenos burac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sabor do queijo mais jovem é frutado e doce, mas à medida que envelhece o seu sabor e aroma se intensifica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xistem algumas versões de GOUDA que incluem temperos como alho, cebola ou cominh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52840" y="5486400"/>
            <a:ext cx="6974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o us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eijo de mesa, pode ser usado em sanduíches frios e em gratinado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105520" y="1295280"/>
            <a:ext cx="8222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OUDA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2286000"/>
            <a:ext cx="7848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riginário do norte da Itália, é produzido com leite de vaca sendo o tradicional, com leite cru e a versão mais moderna, com leite pasteurizado e apresenta um alto teor de gordu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em forma de um tambor pesando de 6 kg a 12 k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textura interna tem veios de mofo que vão do cinza ao azul, obtidos pela presença da penicillium gorgonzola (ou glaucum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s diferentes métodos de fabricação, o tipo de mofo e a quantidade de sal dão origem a uma variedade de queijos, mas os mais famosos são o gorgonzola doce, suave, e o picante, esse de sabor mais intens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s curados em grutas (na versão mais tradicional) resultam nos melhores gorgonzol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070600"/>
            <a:ext cx="8001000" cy="16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o us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lém de ser consumido ao natural, o gorgonzola pode ser usado no preparo de molhos, misturado com creme de leite, para massas, no recheio de tortas ou em pastas para canapê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09680" y="762120"/>
            <a:ext cx="1447920" cy="1085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800600" y="1371600"/>
            <a:ext cx="16160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ORGONZOLA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3520" y="2819520"/>
            <a:ext cx="80769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É produzido com leite de ovelha não-pasteurizado ao qual é adicionado o mofo penicillium roquefort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umidade e a quantidade de ar no local de maturação, necessárias para que o mofo se desenvolva no queijo, são rigorosamente controlad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riginário da região de Rouergue, França, tem forma cilíndrica e pesa  2 a 3 k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casca é pegajosa de cor marfim bem clara e a textura é macia, com um aroma característico e sabor que pode ser mais ou menos picante de acordo com o grau de maturaçã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4952880"/>
            <a:ext cx="79250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o us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eijo de mesa, pode ser servido com pão ou acompanhado de nozes e frutas secas. Fica gostoso em saladas com verduras, como radicchio e endív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33720" y="838080"/>
            <a:ext cx="1904760" cy="1428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5257800" y="1447920"/>
            <a:ext cx="14320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OQUEFOR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cc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09480" y="2133720"/>
            <a:ext cx="83059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 origem suíça (há também o alemão e o francês), o queijo Emmenthal se caracteriza pelo grande número de buracos, quanto menores e mais redondos, mais forte e picante o queij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aroma do queijo jovem, até 3 meses, é suave, ligeiramente adocicado e frutado, com sabor de noz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s queijos mais curados, de 4 a 5 meses, são mais fortes e pican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Emmenthal é fabricado com leite cru de vaca e cada peça tem de 60 a 130 k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casca natural é fina e dura, com uma cor beige-amarelad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xistem ainda os chamados Emmenthal de massa dura, fabricados com leite pasteurizad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1752480" cy="1311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09480" y="4673520"/>
            <a:ext cx="8070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o us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Emmenthal é usado para gratinados (ralado) e no preparo da fondue. Assim como o gruyère, pode entrar na composição da clássica sopa de cebola francesa  Experimente incluí-lo no preparo de omeletes ou ralado sobre batatas cozidas, temperadas com ervas e azeite de oliva e levadas ao forno para gratinar. Fica bom, ainda, em sanduí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930920" y="1066680"/>
            <a:ext cx="14698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MMENTHAL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01:07:44Z</dcterms:created>
  <dc:creator>Vania Mayer</dc:creator>
  <dc:description/>
  <dc:language>en-US</dc:language>
  <cp:lastModifiedBy>Vania Mayer</cp:lastModifiedBy>
  <dcterms:modified xsi:type="dcterms:W3CDTF">2009-02-26T19:44:26Z</dcterms:modified>
  <cp:revision>6</cp:revision>
  <dc:subject/>
  <dc:title>Slide 1</dc:title>
</cp:coreProperties>
</file>