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8326-B0FB-482C-9875-217F2609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FA34-CE16-4109-A7CC-3EAE117E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34C5-5202-4DA6-8B47-1959C937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DBD5-0861-4486-B0C1-59069BCA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0641-96C2-49D1-9FD3-D38AA0F8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E218-86DD-449C-B6F8-1C42B43B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DC47-01BA-43FD-8F83-7D822F5B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6F35-C398-4690-ACDD-8CB8D236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8BAE-CBA8-4D12-BFA7-834CA2B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1D12-4343-4D60-A318-4EEC7713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F786-D6C7-4D47-A9AA-9947263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4EFB-250F-415C-9EEB-7A01F324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936-B663-463F-BE12-C9F82E2D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4D1C-0632-4502-BF20-F58406B1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FFA-4FF8-462B-892F-1DECC08F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192D-2BD6-4CD3-A3F3-1567B561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4831-DC36-4E67-B7E6-4BC9D1C9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13C1-1DDA-4DAE-9EE5-89C253D7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D968-DB45-47F5-8BDC-A7D38813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EE7D-AC80-4C1E-9A3E-6A42B631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B4D2-DD54-4401-9DEB-7993B5BE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E397-5AAF-4F9D-B32D-E5DE0A7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8E0E-7FF7-429E-A2EF-74779E92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8C73-D120-4452-BCB7-4E14AC9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5D5E-D74F-49DB-A851-AB963F966D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F342-20AF-4DDA-BB4B-BD0100900D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Concurso Sony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A empresa Sony organizou um concurso no qual os ganhadores serão premiados co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349360"/>
            <a:ext cx="784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273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- Uma viagem de 15 dia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o Japão, incluindo a passagem aérea (ida e volta, desde a capital do país de residência do ganhador), seguro de viagem e hotel 5 estrelas em Tóquio, com direito a um acompanhante, ma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8560" indent="-273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- Cem mil dólares (U$S 100.000,0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005360"/>
            <a:ext cx="828036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Na verdade</a:t>
            </a:r>
            <a:r>
              <a:rPr b="1" lang="pt-PT" sz="1800" spc="-1" strike="noStrike">
                <a:solidFill>
                  <a:srgbClr val="ffff00"/>
                </a:solidFill>
                <a:latin typeface="Comic Sans MS"/>
              </a:rPr>
              <a:t>, este Concurso é um desafio pelo qual a Sony exibe sua altíssima tecnologia en fotografia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00"/>
                </a:solidFill>
                <a:latin typeface="Comic Sans MS"/>
              </a:rPr>
              <a:t>Para vencer, é necessário identificar na foto segui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- quem está com sono, 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- quem está quase dormindo, 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- quem acordou agora, e 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- quem são os dois gêmeos.</a:t>
            </a:r>
            <a:r>
              <a:rPr b="0" lang="pt-P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4880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16720" y="6093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A SORTE 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602136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Envie sua resposta a: sonyconcurso@son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96840"/>
            <a:ext cx="3527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1) Quem está com sono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2) Q</a:t>
            </a: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uem está quase dormindo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27640" y="12852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3) Quem acordou agora</a:t>
            </a:r>
            <a:r>
              <a:rPr b="0" lang="pt-PT" sz="1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4) Quem são os dois gêmeos</a:t>
            </a:r>
            <a:r>
              <a:rPr b="0" lang="pt-PT" sz="1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8:00:16Z</dcterms:created>
  <dc:creator>Renan Calheiros</dc:creator>
  <dc:description/>
  <dc:language>en-US</dc:language>
  <cp:lastModifiedBy>CODI</cp:lastModifiedBy>
  <dcterms:modified xsi:type="dcterms:W3CDTF">2008-04-28T22:54:55Z</dcterms:modified>
  <cp:revision>12</cp:revision>
  <dc:subject/>
  <dc:title>Concurso Sony</dc:title>
</cp:coreProperties>
</file>