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A5F3-64F7-403D-ACC0-C39DE74A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69C0-1DC8-4D73-8217-D4556996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498B1-5E5D-4CDC-A633-259EDCEB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227A-9370-43B2-865F-B8469A8F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CA40-B17E-4EAA-96D8-8F942E1D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F572-1FC2-4686-AA42-C905B3E7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9664-AF69-48BF-8F00-62C57ACE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09CF-872A-42FE-B0CF-DD0B4378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98EC-7A7A-41AE-AD75-DF68E12B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171C-3C88-4A8D-9FFC-ADFBA417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DF7B-A9C2-49A1-A307-5004F60A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4C42-C005-499C-ABE3-94C85391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04D3-D111-4680-919C-FB47DB87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3139-77FC-410C-B67C-FE401AEF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BFB4-7811-4F4F-B239-DCB8A422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6898-F48D-456A-A13E-C2B6787B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C571-7B58-45BC-8835-55491C2A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4760-1A84-4E1C-B1F6-7EEAC428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26C89-6F3D-4AC5-A8FA-FC4C31F1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FEB7-A99E-41B1-BA7A-FF8B7982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F8754-6E57-44C8-8DCB-5B8499E1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4AB83-B507-4AD0-A3B0-4A956F53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9125-47DB-46C8-A254-6BCF66B3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C0894-CCA4-4EE8-AF1D-80013710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9250-B42E-433B-A589-9722EBF435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A9A7-9600-4E13-86C4-6C7C8652B0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Concurso Sony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2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A empresa Sony organizou um concurso no qual os ganhadores serão premiados co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2349360"/>
            <a:ext cx="784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8560" indent="-273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- Uma viagem de 15 dia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o Japão, incluindo a passagem aérea (ida e volta, desde a capital do país de residência do ganhador), seguro de viagem e hotel 5 estrelas em Tóquio, com direito a um acompanhante, ma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98560" indent="-273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- Cem mil dólares (U$S 100.000,0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005360"/>
            <a:ext cx="828036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Na verdade</a:t>
            </a:r>
            <a:r>
              <a:rPr b="1" lang="pt-PT" sz="1800" spc="-1" strike="noStrike">
                <a:solidFill>
                  <a:srgbClr val="ffff00"/>
                </a:solidFill>
                <a:latin typeface="Comic Sans MS"/>
              </a:rPr>
              <a:t>, este Concurso é um desafio pelo qual a Sony exibe sua altíssima tecnologia en fotografia digi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00"/>
                </a:solidFill>
                <a:latin typeface="Comic Sans MS"/>
              </a:rPr>
              <a:t>Para vencer, é necessário identificar na foto seguin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800"/>
            </a:b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- quem está com sono, 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- quem está quase dormindo, 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- quem acordou agora, e 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- quem são os dois gêmeos.</a:t>
            </a:r>
            <a:r>
              <a:rPr b="0" lang="pt-P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988920"/>
            <a:ext cx="9144000" cy="4880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516720" y="60930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A SORTE 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6021360"/>
            <a:ext cx="62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Envie sua resposta a: sonyconcurso@sony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96840"/>
            <a:ext cx="3527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1) Quem está com sono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2) Q</a:t>
            </a: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uem está quase dormindo</a:t>
            </a: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?</a:t>
            </a: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27640" y="12852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3) Quem acordou agora</a:t>
            </a:r>
            <a:r>
              <a:rPr b="0" lang="pt-PT" sz="1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4) Quem são os dois gêmeos</a:t>
            </a:r>
            <a:r>
              <a:rPr b="0" lang="pt-PT" sz="1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8:00:16Z</dcterms:created>
  <dc:creator>Renan Calheiros</dc:creator>
  <dc:description/>
  <dc:language>en-US</dc:language>
  <cp:lastModifiedBy>CODI</cp:lastModifiedBy>
  <dcterms:modified xsi:type="dcterms:W3CDTF">2008-04-28T22:54:55Z</dcterms:modified>
  <cp:revision>12</cp:revision>
  <dc:subject/>
  <dc:title>Concurso Sony</dc:title>
</cp:coreProperties>
</file>