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Kenny%20G18.wav" ContentType="audio/x-wav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84C-9760-4C6B-83D5-28AF518A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5BE-5377-4901-B14C-B94A7E5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47F-98E2-4941-A4BA-3405C64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10D-87AF-4F62-AA21-46D63393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B73-4977-48B2-8EA9-690FD02C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D6A-2F57-451A-86B6-798C67B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FF3-11B5-4892-BB33-339305F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5C4-7831-4F15-86DA-343C82F5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F62-0658-47D6-8663-0FFCA9B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B95-6EDA-461D-9F08-4E5009F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E6B-CF3C-438E-A6D4-C478649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DA8-71CA-4964-8DCC-0A3CFC2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7C9-BCF5-4982-9B88-55E93726E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enny%20G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9144000" cy="550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alligula"/>
              </a:rPr>
              <a:t>Muito belo e significante!!!</a:t>
            </a:r>
            <a:r>
              <a:rPr b="1" i="1" lang="en-US" sz="4800" spc="-1" strike="noStrike">
                <a:solidFill>
                  <a:srgbClr val="000000"/>
                </a:solidFill>
                <a:latin typeface="Calligul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Dream Orphans"/>
              </a:rPr>
              <a:t> </a:t>
            </a:r>
            <a:r>
              <a:rPr b="1" i="1" lang="en-US" sz="6000" spc="-1" strike="noStrike">
                <a:solidFill>
                  <a:srgbClr val="ff0000"/>
                </a:solidFill>
                <a:latin typeface="Georgia"/>
              </a:rPr>
              <a:t>" João 3:16"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300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ado por Pastor Marcos Nas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ação: Kélen Rez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Kenny%20G1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90792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utro dia, de manhã, a bondosa senhora preparou  uma  bela e farta mesa e o  convidou para o café da manhã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do o garoto terminou  de comer, ela o levou  até a cadeira de balanço, próximo ao fogão de lenh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ois seguiu até uma  prateleira e apanhou u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ro grande, de capa escur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a uma Bíblia. Ela  voltou, sentou-se nu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utra cadeira, próximo ao  garoto  e olhou dentr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  olhos dele, de maneira doce e amigá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620640"/>
            <a:ext cx="81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"Você entende João 3:16, filho?"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"Não, senhora... eu não entendo... A primeira vez que  ouvi isso foi ontem à  noite... um policial que falou..."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a concordou com a cabeça, abriu a Bíblia 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ão 3:16  e começou a explicar  sobre Jesu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ali, aquecido junto ao velho fogão de  lenha, 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oto  entregou o coração e a vida a Jesus. E enquanto lágrimas de felicidade deixavam seus olhos e rolavam face à baixo, ele pensou  consigo mesmo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João  3:16... ainda não entendo muito bem o que isso  significa, mas agora sei que  isso faz um garoto perdido se sentir realmente  seguro"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125360"/>
            <a:ext cx="8280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"Porque Deus amou o mundo de tal maneira, que deu seu único Filho para que todo aquele que nele crê, não pereça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 tenha a vida eterna." (João 3:16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us não mandou Jesus para condenar o mundo, mas sim   para salvá-lo. Aquele   que crer em Jesus  não será condenad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 terá a vida  eterna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07920"/>
            <a:ext cx="82803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você não se  envergonha do grande amor de Deus por nós, faça o seguint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ça uma pequena oração pela pessoa que lhe mandou essa mensagem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Pai, abençoe a pessoa que me enviou esta mensagem e lhe dê o que o Senhor  sabe que ela precisa pra hoje!!!)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907920"/>
            <a:ext cx="828036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pois mande esta mensagem para outras pessoas, se você não puder repassar, não irá acontecer 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 você, apenas deixará de melhorar um  pouco o dia dos seus amigos..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entro de poucas horas, várias pessoas já terão orado  por você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858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ém  disso, você fará com que uma multidão 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pessoas ore  por outras pesso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924280"/>
            <a:ext cx="5707080" cy="57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pois diss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nte-se, relaxe e sinta o poder d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us agind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3068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8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3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8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e por um instante e le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ale a pen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862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622600"/>
            <a:ext cx="7775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 cidade de São Paulo, numa noite fria e escura  de  inverno, próximo a uma  esquina por onde passavam várias pessoas, um garotinho  vendia balas a fim de conseguir alguns trocados. Mas o frio estava  intenso e  as pessoas já não paravam mais quando ele as chamava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7920"/>
            <a:ext cx="8748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m conseguir  vender mais nenhuma bala,  el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sentou na escada em frente a uma loja e ficou  observando o movimento das  pessoa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495520"/>
            <a:ext cx="80769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m que ele percebesse, um policial se aproximou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-"Está perdido, filho?"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O garoto balançou a cabeça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-"Só estou pensando onde vou passar a  noite  hoje...  normalmente durmo em  minha cai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  papelão, perto do correio,   mas   hoje o   frio está  terrível..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907920"/>
            <a:ext cx="813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O  senhor sabe me dizer se há algum lugar  onde eu  possa  passar esta noite?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policial mirou-o por uns instantes e coçou a cabeça,  pensativo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 -"Se você descer por esta rua", disse ele apontando o  polegar na direção de  uma rua, à esquerda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á embaixo vai  encontrar um casarão branco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egando  lá, bata na porta e  quando atenderem apena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 diga:  "João  3:16 "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98100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m fez o garoto. Desceu a rua estreita e    quando  chegou em frente ao  casarão branco, subiu os degraus da escada e bateu na   port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m atendeu  foi uma mulher idosa, de feição bondos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João 3:16"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isse ele, sem entender direit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600" y="765000"/>
            <a:ext cx="8675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- "Entre, meu filho"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A voz era meiga e agradável.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ssim que ele entrou, foi conduzido por ela  até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  cozinha onde havia uma  cadeira de balanço antiga,bem ao lado de um velho  fogão de lenha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 -"Sente-se, filho, e espere um instante, tá?"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garoto se sentou e, enquanto observava a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ondosa  mulher se afastar, pensou  consigo mesmo: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"João 3:16... Eu não entendo o  que isso  significa mas sei que  aquece                              a um garoto com frio".</a:t>
            </a: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120"/>
            <a:ext cx="9144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uco tempo depois  a  mulher voltou.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"Você está com fome?"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, perguntou ela.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"Estou um pouquinho, sim... há dois dias nã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como nada  e meu  estômago já  começa a roncar.."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mulher então o levou até a sala de jantar, ond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havia  uma mesa repleta de  comida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Rapidamente o garoto sentou-se à  mes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e  começou  a comer ; comeu de  tudo, até nã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aguentar mais. Então ele pensou  consigo  mesmo: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 "João 3:16... Eu não entendo o que iss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significa, mas sei que  mata a fome de um garot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faminto".</a:t>
            </a:r>
            <a:br>
              <a:rPr sz="2800"/>
            </a:b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973080"/>
            <a:ext cx="8459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ois, a bondosa senhora o levou ao and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ior,  onde se encontrava um  quartinho com u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 banheira cheia de água quent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  garoto só esperou que a  mulher se afastasse 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ão rapidamente se despiu  e  tomou um belo banho, como há muito tempo não fazia. Enquanto esfregava  a  bucha pelo corpo pensou  consigo mesmo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João 3:16... Eu não entendo o  que isso significa, mas sei  que torna limpo um garoto que há muito tempo  estava sujo"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973080"/>
            <a:ext cx="8459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erca de meia  hora depois a bondosa mulher volto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e levou o  garoto até um quarto onde  havia uma cama de madeira,  a  antiga, mas grande e confortável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a o abraçou, deu-lhe um beijo na testa e, apó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deitá-  lo na cama, desligou  a luz e saiu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e se virou para o canto e ficou  imóvel,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bservando a garoa  que caía do outro lado do vidr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da janela. E ali, confortável como nunca,  ele penso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sigo mesmo: 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"João 3:16... Eu não entendo  o que isso   significa,  mas sei que dá repouso a um garoto cansado"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6:08:51Z</dcterms:created>
  <dc:creator>vvv.garcia@ig.com.br</dc:creator>
  <dc:description>Até onde vai a tua amizade</dc:description>
  <dc:language>en-US</dc:language>
  <cp:lastModifiedBy>Kelen Rezende</cp:lastModifiedBy>
  <dcterms:modified xsi:type="dcterms:W3CDTF">2006-02-02T16:03:28Z</dcterms:modified>
  <cp:revision>33</cp:revision>
  <dc:subject/>
  <dc:title>Apresentação do PowerPoint</dc:title>
</cp:coreProperties>
</file>