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Kenny%20G18.wav" ContentType="audio/x-wav"/>
  <Override PartName="/ppt/media/image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D6B2-AEAE-4041-A909-DDF32ABE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C73-D2CB-47EB-A1D6-49F75AF4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CAF-23CB-4BF9-91F3-9D22BD0F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840-EA65-4BD8-A8A0-8703544B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F7A4-AC0D-4FC4-A276-A4F9C1BC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A650-E8B1-42FB-93EA-78802CBA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A55-BD8B-42AB-8ED5-2C5D4E8C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4720-2FFD-4824-A4E4-228A7BD1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338-BD54-4FB5-84C6-92714AF4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F70F-279C-404E-A47C-4731BB73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701C-5267-4680-9631-D7844B83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0626-2922-4B0E-A366-07BBDEF7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F360-BD22-42CD-B2EF-93E3C0E6A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enny%20G18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066680"/>
            <a:ext cx="9144000" cy="550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alligula"/>
              </a:rPr>
              <a:t>Muito belo e significante!!!</a:t>
            </a:r>
            <a:r>
              <a:rPr b="1" i="1" lang="en-US" sz="4800" spc="-1" strike="noStrike">
                <a:solidFill>
                  <a:srgbClr val="000000"/>
                </a:solidFill>
                <a:latin typeface="Calligul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Dream Orphans"/>
              </a:rPr>
              <a:t> </a:t>
            </a:r>
            <a:r>
              <a:rPr b="1" i="1" lang="en-US" sz="6000" spc="-1" strike="noStrike">
                <a:solidFill>
                  <a:srgbClr val="ff0000"/>
                </a:solidFill>
                <a:latin typeface="Georgia"/>
              </a:rPr>
              <a:t>" João 3:16"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5300640"/>
            <a:ext cx="60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ssado por Pastor Marcos Nas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ação: Kélen Rez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2" name="Kenny%20G1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907920"/>
            <a:ext cx="828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outro dia, de manhã, a bondosa senhora preparou  uma  bela e farta mesa e o  convidou para o café da manhã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ndo o garoto terminou  de comer, ela o levou  até a cadeira de balanço, próximo ao fogão de lenha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ois seguiu até uma  prateleira e apanhou u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vro grande, de capa escura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a uma Bíblia. Ela  voltou, sentou-se num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utra cadeira, próximo ao  garoto  e olhou dentr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s  olhos dele, de maneira doce e amigável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620640"/>
            <a:ext cx="8136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-"Você entende João 3:16, filho?"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-"Não, senhora... eu não entendo... A primeira vez que  ouvi isso foi ontem à  noite... um policial que falou..."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a concordou com a cabeça, abriu a Bíblia e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ão 3:16  e começou a explicar  sobre Jesu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ali, aquecido junto ao velho fogão de  lenha, 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oto  entregou o coração e a vida a Jesus. E enquanto lágrimas de felicidade deixavam seus olhos e rolavam face à baixo, ele pensou  consigo mesmo: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"João  3:16... ainda não entendo muito bem o que isso  significa, mas agora sei que  isso faz um garoto perdido se sentir realmente  seguro" 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1125360"/>
            <a:ext cx="828036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"Porque Deus amou o mundo de tal maneira, que deu seu único Filho para que todo aquele que nele crê, não pereça,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s tenha a vida eterna." (João 3:16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us não mandou Jesus para condenar o mundo, mas sim   para salvá-lo. Aquele   que crer em Jesus  não será condenad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s terá a vida  eterna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07920"/>
            <a:ext cx="828036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 você não se  envergonha do grande amor de Deus por nós, faça o seguint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ça uma pequena oração pela pessoa que lhe mandou essa mensagem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Pai, abençoe a pessoa que me enviou esta mensagem e lhe dê o que o Senhor  sabe que ela precisa pra hoje!!!)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907920"/>
            <a:ext cx="828036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pois mande esta mensagem para outras pessoas, se você não puder repassar, não irá acontecer n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 você, apenas deixará de melhorar um  pouco o dia dos seus amigos....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Dentro de poucas horas, várias pessoas já terão orado  por você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8580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ém  disso, você fará com que uma multidão d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pessoas ore  por outras pessoa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924280"/>
            <a:ext cx="5707080" cy="578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epois disso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ente-se, relaxe e sinta o poder d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eus agindo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300720" y="2781360"/>
            <a:ext cx="230688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8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300"/>
                            </p:stCondLst>
                            <p:childTnLst>
                              <p:par>
                                <p:cTn id="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83808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   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are por um instante e lei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Vale a pena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88620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2622600"/>
            <a:ext cx="77756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 cidade de São Paulo, numa noite fria e escura  de  inverno, próximo a uma  esquina por onde passavam várias pessoas, um garotinho  vendia balas a fim de conseguir alguns trocados. Mas o frio estava  intenso e  as pessoas já não paravam mais quando ele as chamava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07920"/>
            <a:ext cx="8748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m conseguir  vender mais nenhuma bala,  ele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 sentou na escada em frente a uma loja e ficou  observando o movimento das  pessoas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495520"/>
            <a:ext cx="807696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m que ele percebesse, um policial se aproximou.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-"Está perdido, filho?"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 O garoto balançou a cabeça.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-"Só estou pensando onde vou passar a  noite  hoje...  normalmente durmo em  minha caix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e  papelão, perto do correio,   mas   hoje o   frio está  terrível..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907920"/>
            <a:ext cx="813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-O  senhor sabe me dizer se há algum lugar  onde eu  possa  passar esta noite?"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policial mirou-o por uns instantes e coçou a cabeça,  pensativo.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 -"Se você descer por esta rua", disse ele apontando o  polegar na direção de  uma rua, à esquerda,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á embaixo vai  encontrar um casarão branco;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hegando  lá, bata na porta e  quando atenderem apena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 diga:  "João  3:16 "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98100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im fez o garoto. Desceu a rua estreita e    quando  chegou em frente ao  casarão branco, subiu os degraus da escada e bateu na   porta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em atendeu  foi uma mulher idosa, de feição bondosa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"João 3:16"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isse ele, sem entender direito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2600" y="765000"/>
            <a:ext cx="867564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- "Entre, meu filho".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A voz era meiga e agradável.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ssim que ele entrou, foi conduzido por ela  até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  cozinha onde havia uma  cadeira de balanço antiga,bem ao lado de um velho  fogão de lenha</a:t>
            </a:r>
            <a:br>
              <a:rPr sz="3200"/>
            </a:b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 -"Sente-se, filho, e espere um instante, tá?"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 garoto se sentou e, enquanto observava a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bondosa  mulher se afastar, pensou  consigo mesmo: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"João 3:16... Eu não entendo o  que isso  significa mas sei que  aquece                              a um garoto com frio".</a:t>
            </a:r>
            <a:br>
              <a:rPr sz="3200"/>
            </a:br>
            <a:br>
              <a:rPr sz="32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62120"/>
            <a:ext cx="914400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ouco tempo depois  a  mulher voltou.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-"Você está com fome?"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, perguntou ela.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-"Estou um pouquinho, sim... há dois dias não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 como nada  e meu  estômago já  começa a roncar.."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 mulher então o levou até a sala de jantar, onde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 havia  uma mesa repleta de  comida.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 Rapidamente o garoto sentou-se à  mesa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 e  começou  a comer ; comeu de  tudo, até nã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 aguentar mais. Então ele pensou  consigo  mesmo: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  "João 3:16... Eu não entendo o que isso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 significa, mas sei que  mata a fome de um garoto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faminto".</a:t>
            </a:r>
            <a:br>
              <a:rPr sz="2800"/>
            </a:b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973080"/>
            <a:ext cx="8459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ois, a bondosa senhora o levou ao anda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erior,  onde se encontrava um  quartinho com um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      banheira cheia de água quent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  garoto só esperou que a  mulher se afastasse 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ão rapidamente se despiu  e  tomou um belo banho, como há muito tempo não fazia. Enquanto esfregava  a  bucha pelo corpo pensou  consigo mesmo: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"João 3:16... Eu não entendo o  que isso significa, mas sei  que torna limpo um garoto que há muito tempo  estava sujo"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973080"/>
            <a:ext cx="84596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erca de meia  hora depois a bondosa mulher voltou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 e levou o  garoto até um quarto onde  havia uma cama de madeira,  a  antiga, mas grande e confortável.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la o abraçou, deu-lhe um beijo na testa e, após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 deitá-  lo na cama, desligou  a luz e saiu.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le se virou para o canto e ficou  imóvel,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bservando a garoa  que caía do outro lado do vidr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 da janela. E ali, confortável como nunca,  ele pensou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onsigo mesmo:  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"João 3:16... Eu não entendo  o que isso   significa,  mas sei que dá repouso a um garoto cansado"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6:08:51Z</dcterms:created>
  <dc:creator>vvv.garcia@ig.com.br</dc:creator>
  <dc:description>Até onde vai a tua amizade</dc:description>
  <dc:language>en-US</dc:language>
  <cp:lastModifiedBy>Kelen Rezende</cp:lastModifiedBy>
  <dcterms:modified xsi:type="dcterms:W3CDTF">2006-02-02T16:03:28Z</dcterms:modified>
  <cp:revision>33</cp:revision>
  <dc:subject/>
  <dc:title>Apresentação do PowerPoint</dc:title>
</cp:coreProperties>
</file>