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juliio.wav" ContentType="audio/x-wav"/>
  <Override PartName="/ppt/media/image9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bisbal.wav" ContentType="audio/x-wav"/>
  <Override PartName="/ppt/media/applaus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9435-1498-4699-B7CC-302CC7569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C26B-2C86-45B7-BD4A-562C88BA5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82D5-90ED-4BB4-958A-FA53E393C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5408-2D73-40B4-AA46-657A3E713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6E9B-5F73-4881-BB2D-800C2AF9E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B627-5C2D-49FD-A02A-91EF4AD38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55A9-2DDA-424A-85F1-F27AFCE59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0EB8-B5BA-4F7A-AEA3-C7DD4236C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9F63-41CF-41A6-BAEA-13F990DDE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BCD7-03A3-457F-B491-E911E093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F138-2D70-4A6A-8401-7B388087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F6E3-2814-4C0E-9F44-50F69FB9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A36FF-D8F8-4F72-9FD3-DA771C07A4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file:///usr/lib/libreoffice/share/gallery/sounds/applause.wav" TargetMode="External"/><Relationship Id="rId2" Type="http://schemas.microsoft.com/office/2007/relationships/media" Target="file:///usr/lib/libreoffice/share/gallery/sounds/applause.wav" TargetMode="External"/><Relationship Id="rId3" Type="http://schemas.openxmlformats.org/officeDocument/2006/relationships/image" Target="../media/image4.png"/><Relationship Id="rId4" Type="http://schemas.openxmlformats.org/officeDocument/2006/relationships/audio" Target="../media/juliio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bisbal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250920" y="620640"/>
            <a:ext cx="8642160" cy="60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ccff"/>
                </a:solidFill>
                <a:latin typeface="Tempus Sans ITC"/>
              </a:rPr>
              <a:t>O vendedor  lhe  garantiu  que o  radio  é  o  que  há de  mais  moderno no mun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ccff"/>
                </a:solidFill>
                <a:latin typeface="Tempus Sans ITC"/>
              </a:rPr>
              <a:t>No  entanto, ao  ligá-lo este  não  emite  nenhum  som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ccff"/>
                </a:solidFill>
                <a:latin typeface="Tempus Sans ITC"/>
              </a:rPr>
              <a:t>Indignada, ela retorna   `a concessioná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lamborghini3"/>
          <p:cNvPicPr/>
          <p:nvPr/>
        </p:nvPicPr>
        <p:blipFill>
          <a:blip r:embed="rId1"/>
          <a:stretch/>
        </p:blipFill>
        <p:spPr>
          <a:xfrm>
            <a:off x="324000" y="765000"/>
            <a:ext cx="4608360" cy="2583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148360" y="476280"/>
            <a:ext cx="367164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ccff"/>
                </a:solidFill>
                <a:latin typeface="Tempus Sans ITC"/>
              </a:rPr>
              <a:t>Uma   mulher, NA  FRANÇA  compra  um  carro  de  luxo, super  equipado  de  equipamentos  digitai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250920" y="2565360"/>
            <a:ext cx="8686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1" lang="es-ES" sz="6600" spc="-1" strike="noStrike">
                <a:solidFill>
                  <a:srgbClr val="ffffff"/>
                </a:solidFill>
                <a:latin typeface="Tempus Sans ITC"/>
              </a:rPr>
              <a:t>-Filho  da  puuutaa  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ZoneTexte 4"/>
          <p:cNvSpPr/>
          <p:nvPr/>
        </p:nvSpPr>
        <p:spPr>
          <a:xfrm>
            <a:off x="1476360" y="692280"/>
            <a:ext cx="630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Tempus Sans ITC"/>
                <a:ea typeface="Arial"/>
              </a:rPr>
              <a:t>Furiosamente  a  mulher  grita  de  todo  pulmão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ZoneTexte 4"/>
          <p:cNvSpPr/>
          <p:nvPr/>
        </p:nvSpPr>
        <p:spPr>
          <a:xfrm>
            <a:off x="971640" y="4365720"/>
            <a:ext cx="705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Tempus Sans ITC"/>
                <a:ea typeface="Arial"/>
              </a:rPr>
              <a:t>E    a  maravilha  tecnológica   de  seu  rádio, lhe  pergunta 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Tempus Sans ITC"/>
                <a:ea typeface="Arial"/>
              </a:rPr>
              <a:t>  </a:t>
            </a:r>
            <a:r>
              <a:rPr b="1" lang="fr-FR" sz="2800" spc="-1" strike="noStrike">
                <a:solidFill>
                  <a:srgbClr val="ffff00"/>
                </a:solidFill>
                <a:latin typeface="Tempus Sans ITC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WordArt 4"/>
          <p:cNvSpPr txBox="1"/>
          <p:nvPr/>
        </p:nvSpPr>
        <p:spPr>
          <a:xfrm>
            <a:off x="1116000" y="5229360"/>
            <a:ext cx="73454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LULA  OU  CHAVEZ 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324000" y="26028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Tempus Sans ITC"/>
              </a:rPr>
              <a:t>    </a:t>
            </a:r>
            <a:r>
              <a:rPr b="1" lang="es-ES" sz="3200" spc="-1" strike="noStrike">
                <a:solidFill>
                  <a:srgbClr val="ffffff"/>
                </a:solidFill>
                <a:latin typeface="Tempus Sans ITC"/>
              </a:rPr>
              <a:t>Qual dos dois 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6" descr="C:\Documents and Settings\Pab\Desktop\419px-Chavez_CASA_cropped_1.jpg"/>
          <p:cNvPicPr/>
          <p:nvPr/>
        </p:nvPicPr>
        <p:blipFill>
          <a:blip r:embed="rId1"/>
          <a:stretch/>
        </p:blipFill>
        <p:spPr>
          <a:xfrm>
            <a:off x="5143680" y="1000080"/>
            <a:ext cx="2714400" cy="388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C:\Documents and Settings\Pab\Desktop\lula.jpg"/>
          <p:cNvPicPr/>
          <p:nvPr/>
        </p:nvPicPr>
        <p:blipFill>
          <a:blip r:embed="rId2"/>
          <a:stretch/>
        </p:blipFill>
        <p:spPr>
          <a:xfrm>
            <a:off x="1071720" y="1000080"/>
            <a:ext cx="2820960" cy="38638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324000" y="6237360"/>
            <a:ext cx="85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empus Sans ITC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Tempus Sans ITC"/>
              </a:rPr>
              <a:t>ESTE  E-MAIL  FOI  PRODUZIDO  NA  FRANÇA  !    … EU  SÓ  FIZ  A  TRADUÇÃO!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684360" y="404640"/>
            <a:ext cx="778644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empus Sans ITC"/>
              </a:rPr>
              <a:t>- Escuta  aquí, meu  amigo. O ràdio deste carro  tá  quebrado. Ele  não  toca  nada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empus Sans ITC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empus Sans ITC"/>
              </a:rPr>
              <a:t>- Não Madame. Ele funciona très bien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empus Sans ITC"/>
              </a:rPr>
              <a:t>  </a:t>
            </a:r>
            <a:r>
              <a:rPr b="0" lang="es-ES" sz="3600" spc="-1" strike="noStrike">
                <a:solidFill>
                  <a:srgbClr val="000000"/>
                </a:solidFill>
                <a:latin typeface="Tempus Sans ITC"/>
              </a:rPr>
              <a:t>mas ele obedece  à  sua voz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empus Sans ITC"/>
              </a:rPr>
              <a:t>- À minha  voz! Como isso  funcion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empus Sans ITC"/>
              </a:rPr>
              <a:t>- Eu  vou  lhe  mostrar.- diz o vendedo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1333440" y="2143080"/>
            <a:ext cx="64771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cc"/>
                </a:solidFill>
                <a:latin typeface="Tempus Sans ITC"/>
              </a:rPr>
              <a:t>O vendedor entra  no  carro  e  diz  com  voz  alta  e clara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cc"/>
                </a:solidFill>
                <a:latin typeface="Tempus Sans ITC"/>
              </a:rPr>
              <a:t>                 </a:t>
            </a:r>
            <a:r>
              <a:rPr b="1" lang="es-ES" sz="3600" spc="-1" strike="noStrike">
                <a:solidFill>
                  <a:srgbClr val="0000cc"/>
                </a:solidFill>
                <a:latin typeface="Tempus Sans ITC"/>
              </a:rPr>
              <a:t>IGLÉSIAS  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ccccff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iglesiasjulio"/>
          <p:cNvPicPr/>
          <p:nvPr/>
        </p:nvPicPr>
        <p:blipFill>
          <a:blip r:embed="rId1"/>
          <a:stretch/>
        </p:blipFill>
        <p:spPr>
          <a:xfrm>
            <a:off x="5292720" y="1484280"/>
            <a:ext cx="2585880" cy="25592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enriqueiglesias"/>
          <p:cNvPicPr/>
          <p:nvPr/>
        </p:nvPicPr>
        <p:blipFill>
          <a:blip r:embed="rId2"/>
          <a:stretch/>
        </p:blipFill>
        <p:spPr>
          <a:xfrm>
            <a:off x="1403280" y="155736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48" name="WordArt 6"/>
          <p:cNvSpPr txBox="1"/>
          <p:nvPr/>
        </p:nvSpPr>
        <p:spPr>
          <a:xfrm>
            <a:off x="928800" y="4365720"/>
            <a:ext cx="7429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ENRIQUE  OU  JULIO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468360" y="404640"/>
            <a:ext cx="838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empus Sans ITC"/>
              </a:rPr>
              <a:t>         </a:t>
            </a:r>
            <a:r>
              <a:rPr b="1" lang="es-ES" sz="3200" spc="-1" strike="noStrike">
                <a:solidFill>
                  <a:srgbClr val="000000"/>
                </a:solidFill>
                <a:latin typeface="Tempus Sans ITC"/>
              </a:rPr>
              <a:t>Uma  voz  sintética  lhe  respon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1042920" y="5516640"/>
            <a:ext cx="719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empus Sans ITC"/>
              </a:rPr>
              <a:t>- Júlio ! … diz  o  vendedo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2"/>
          <p:cNvSpPr/>
          <p:nvPr/>
        </p:nvSpPr>
        <p:spPr>
          <a:xfrm>
            <a:off x="1187280" y="2637000"/>
            <a:ext cx="7220160" cy="119124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empus Sans ITC"/>
              </a:rPr>
              <a:t>E  logo, o  rádio começa  a  tocar  uma  canção  de Julio Iglesia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172360" y="6165720"/>
            <a:ext cx="720720" cy="57636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audio isNarration="0">
              <p:cMediaNode showWhenStopped="1">
                <p:cTn/>
                <p:tgtEl>
                  <p:spTgt spid="51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642960" y="928800"/>
            <a:ext cx="785808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empus Sans ITC"/>
              </a:rPr>
              <a:t>E  a  mulher  se vai  encantada !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empus Sans ITC"/>
              </a:rPr>
              <a:t>Ela  entra  no  seu  super  carro  novo, dá  partida  e  resolve  experimentar  o  super  comando  de  voz  do  rádio. E com  voz  alta  e  clara, ela  diz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empus Sans ITC"/>
              </a:rPr>
              <a:t>DAVID   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ccec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2"/>
          <p:cNvSpPr txBox="1"/>
          <p:nvPr/>
        </p:nvSpPr>
        <p:spPr>
          <a:xfrm>
            <a:off x="1428840" y="4714920"/>
            <a:ext cx="6476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BISBAL OU CIVERA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56" name="Picture 3" descr="bisbal"/>
          <p:cNvPicPr/>
          <p:nvPr/>
        </p:nvPicPr>
        <p:blipFill>
          <a:blip r:embed="rId1"/>
          <a:stretch/>
        </p:blipFill>
        <p:spPr>
          <a:xfrm>
            <a:off x="1523880" y="1905120"/>
            <a:ext cx="2362320" cy="2182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civera"/>
          <p:cNvPicPr/>
          <p:nvPr/>
        </p:nvPicPr>
        <p:blipFill>
          <a:blip r:embed="rId2"/>
          <a:stretch/>
        </p:blipFill>
        <p:spPr>
          <a:xfrm>
            <a:off x="5410080" y="190512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1908000" y="83664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empus Sans ITC"/>
              </a:rPr>
              <a:t>E  o  rádio  lhe  respon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611280" y="5877000"/>
            <a:ext cx="81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empus Sans ITC"/>
              </a:rPr>
              <a:t>- Bisbal !!! -responde  ela feliz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BULERIA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2"/>
          <p:cNvSpPr/>
          <p:nvPr/>
        </p:nvSpPr>
        <p:spPr>
          <a:xfrm>
            <a:off x="900000" y="2133720"/>
            <a:ext cx="7315200" cy="1739880"/>
          </a:xfrm>
          <a:prstGeom prst="rect">
            <a:avLst/>
          </a:prstGeom>
          <a:solidFill>
            <a:srgbClr val="cc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empus Sans ITC"/>
              </a:rPr>
              <a:t>E  o  rádio começa  a  tocar, uma  bela  canção  de David Bisbal, jovem cantor  espanho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928800" y="1500120"/>
            <a:ext cx="7429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empus Sans ITC"/>
              </a:rPr>
              <a:t>Maravilhada  com  sua  compra, pelo  nível  de  tecnologia,  ela  sai  dirigindo  destraidamente   e  num  cruzamento, um  camarada  avança  o  sinal  e  dá  uma  leve  porrada  em  seu  super  carro, super  novo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08:41:44Z</dcterms:created>
  <dc:creator>MDPER09</dc:creator>
  <dc:description/>
  <dc:language>en-US</dc:language>
  <cp:lastModifiedBy>Maninho</cp:lastModifiedBy>
  <dcterms:modified xsi:type="dcterms:W3CDTF">2008-03-13T03:54:30Z</dcterms:modified>
  <cp:revision>40</cp:revision>
  <dc:subject/>
  <dc:title>Presentación de PowerPoint</dc:title>
</cp:coreProperties>
</file>