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juliio.wav" ContentType="audio/x-wav"/>
  <Override PartName="/ppt/media/image9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bisbal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AEF-72E6-4AB7-B07B-45930CF9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193-7176-4925-80E6-7399FB4D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1BF-D7DE-45BE-939B-42EECD5F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F4D-56A4-4CC7-B45D-7F7ED1B7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C5D-3946-4994-8B17-98386E0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3FC-ADED-401A-A12C-7122634C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148-3310-44FE-8EE0-AF4466A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4DB-ECB5-4C83-86BE-99C8D688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E2E-6B9F-4AF0-B761-8EC4C886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B33-6876-49EF-8D33-58420E8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A53-4773-4326-BD6E-CA186541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1D3-18A7-41D4-AA99-3B86F31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30D0-C087-4AA3-B640-1AE273443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juliio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isba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620640"/>
            <a:ext cx="8642160" cy="60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empus Sans ITC"/>
              </a:rPr>
              <a:t>O vendedor  lhe  garantiu  que o  radio  é  o  que  há de  mais  moderno n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empus Sans ITC"/>
              </a:rPr>
              <a:t>No  entanto, ao  ligá-lo este  não  emite  nenhum  so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empus Sans ITC"/>
              </a:rPr>
              <a:t>Indignada, ela retorna   `a concession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lamborghini3"/>
          <p:cNvPicPr/>
          <p:nvPr/>
        </p:nvPicPr>
        <p:blipFill>
          <a:blip r:embed="rId1"/>
          <a:stretch/>
        </p:blipFill>
        <p:spPr>
          <a:xfrm>
            <a:off x="324000" y="76500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76280"/>
            <a:ext cx="3671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ccff"/>
                </a:solidFill>
                <a:latin typeface="Tempus Sans ITC"/>
              </a:rPr>
              <a:t>Uma   mulher, NA  FRANÇA  compra  um  carro  de  luxo, super  equipado  de  equipamentos  digita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256536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s-ES" sz="6600" spc="-1" strike="noStrike">
                <a:solidFill>
                  <a:srgbClr val="ffffff"/>
                </a:solidFill>
                <a:latin typeface="Tempus Sans ITC"/>
              </a:rPr>
              <a:t>-Filho  da  puuutaa 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4"/>
          <p:cNvSpPr/>
          <p:nvPr/>
        </p:nvSpPr>
        <p:spPr>
          <a:xfrm>
            <a:off x="1476360" y="692280"/>
            <a:ext cx="63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empus Sans ITC"/>
                <a:ea typeface="Arial"/>
              </a:rPr>
              <a:t>Furiosamente  a  mulher  grita  de  todo  pulmã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971640" y="436572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empus Sans ITC"/>
                <a:ea typeface="Arial"/>
              </a:rPr>
              <a:t>E    a  maravilha  tecnológica   de  seu  rádio, lhe  pergunta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empus Sans ITC"/>
                <a:ea typeface="Arial"/>
              </a:rPr>
              <a:t>  </a:t>
            </a:r>
            <a:r>
              <a:rPr b="1" lang="fr-FR" sz="2800" spc="-1" strike="noStrike">
                <a:solidFill>
                  <a:srgbClr val="ffff00"/>
                </a:solidFill>
                <a:latin typeface="Tempus Sans ITC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1116000" y="5229360"/>
            <a:ext cx="734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ULA  OU  CHAVEZ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260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empus Sans ITC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Qual dos do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C:\Documents and Settings\Pab\Desktop\419px-Chavez_CASA_cropped_1.jpg"/>
          <p:cNvPicPr/>
          <p:nvPr/>
        </p:nvPicPr>
        <p:blipFill>
          <a:blip r:embed="rId1"/>
          <a:stretch/>
        </p:blipFill>
        <p:spPr>
          <a:xfrm>
            <a:off x="5143680" y="1000080"/>
            <a:ext cx="2714400" cy="388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Pab\Desktop\lula.jpg"/>
          <p:cNvPicPr/>
          <p:nvPr/>
        </p:nvPicPr>
        <p:blipFill>
          <a:blip r:embed="rId2"/>
          <a:stretch/>
        </p:blipFill>
        <p:spPr>
          <a:xfrm>
            <a:off x="1071720" y="1000080"/>
            <a:ext cx="2820960" cy="3863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62373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ESTE  E-MAIL  FOI  PRODUZIDO  NA  FRANÇA  !    … EU  SÓ  FIZ  A  TRADUÇÃO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4360" y="404640"/>
            <a:ext cx="77864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Escuta  aquí, meu  amigo. O ràdio deste carro  tá  quebrado. Ele  não  toca  nad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Não Madame. Ele funciona très bi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mas ele obedece  à  sua voz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À minha  voz! Como isso  funcio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- Eu  vou  lhe  mostrar.- diz o vended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333440" y="2143080"/>
            <a:ext cx="6477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empus Sans ITC"/>
              </a:rPr>
              <a:t>O vendedor entra  no  carro  e  diz  com  voz  alta  e clara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empus Sans ITC"/>
              </a:rPr>
              <a:t>                 </a:t>
            </a:r>
            <a:r>
              <a:rPr b="1" lang="es-ES" sz="3600" spc="-1" strike="noStrike">
                <a:solidFill>
                  <a:srgbClr val="0000cc"/>
                </a:solidFill>
                <a:latin typeface="Tempus Sans ITC"/>
              </a:rPr>
              <a:t>IGLÉSIAS 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cccc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glesiasjulio"/>
          <p:cNvPicPr/>
          <p:nvPr/>
        </p:nvPicPr>
        <p:blipFill>
          <a:blip r:embed="rId1"/>
          <a:stretch/>
        </p:blipFill>
        <p:spPr>
          <a:xfrm>
            <a:off x="5292720" y="1484280"/>
            <a:ext cx="2585880" cy="255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nriqueiglesias"/>
          <p:cNvPicPr/>
          <p:nvPr/>
        </p:nvPicPr>
        <p:blipFill>
          <a:blip r:embed="rId2"/>
          <a:stretch/>
        </p:blipFill>
        <p:spPr>
          <a:xfrm>
            <a:off x="1403280" y="155736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928800" y="4365720"/>
            <a:ext cx="742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NRIQUE  OU  JULI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40464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Uma  voz  sintética  lhe  resp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042920" y="5516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- Júlio ! … diz  o  vended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187280" y="2637000"/>
            <a:ext cx="7220160" cy="119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empus Sans ITC"/>
              </a:rPr>
              <a:t>E  logo, o  rádio começa  a  tocar  uma  canção  de Julio Igles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72360" y="6165720"/>
            <a:ext cx="720720" cy="5763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42960" y="928800"/>
            <a:ext cx="7858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E  a  mulher  se vai  encantada 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Ela  entra  no  seu  super  carro  novo, dá  partida  e  resolve  experimentar  o  super  comando  de  voz  do  rádio. E com  voz  alta  e  clara, ela  diz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empus Sans ITC"/>
              </a:rPr>
              <a:t>DAVID  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e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428840" y="4714920"/>
            <a:ext cx="647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ISBAL OU CIVER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6" name="Picture 3" descr="bisbal"/>
          <p:cNvPicPr/>
          <p:nvPr/>
        </p:nvPicPr>
        <p:blipFill>
          <a:blip r:embed="rId1"/>
          <a:stretch/>
        </p:blipFill>
        <p:spPr>
          <a:xfrm>
            <a:off x="1523880" y="1905120"/>
            <a:ext cx="2362320" cy="218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ivera"/>
          <p:cNvPicPr/>
          <p:nvPr/>
        </p:nvPicPr>
        <p:blipFill>
          <a:blip r:embed="rId2"/>
          <a:stretch/>
        </p:blipFill>
        <p:spPr>
          <a:xfrm>
            <a:off x="5410080" y="19051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908000" y="83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E  o  rádio  lhe  resp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587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- Bisbal !!! -responde  ela feliz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ULERI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900000" y="2133720"/>
            <a:ext cx="7315200" cy="17398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E  o  rádio começa  a  tocar, uma  bela  canção  de David Bisbal, jovem cantor  espanh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28800" y="150012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empus Sans ITC"/>
              </a:rPr>
              <a:t>Maravilhada  com  sua  compra, pelo  nível  de  tecnologia,  ela  sai  dirigindo  destraidamente   e  num  cruzamento, um  camarada  avança  o  sinal  e  dá  uma  leve  porrada  em  seu  super  carro, super  no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08:41:44Z</dcterms:created>
  <dc:creator>MDPER09</dc:creator>
  <dc:description/>
  <dc:language>en-US</dc:language>
  <cp:lastModifiedBy>Maninho</cp:lastModifiedBy>
  <dcterms:modified xsi:type="dcterms:W3CDTF">2008-03-13T03:54:30Z</dcterms:modified>
  <cp:revision>40</cp:revision>
  <dc:subject/>
  <dc:title>Presentación de PowerPoint</dc:title>
</cp:coreProperties>
</file>