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B38-F844-45B4-8DA7-1CEE5D56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7E7-EF17-4456-B83F-ED0AACB8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D56-B0A0-4F6B-B08D-A1AD393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7B1-4284-4B94-AD4B-4CF50F08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382C-5ACE-4026-BC3A-9859C0CE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7A81-E934-4D99-9E8A-25BFA1D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B1E5-D5EB-4327-B821-04853B8D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FA1A-CE38-489B-A77D-CC063AA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C73-A93C-4034-8943-E5D5F8D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678-7503-4675-B068-22B15CE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3D6-51F0-4DC4-AEA1-9180035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340-8094-4FB6-A55E-D3722616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1141-1A41-442A-9831-3254F9F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733-8314-4004-8171-0500994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6197-4C99-4C78-B8F5-3FE75245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268-6AB7-4EB6-9CF4-CD293FE8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F90C-D9D0-4D50-842B-F7D6DB6B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029-9CC8-4042-8753-D941A92A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817-6915-44BC-9129-B6EB73DD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724-9B4E-48BE-A183-10A3E24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F2D-784D-44AE-81CD-7A912F1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616-4910-4FA9-BFEF-2BAFE7D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549-95C8-4883-970D-FD865BB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C66-6CDD-4B51-AACE-9951638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2032-1BEF-4867-8171-7CCCFF216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B9CB-6F93-4117-92C2-35310E639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68928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3640" y="1341360"/>
            <a:ext cx="576108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As diferenças  entre 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"Amigo Simples... Amigo  Verdadeiro  e  Amigo Pá - Caralho" !!!</a:t>
            </a:r>
            <a:br>
              <a:rPr sz="19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traz uma garrafa de vinho para sua fest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chega cedo, ajuda a cozinhar e fica até mais tarde para te ajudar a limp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-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faz tudo isso, e ainda bebe todas na sua  festa, vomita no tapete da sua mãe e dorme atrás do sofá até segunda-feira  pela manhã, quando a empregada o encont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9200" y="1523880"/>
            <a:ext cx="475776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11640" y="1628640"/>
            <a:ext cx="47242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odeia quando você liga depois que ele já se deit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rgunta por que você demorou tanto para ligar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-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rgunta se você tá virando viado prá ligar aquela hora, te manda dormir e tomar no cú e fala para você ir curar tuas mágoas com cachaç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46760" y="2362320"/>
            <a:ext cx="41972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1773360"/>
            <a:ext cx="577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 para conversar sobre seus próprios problem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 pa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te ajudar com os teus problem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te ajuda com os teus problem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e ainda te leva pra gandaia e paga to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8380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622680"/>
            <a:ext cx="5943600" cy="3387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1052640"/>
            <a:ext cx="5791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, ao visitá-lo, age como uma visit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abre a geladeira e serve-se sozinh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abre a geladeira, serve-se sozinho e ainda reclama que só tem Kaiser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2809800"/>
            <a:ext cx="6019920" cy="3880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324000" y="112536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nsa que a amizade acabou depois de uma discussã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sabe que não é amizade enqua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não teve a primeira brig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xinga você, chuta o se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cachorro e  risca teu carr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mas tá tudo bem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50028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espera que você esteja sempre lá para e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espera sempre estar lá, PRA VOCÊ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te espera duas horas no bar até ficar revoltado. Vai até a sua casa, xinga você, chuta o teu  cachorro  e risca seu carro, tudo de nov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105264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1640" y="0"/>
            <a:ext cx="55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3497400"/>
            <a:ext cx="5334120" cy="343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33360"/>
            <a:ext cx="795672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Passe esta mensagem para qualquer pessoa que você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simplesmente goste;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que você verdadeiramente goste;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ou que você goste pá-caralho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3184560"/>
            <a:ext cx="8153280" cy="3444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9080" y="1341360"/>
            <a:ext cx="8170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E saiba que, se hoje eu te passo a bola da amizade, é para que você também passe para alguém que seja se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Amigo. . .  </a:t>
            </a:r>
            <a:r>
              <a:rPr b="0" lang="pt-BR" sz="3200" spc="-1" strike="noStrike">
                <a:solidFill>
                  <a:srgbClr val="33ccff"/>
                </a:solidFill>
                <a:latin typeface="Arial Rounded MT Bold"/>
              </a:rPr>
              <a:t>SIMPLES, DE VERDADE </a:t>
            </a: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ou</a:t>
            </a:r>
            <a:r>
              <a:rPr b="0" lang="pt-BR" sz="3200" spc="-1" strike="noStrike">
                <a:solidFill>
                  <a:srgbClr val="33ccff"/>
                </a:solidFill>
                <a:latin typeface="Arial Rounded MT Bold"/>
              </a:rPr>
              <a:t> PÁ-CARALHO!!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19:11:34Z</dcterms:created>
  <dc:creator>PRODUCTOS AVON</dc:creator>
  <dc:description/>
  <dc:language>en-US</dc:language>
  <cp:lastModifiedBy>w</cp:lastModifiedBy>
  <dcterms:modified xsi:type="dcterms:W3CDTF">2007-07-04T17:26:43Z</dcterms:modified>
  <cp:revision>25</cp:revision>
  <dc:subject/>
  <dc:title>Sin título de diapositiva</dc:title>
</cp:coreProperties>
</file>