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DC0-510E-4C4B-837D-6435D0FA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825-2336-43BF-A2FA-D05C9C16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5DC-5C98-46E0-9209-69E5A2F7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E07-077A-4594-A9D6-9D499C88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C300-233E-4BC7-B508-67724934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13FC-9D98-4EC2-8838-39198CBD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BECF-851F-41F5-93BA-6C217D7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55F0-83D9-4714-AAB2-3FF739E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B45-1B03-4FDB-88E8-94B0F22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10F6-3429-4CE0-ABF4-8F6CE32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223-0C6B-43A6-A5BA-E7D2258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765-D702-412A-8095-CF0B03A9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F8E2-F8B3-49D9-86A3-034503D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383-1DB6-4322-8914-6F04065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AB54-C64D-4D9C-9CE0-5E477F0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0C9-EC0E-4642-87A4-64733F4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AC90-D022-45DD-91A8-526458A9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5EC-3B61-4EFB-975B-E4ED2F9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107-4EBB-4F19-B08B-FA5F4BD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362-C58B-4A06-BC9E-B37459A8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D75-AE55-4EC3-B9DD-9B5687B3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6C5-6EC6-4254-811E-6746F2A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AAF-21D3-44DF-8342-C035332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FB6-71E6-4C9B-A9B8-96C415B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4EC-F835-4A6C-9F89-05C2F3496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5B1-B17B-4B9B-A3A7-31FCEBCFF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68928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3640" y="1341360"/>
            <a:ext cx="576108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As diferenças  entre 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"Amigo Simples... Amigo  Verdadeiro  e  Amigo Pá - Caralho" !!!</a:t>
            </a:r>
            <a:br>
              <a:rPr sz="19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traz uma garrafa de vinho para sua fest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chega cedo, ajuda a cozinhar e fica até mais tarde para te ajudar a limp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-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faz tudo isso, e ainda bebe todas na sua  festa, vomita no tapete da sua mãe e dorme atrás do sofá até segunda-feira  pela manhã, quando a empregada o encont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9200" y="1523880"/>
            <a:ext cx="475776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11640" y="1628640"/>
            <a:ext cx="47242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odeia quando você liga depois que ele já se deit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rgunta por que você demorou tanto para ligar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-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rgunta se você tá virando viado prá ligar aquela hora, te manda dormir e tomar no cú e fala para você ir curar tuas mágoas com cachaç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46760" y="2362320"/>
            <a:ext cx="41972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1773360"/>
            <a:ext cx="577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 para conversar sobre seus próprios problem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 pa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te ajudar com os teus problem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rocura você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te ajuda com os teus problem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e ainda te leva pra gandaia e paga to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8380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622680"/>
            <a:ext cx="5943600" cy="3387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1052640"/>
            <a:ext cx="5791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, ao visitá-lo, age como uma visit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abre a geladeira e serve-se sozinh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abre a geladeira, serve-se sozinho e ainda reclama que só tem Kaiser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2809800"/>
            <a:ext cx="6019920" cy="3880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324000" y="112536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pensa que a amizade acabou depois de uma discussã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sabe que não é amizade enqua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não teve a primeira brig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xinga você, chuta o se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cachorro e  risca teu carr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mas tá tudo bem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50028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simples amig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espera que você esteja sempre lá para e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de verdade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espera sempre estar lá, PRA VOCÊ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Um </a:t>
            </a:r>
            <a:r>
              <a:rPr b="1" i="1" lang="pt-BR" sz="2000" spc="-1" strike="noStrike">
                <a:solidFill>
                  <a:srgbClr val="33ccff"/>
                </a:solidFill>
                <a:latin typeface="Arial Rounded MT Bold"/>
              </a:rPr>
              <a:t>amigo pá caralho</a:t>
            </a:r>
            <a:r>
              <a:rPr b="0" lang="pt-BR" sz="2000" spc="-1" strike="noStrike">
                <a:solidFill>
                  <a:srgbClr val="ffffff"/>
                </a:solidFill>
                <a:latin typeface="Arial Rounded MT Bold"/>
              </a:rPr>
              <a:t> te espera duas horas no bar até ficar revoltado. Vai até a sua casa, xinga você, chuta o teu  cachorro  e risca seu carro, tudo de novo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105264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1640" y="0"/>
            <a:ext cx="55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3497400"/>
            <a:ext cx="5334120" cy="343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33360"/>
            <a:ext cx="795672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Passe esta mensagem para qualquer pessoa que você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simplesmente goste;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que você verdadeiramente goste;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ou que você goste pá-caralho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3184560"/>
            <a:ext cx="8153280" cy="3444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9080" y="1341360"/>
            <a:ext cx="8170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E saiba que, se hoje eu te passo a bola da amizade, é para que você também passe para alguém que seja se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Amigo. . .  </a:t>
            </a:r>
            <a:r>
              <a:rPr b="0" lang="pt-BR" sz="3200" spc="-1" strike="noStrike">
                <a:solidFill>
                  <a:srgbClr val="33ccff"/>
                </a:solidFill>
                <a:latin typeface="Arial Rounded MT Bold"/>
              </a:rPr>
              <a:t>SIMPLES, DE VERDADE </a:t>
            </a:r>
            <a:r>
              <a:rPr b="0" lang="pt-BR" sz="3200" spc="-1" strike="noStrike">
                <a:solidFill>
                  <a:srgbClr val="ffffff"/>
                </a:solidFill>
                <a:latin typeface="Arial Rounded MT Bold"/>
              </a:rPr>
              <a:t>ou</a:t>
            </a:r>
            <a:r>
              <a:rPr b="0" lang="pt-BR" sz="3200" spc="-1" strike="noStrike">
                <a:solidFill>
                  <a:srgbClr val="33ccff"/>
                </a:solidFill>
                <a:latin typeface="Arial Rounded MT Bold"/>
              </a:rPr>
              <a:t> PÁ-CARALHO!!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3366ff"/>
                </a:solidFill>
                <a:latin typeface="Arial Rounded MT Bold"/>
              </a:rPr>
              <a:t>AMIGOS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19:11:34Z</dcterms:created>
  <dc:creator>PRODUCTOS AVON</dc:creator>
  <dc:description/>
  <dc:language>en-US</dc:language>
  <cp:lastModifiedBy>w</cp:lastModifiedBy>
  <dcterms:modified xsi:type="dcterms:W3CDTF">2007-07-04T17:26:43Z</dcterms:modified>
  <cp:revision>25</cp:revision>
  <dc:subject/>
  <dc:title>Sin título de diapositiva</dc:title>
</cp:coreProperties>
</file>