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Jorge%20Arag%C3%A3o%20-%20Ave%20Maria.wav" ContentType="audio/x-wav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9BE9F-0CD3-42BA-8332-06B506CEB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A0943-F8DE-42B0-8BE3-7714D1369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0B391-B453-4231-B7D2-5A2A30272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646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1560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140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4646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1560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21AFB-76AD-46D9-9A18-9B5BBA427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31C20-6B68-4159-B79A-A2695CBFC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2278F-95FD-4F9A-9475-934D11C1A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C6199-0D04-4A70-B9B8-10F8DCB30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011BF-09F2-4397-8B55-B19396C94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DE682-7CAA-477F-A628-BE847DAFA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914040" y="6091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B0016-BAA0-4D10-A17A-429307C2A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28CA7-6072-4DB7-ACCB-240E387D3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A80B1-4D94-4D35-ADB7-CB213C3C5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8A4FC-A77F-4AAA-9764-D86301103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92404-4C58-424B-B580-CF470C350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58C43-9B28-4491-833C-622A5D3CD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C8980-636E-4D2A-B231-7A2C4C3A9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4646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1560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9140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4646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1560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FC26A-E58F-4075-88D3-875578563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D1051-691C-4182-892C-E6D54A3BE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433E4-9B39-4436-B153-4B7E53977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2E499-9D7B-4F59-A37A-D73C19368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14040" y="6091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361AA-4D1D-44FA-8E8F-87ECE33EB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28827-9F1A-49FF-8F8B-7BE532386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270EE-2517-4811-906E-4B66255E3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4B23F-0D02-47C2-A9D7-1E29910A3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600200" y="-2209680"/>
            <a:ext cx="9144000" cy="9067680"/>
          </a:xfrm>
          <a:prstGeom prst="diamond">
            <a:avLst/>
          </a:prstGeom>
          <a:gradFill rotWithShape="0">
            <a:gsLst>
              <a:gs pos="0">
                <a:srgbClr val="115606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380880" cy="2286000"/>
          </a:xfrm>
          <a:prstGeom prst="rect">
            <a:avLst/>
          </a:prstGeom>
          <a:solidFill>
            <a:srgbClr val="f1b6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1b60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534960" indent="-205560">
              <a:spcBef>
                <a:spcPts val="22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822960" indent="-16452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152000" indent="-164520">
              <a:spcBef>
                <a:spcPts val="22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1040" indent="-164520">
              <a:spcBef>
                <a:spcPts val="22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1040" indent="-164520">
              <a:spcBef>
                <a:spcPts val="22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1040" indent="-164520">
              <a:spcBef>
                <a:spcPts val="22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629400" y="6095520"/>
            <a:ext cx="2286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2285640" y="6095880"/>
            <a:ext cx="4343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629400" y="6400440"/>
            <a:ext cx="22860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C17AC-CF35-482B-8502-2283D4648ABA}" type="slidenum">
              <a:rPr b="0" lang="pt-B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600200" y="-2209680"/>
            <a:ext cx="9144000" cy="9067680"/>
          </a:xfrm>
          <a:prstGeom prst="diamond">
            <a:avLst/>
          </a:prstGeom>
          <a:gradFill rotWithShape="0">
            <a:gsLst>
              <a:gs pos="0">
                <a:srgbClr val="115606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380880" cy="2286000"/>
          </a:xfrm>
          <a:prstGeom prst="rect">
            <a:avLst/>
          </a:prstGeom>
          <a:solidFill>
            <a:srgbClr val="f1b6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144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1b60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629400" y="6095520"/>
            <a:ext cx="2286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2285640" y="6095880"/>
            <a:ext cx="4343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629400" y="6400440"/>
            <a:ext cx="22860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1EBA4-C0A6-43B3-AFD9-4B7822ED9BE0}" type="slidenum">
              <a:rPr b="0" lang="pt-B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Jorge%20Arag&#227;o%20-%20Ave%20Maria.wav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08000" y="1268280"/>
            <a:ext cx="82296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1" i="1" lang="en-US" sz="3800" spc="-1" strike="noStrike">
                <a:solidFill>
                  <a:srgbClr val="ffff00"/>
                </a:solidFill>
                <a:latin typeface="Arial"/>
              </a:rPr>
              <a:t>ESTA É A HORA!</a:t>
            </a:r>
            <a:br>
              <a:rPr sz="3800"/>
            </a:br>
            <a:r>
              <a:rPr b="1" i="1" lang="en-US" sz="3800" spc="-1" strike="noStrike">
                <a:solidFill>
                  <a:srgbClr val="ccf20e"/>
                </a:solidFill>
                <a:latin typeface="Arial"/>
              </a:rPr>
              <a:t>        </a:t>
            </a:r>
            <a:br>
              <a:rPr sz="3800"/>
            </a:br>
            <a:r>
              <a:rPr b="1" i="1" lang="en-US" sz="3800" spc="-1" strike="noStrike">
                <a:solidFill>
                  <a:srgbClr val="ffffff"/>
                </a:solidFill>
                <a:latin typeface="Arial"/>
              </a:rPr>
              <a:t>7 de setembro, 17 horas!</a:t>
            </a:r>
            <a:endParaRPr b="0" lang="en-US" sz="38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364000" y="5967000"/>
            <a:ext cx="6264360" cy="8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2280" bIns="381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Tahoma"/>
              </a:rPr>
              <a:t>“</a:t>
            </a:r>
            <a:r>
              <a:rPr b="1" lang="en-US" sz="1400" spc="-1" strike="noStrike">
                <a:solidFill>
                  <a:srgbClr val="ffff00"/>
                </a:solidFill>
                <a:latin typeface="Tahoma"/>
              </a:rPr>
              <a:t>O Brasil não tem povo, tem público.”</a:t>
            </a: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                                      </a:t>
            </a: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(Lima Barreto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468360" y="518040"/>
            <a:ext cx="8497800" cy="632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2280" bIns="3816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Esta é a hora!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ão podemos ser simples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espectadores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amos provocar uma profunda e  radical  mudança na política, sem coloração partidári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amos impor o fim do cinismo descarado, da corrupção endêmica e do banditismo institucionalizad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stamos de “saco cheio”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Chega de afront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Que a lei de hoje puna (como puder) os canalhas que emporcalham e seviciam a nação. Mas isto não basta, a maioria dos que hoje acusam, foram os canalhas de ontem, ou serão os canalhas de amanhã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500"/>
                            </p:stCondLst>
                            <p:childTnLst>
                              <p:par>
                                <p:cTn id="2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10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3500"/>
                            </p:stCondLst>
                            <p:childTnLst>
                              <p:par>
                                <p:cTn id="26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1000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5500"/>
                            </p:stCondLst>
                            <p:childTnLst>
                              <p:par>
                                <p:cTn id="3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1000"/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7500"/>
                            </p:stCondLst>
                            <p:childTnLst>
                              <p:par>
                                <p:cTn id="3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1000"/>
                                        <p:tgtEl>
                                          <p:spTgt spid="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9500"/>
                            </p:stCondLst>
                            <p:childTnLst>
                              <p:par>
                                <p:cTn id="3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1000"/>
                                        <p:tgtEl>
                                          <p:spTgt spid="8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574560" y="474480"/>
            <a:ext cx="856944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2280" bIns="381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Verdana"/>
              </a:rPr>
              <a:t>Esta é a hora.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Vamos iniciar um vigoroso movimento popular que produza uma verdadeira reforma político-administrativa, profunda, séria e radical.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11280" y="2852640"/>
            <a:ext cx="777708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11280" y="2492280"/>
            <a:ext cx="8208720" cy="16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Verdana"/>
              </a:rPr>
              <a:t>Esta é a hora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de uma reforma que afugente da vida pública a corja de escroques que se sugam o sangue da nação..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699640" y="1916280"/>
            <a:ext cx="421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ou tudo continuará como sempre foi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47640" y="4653000"/>
            <a:ext cx="849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Verdana"/>
              </a:rPr>
              <a:t>Esta é a hora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de impormos  mecanismos de punição implacável ao homem público que transgride.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698480" y="3500280"/>
            <a:ext cx="673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...ou tudo continuará como sempre foi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5911920"/>
            <a:ext cx="892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...ou tudo continuará como sempre foi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" dur="80"/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" dur="80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" dur="80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240"/>
                            </p:stCondLst>
                            <p:childTnLst>
                              <p:par>
                                <p:cTn id="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360"/>
                            </p:stCondLst>
                            <p:childTnLst>
                              <p:par>
                                <p:cTn id="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" dur="8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" dur="8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" dur="8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971640" y="106200"/>
            <a:ext cx="7777080" cy="70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A reforma político-administrativa poderá instituir, dentre outras, as seguintes medida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Comprovação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documental rigorosa da idoneidade dos candidato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Extinção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ou profunda restrição da imunidade parlamentar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Obrigatoriedade de abertura do sigilo fiscal e bancário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de vereadores, prefeitos, deputados, senadores, ministros de estado, presidente da república, vice-presidente da república, partidos políticos, dirigentes de partidos políticos, diretores de entidades da administração direta e indireta, juízes e desembargadore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Proibição de contratação de parentes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e afins de até o nível de 3º grau. E que a admissão de parentes ocorra apenas por concursos, onde o critério seja técnic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Adequação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ou mesmo a redução drástica de salários, benefícios e aposentadorias para ocupantes de cargos legislativos a nível municipal, estadual e federal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ntrodução de </a:t>
            </a: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pesadas agravantes na legislação penal, cível e tributária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, para crimes cometidos pelos homens público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Obrigatoriedade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e comprovada capacitação e experiência dos aspirantes a cargos de direção em entidades da administração direta e indireta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11560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01336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5076720" y="138240"/>
            <a:ext cx="3924360" cy="21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2280" bIns="381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Esta é a hora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de criarmos reais condições para que a esperança vença a descrença, pois, apenas assistimos  a este teatro como se não tivéssemos </a:t>
            </a: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poder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para alterá-l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76720" y="2205000"/>
            <a:ext cx="385128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Esta é a hora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de agirmos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pelos nossos filhos e netos e em respeito aos 50 milhões de miseráve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deste país, que vivem o martírio de uma vida de sofrimento desuman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166360" y="5408640"/>
            <a:ext cx="3751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Verdana"/>
              </a:rPr>
              <a:t>50 </a:t>
            </a:r>
            <a:r>
              <a:rPr b="1" lang="en-US" sz="5400" spc="-1" strike="noStrike">
                <a:solidFill>
                  <a:srgbClr val="ffff00"/>
                </a:solidFill>
                <a:latin typeface="Verdana"/>
              </a:rPr>
              <a:t>milhõe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de miseráve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539640" y="260280"/>
            <a:ext cx="8425080" cy="78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No dia 7 DE SETEMBRO às 17:00 horas!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Às 17:00 horas,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vamos paralisar o Brasi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Às 17:00 horas,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vamos promover um panelaço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Exija que as redes de televisão, rádios, jornais, revistas e o político de sua confiança divulguem este moviment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Mobilize sua escola, seu sindicato, sua igreja, seus amig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Inicie agora esta corrente de ação naciona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amos atingir todos, de todas as camadas sociais, de todos os recantos deste Brasi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Remeta este e-mail para o máximo de pessoas e peça a elas que façam o mesm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900000" y="765000"/>
            <a:ext cx="7488360" cy="22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6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6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468360" y="189000"/>
            <a:ext cx="8675640" cy="65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No dia 7 de Setembro,  às 17 horas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stenda na janela uma bandeira, uma toalha, um pano qualquer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ata panelas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oque cornetas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 você estiver no carro, buzine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mova desfiles, passeatas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ça a nação tremer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, por 1 minuto.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amos fazer a nação tremer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, por 1 minut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í sim, saberemos que somos um povo que resgatou a esperanç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ciaremos a mudanç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8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9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0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1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1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1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1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2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3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4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4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1280" y="27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1" i="1" lang="en-US" sz="6600" spc="-1" strike="noStrike">
                <a:solidFill>
                  <a:srgbClr val="ffff00"/>
                </a:solidFill>
                <a:latin typeface="Arial"/>
              </a:rPr>
              <a:t>ESTA É A HORA!</a:t>
            </a:r>
            <a:br>
              <a:rPr sz="6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emeta este e-mail para o máximo de pessoas e peça a elas que façam o mesmo.</a:t>
            </a:r>
            <a:br>
              <a:rPr sz="1600"/>
            </a:br>
            <a:r>
              <a:rPr b="1" i="1" lang="en-US" sz="6600" spc="-1" strike="noStrike">
                <a:solidFill>
                  <a:srgbClr val="f1b60f"/>
                </a:solidFill>
                <a:latin typeface="Arial"/>
              </a:rPr>
              <a:t>        </a:t>
            </a:r>
            <a:br>
              <a:rPr sz="6600"/>
            </a:br>
            <a:r>
              <a:rPr b="1" i="1" lang="en-US" sz="6600" spc="-1" strike="noStrike">
                <a:solidFill>
                  <a:srgbClr val="ffff00"/>
                </a:solidFill>
                <a:latin typeface="Arial"/>
              </a:rPr>
              <a:t>7 de setembro,</a:t>
            </a:r>
            <a:r>
              <a:rPr b="1" i="1" lang="en-US" sz="66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6600"/>
            </a:br>
            <a:r>
              <a:rPr b="1" i="1" lang="en-US" sz="6600" spc="-1" strike="noStrike">
                <a:solidFill>
                  <a:srgbClr val="ffffff"/>
                </a:solidFill>
                <a:latin typeface="Arial"/>
              </a:rPr>
              <a:t>17 horas!</a:t>
            </a:r>
            <a:endParaRPr b="0" lang="en-US" sz="66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304440" y="6021360"/>
            <a:ext cx="277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00"/>
                </a:solidFill>
                <a:latin typeface="Verdana"/>
              </a:rPr>
              <a:t>www.estaeahora.cjb.n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0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afterEffect" fill="hold" presetClass="entr" presetID="3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4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4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4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4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5T03:23:06Z</dcterms:created>
  <dc:creator/>
  <dc:description/>
  <dc:language>en-US</dc:language>
  <cp:lastModifiedBy>Valter Garcia Cota</cp:lastModifiedBy>
  <dcterms:modified xsi:type="dcterms:W3CDTF">2005-08-03T21:05:10Z</dcterms:modified>
  <cp:revision>39</cp:revision>
  <dc:subject/>
  <dc:title>Slide 1</dc:title>
</cp:coreProperties>
</file>