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Ernesto%20Cortazar%20-%20Dancing%20Waves.wav" ContentType="audio/x-wav"/>
  <Override PartName="/ppt/media/image3.gif" ContentType="image/gif"/>
  <Override PartName="/ppt/media/image2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3.png" ContentType="image/png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87BB-05E9-4CC7-85FC-3C688B3B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722-6A7A-4D0E-81C3-A01F66CD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CE2-8724-4DD9-A792-1AEF8F03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2BBA-ACB6-450A-B10B-BDA97A79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5369-C496-417F-A5BE-A5B33DD8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1661-5A40-4A63-A11B-2352678D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0D8F-D952-45A2-977D-03921FFB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1C8A-DE9D-46E7-B9D3-C9C174F9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A970-30CC-422C-A446-CC988C83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52FC-E87C-4FD7-BB91-62375C38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AD37-3AB0-4527-AE39-C37CF451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6042-E5B5-49B5-9755-4A04A118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B260-A5C6-4654-8B62-37A86F5D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4244-31A8-4EAE-9651-13B8F3E1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715E-6F78-41B2-933A-2F7F208F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21C4-565D-4311-A7BE-AE768B41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DF5D-18C0-4572-8083-477AAC96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E14-2C30-402C-B5A3-6EAD8235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EB2B-F916-469F-B067-590723C8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5208-8C4B-44AD-A079-93413F84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1F74-69CD-49FC-94AF-C6A5CBD5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E891-6E61-4D33-A7D5-F79D6120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7E5F-057C-4D20-A732-71E884BD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AEF1-E31E-471C-ADF9-839DAB99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500E-8343-4ED9-901B-A4F7576203B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79E4-FC1E-4C91-ADA6-432C6227A89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3.gi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8.gif"/><Relationship Id="rId11" Type="http://schemas.openxmlformats.org/officeDocument/2006/relationships/image" Target="../media/image9.gif"/><Relationship Id="rId12" Type="http://schemas.openxmlformats.org/officeDocument/2006/relationships/image" Target="../media/image5.gif"/><Relationship Id="rId13" Type="http://schemas.openxmlformats.org/officeDocument/2006/relationships/image" Target="../media/image10.gif"/><Relationship Id="rId14" Type="http://schemas.openxmlformats.org/officeDocument/2006/relationships/image" Target="../media/image11.gif"/><Relationship Id="rId15" Type="http://schemas.openxmlformats.org/officeDocument/2006/relationships/image" Target="../media/image12.gif"/><Relationship Id="rId16" Type="http://schemas.openxmlformats.org/officeDocument/2006/relationships/image" Target="../media/image7.gif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audio" Target="../media/Ernesto%20Cortazar%20-%20Dancing%20Waves.wav"/><Relationship Id="rId20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nerivaldo.lopes@gmail.com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44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Clicar para passagem de slides / ligar o som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348000" y="3500280"/>
            <a:ext cx="552600" cy="765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924360" y="3500280"/>
            <a:ext cx="457200" cy="765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27640" y="3500280"/>
            <a:ext cx="438120" cy="765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4932360" y="3500280"/>
            <a:ext cx="457200" cy="765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5435640" y="3500280"/>
            <a:ext cx="457200" cy="765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5940360" y="3500280"/>
            <a:ext cx="571680" cy="765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6443640" y="3500280"/>
            <a:ext cx="495360" cy="765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5148360" y="2924280"/>
            <a:ext cx="495360" cy="476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0"/>
          <a:stretch/>
        </p:blipFill>
        <p:spPr>
          <a:xfrm>
            <a:off x="4643280" y="2924280"/>
            <a:ext cx="49536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1"/>
          <a:stretch/>
        </p:blipFill>
        <p:spPr>
          <a:xfrm>
            <a:off x="3678120" y="1989000"/>
            <a:ext cx="459000" cy="763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2"/>
          <a:stretch/>
        </p:blipFill>
        <p:spPr>
          <a:xfrm>
            <a:off x="4140360" y="1989000"/>
            <a:ext cx="457200" cy="763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3"/>
          <a:stretch/>
        </p:blipFill>
        <p:spPr>
          <a:xfrm>
            <a:off x="4643280" y="1989000"/>
            <a:ext cx="457200" cy="763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4"/>
          <a:stretch/>
        </p:blipFill>
        <p:spPr>
          <a:xfrm>
            <a:off x="5148360" y="1989000"/>
            <a:ext cx="419040" cy="76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5"/>
          <a:stretch/>
        </p:blipFill>
        <p:spPr>
          <a:xfrm>
            <a:off x="5580000" y="1916280"/>
            <a:ext cx="495360" cy="836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6"/>
          <a:stretch/>
        </p:blipFill>
        <p:spPr>
          <a:xfrm>
            <a:off x="6084720" y="1916280"/>
            <a:ext cx="495360" cy="836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8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plus/>
    <p:sndAc>
      <p:stSnd>
        <p:snd r:embed="rId19" name="Ernesto%20Cortazar%20-%20Dancing%20Wav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0000" y="1268280"/>
            <a:ext cx="62643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Um velho que passava por ali o viu, e perguntou-lhe sobre o que estava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havendo. O rapaz não quis compartilhar o segredo com o velho, pensando que o velho poderia tomar-lhe o colar para si; então recusou-se a explicar a situação 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ara o velho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55640" y="1268280"/>
            <a:ext cx="63579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as o velho pôde perceber que o rapazinho estava incomodado e, sendo compassivo, outra vez pediu ao rapaz que lhe contasse qual o problema, e ainda prometeu que não contaria nada para ninguém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84000" y="1197000"/>
            <a:ext cx="6480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 rapaz reuniu alguma coragem e, como já dava o colar como perdido, decidiu por alguma fé no velho. Contou tudo sobre o colar e como ele tentou pegá-lo mas mantinha-se fracassando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4000" y="1267920"/>
            <a:ext cx="6480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 velho então lhe disse que talvez ele devesse olhar para cima, em direção aos galhos da árvore, em vez de olhar para o lago imundo. O rapaz olhou para cima e, para sua surpresa, o colar estava pendurado no galho de uma  árvore. Tinha, o tempo todo, tentado capturar um simples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eflexo do colar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40000" y="2060280"/>
            <a:ext cx="6624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A felicidade material é exatamente como o lago poluído e imundo; porque é um mero reflexo da felicidade verdadeira no mundo espiritual. Não alcançaremos a felicidade plena que procuramos na vida material, não importa o quanto nos esforcemos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84360" y="1628280"/>
            <a:ext cx="6408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Em vez disso, devemos “olhar para cima”, em direção a Deus, que é a fonte da felicidade real, e parar de perseguir o reflexo desta felicidade no mundo material. Esta felicidade espiritual é a única coisa que pode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nos satisfazer completamente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99640" y="1197000"/>
            <a:ext cx="7775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Com efeito, passa o homem como uma sombra; em vão se inquieta; amontoa tesouros e não sabe quem os levará” (Salmo 39:6)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26920" y="2707920"/>
            <a:ext cx="7956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0066"/>
                </a:solidFill>
                <a:latin typeface="Arial"/>
              </a:rPr>
              <a:t>Crédi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0066"/>
                </a:solidFill>
                <a:latin typeface="Arial"/>
              </a:rPr>
              <a:t>Texto: desconheço o au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0066"/>
                </a:solidFill>
                <a:latin typeface="Arial"/>
              </a:rPr>
              <a:t>Formatação: Nerival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0066"/>
                </a:solidFill>
                <a:latin typeface="Arial"/>
              </a:rPr>
              <a:t>E-mail: </a:t>
            </a:r>
            <a:r>
              <a:rPr b="0" lang="pt-BR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nerivaldo.lopes@gmail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0066"/>
                </a:solidFill>
                <a:latin typeface="Arial"/>
              </a:rPr>
              <a:t>Imagens: magia gi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0066"/>
                </a:solidFill>
                <a:latin typeface="Arial"/>
              </a:rPr>
              <a:t>Música: Dancing waves (interpr.: E.Cortaz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0066"/>
                </a:solidFill>
                <a:latin typeface="Arial"/>
              </a:rPr>
              <a:t>Data: 06.11.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0920" y="1341000"/>
            <a:ext cx="648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Um rei tinha presenteado sua filha, a princesa, com um belo colar de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diamantes. O colar foi roubado e as pessoas do reino procuraram por toda a parte sem conseguir encontrá-lo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00360" y="1267920"/>
            <a:ext cx="6213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Alguém disse que um pássaro poderia tê-lo levado, fascinado pelo brilho. O rei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então pediu a todos que voltassem a procurá-lo e anunciou uma recompensa de $ 50.000 para quem o encontrasse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3640" y="1483920"/>
            <a:ext cx="6193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Um dia, um rapaz caminhava de volta para casa ao longo de um lago ao lado de uma área industrial. O lago estava completamente poluído, sujo e com um mau cheiro terrível. Enquanto andava, o rapaz viu algo brilhar no lago e quando olhou viu o colar de diamantes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40000" y="1268280"/>
            <a:ext cx="662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Decidiu tentar pegá-lo, de forma que pudesse receber os $ 50.000 de recompensa. Pôs sua mão no lago imundo e agarrou o colar, mas de alguma forma o perdeu e não o pegou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26920" y="1412640"/>
            <a:ext cx="62866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irou a mão para fora e olhou outra vez , e o colar estava lá, imóvel. Recomeçou. Desta vez entrou no lago e, emporcalhando sua calça no lago imundo, afundou seu braço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nteiro para pegar o colar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10920" y="1413000"/>
            <a:ext cx="64818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as, estranhamente, ele perdeu o colar novamente! Saiu e começou a ir embora, sentindo-se deprimido. Então, outra vez ele viu o colar, bem ali. Desta vez ele estava determinado a pegá-lo, não importava como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6697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Decidiu mergulhar no lago, embora fosse algo repugnante de fazer, tal a sujeira era lama do lago. Seu corpo inteiro tornou-se imundo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0000" y="1268280"/>
            <a:ext cx="6264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ergulhou e mergulhou e procurou por toda parte pelo colar, mas fracassou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novamente. Desta vez ele ficou realmente aturdido e saiu, sentindo-se mais deprimido ainda, já que, sem conseguir pegar o colar, não receberia os $ 50.000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1:38:37Z</dcterms:created>
  <dc:creator>nerivaldo</dc:creator>
  <dc:description/>
  <dc:language>en-US</dc:language>
  <cp:lastModifiedBy>nerivaldo</cp:lastModifiedBy>
  <dcterms:modified xsi:type="dcterms:W3CDTF">2006-11-06T19:19:04Z</dcterms:modified>
  <cp:revision>3</cp:revision>
  <dc:subject/>
  <dc:title>Slide 1</dc:title>
</cp:coreProperties>
</file>