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61E-0912-4F34-AA98-940DDBD1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F1E-4579-41B6-B844-5E32372B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0A4-50C6-4D4A-B12D-E4C418C0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24B-9F83-4D2C-9C10-58B6059C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6C93-594D-4CAC-A57C-DBDEBF04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2B5B-01F1-44F2-9ED9-89A3C2D3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BDC7-9B6D-43CF-9318-CE63F269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D22C-2B0E-4147-8F79-BFA63638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3C5D-4764-40A7-9452-D2F403AB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AF07-A5CC-4F92-9B1E-86237BE8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E5BB-574D-403F-9A7C-95EE78AE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64E-0DD9-4C33-8C0C-C71605ED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EFEB-18A7-4F82-81CB-F4BDAB67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220A-F230-4D73-BA62-19F7DD83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2AEE-DC2A-4186-BF94-B425B3C6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A1C4-5F18-40C8-B7F7-671DE1E9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C741-D1E5-408F-9970-EF57D9E7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E35-6352-42AD-8CBD-B8D582BC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E5A-40C1-47CB-B644-6BE097D2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5EB-4143-4BD4-9946-6146DE68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E55-21BE-44F3-B528-23CFB2D8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19F-8A2E-4139-A361-E81C3445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13F-7C28-4A69-9627-610F697F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025-02F1-4F9F-BF5E-0823F853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0EDB-9451-48E0-9C4F-898642C27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EFF7-96F5-4EA7-8DEB-E002BF342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524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10 ROSA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QUE TE OFEREÇ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COM CARINH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Monotype Corsiva"/>
              </a:rPr>
              <a:t>A Rosa da SINCERID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E, por último, a Rosa da LONGA VI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380880"/>
            <a:ext cx="8077320" cy="65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33"/>
                </a:solidFill>
                <a:latin typeface="Times New Roman"/>
              </a:rPr>
              <a:t>Te Quiero Muc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" sz="13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O importante deste mensagem é a AMIZAD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não poderás ficar com ela toda, para ti!       Reparte-a com as pessoas tuas Ami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reenviando-lhes estas RO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ff"/>
                </a:solidFill>
                <a:latin typeface="Times New Roman"/>
              </a:rPr>
              <a:t>Não é loucura, não, mas é bonito oferecer fl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33"/>
                </a:solidFill>
                <a:latin typeface="Times New Roman"/>
              </a:rPr>
              <a:t>Não ficarei triste se me devolveres esta mensagem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66"/>
                </a:solidFill>
                <a:latin typeface="Times New Roman"/>
              </a:rPr>
              <a:t>Gracias por aceptaresme como so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18511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66680" y="31896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0000"/>
                </a:solidFill>
                <a:latin typeface="Monotype Corsiva"/>
              </a:rPr>
              <a:t>Guarda esta no teu coraçã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90080" y="6248520"/>
            <a:ext cx="6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0000"/>
                </a:solidFill>
                <a:latin typeface="Times New Roman"/>
              </a:rPr>
              <a:t>Lini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286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Monotype Corsiva"/>
              </a:rPr>
              <a:t>A Rosa da AMIZ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5720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A Rosa do AM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A Rosa da SAÚ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33"/>
                </a:solidFill>
                <a:latin typeface="Monotype Corsiva"/>
              </a:rPr>
              <a:t>A Rosa da SOR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cc"/>
                </a:solidFill>
                <a:latin typeface="Monotype Corsiva"/>
              </a:rPr>
              <a:t>A Rosa das NOVAS AMIZ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cc"/>
                </a:solidFill>
                <a:latin typeface="Monotype Corsiva"/>
              </a:rPr>
              <a:t>A Rosa da FELICID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Monotype Corsiva"/>
              </a:rPr>
              <a:t>A Rosa da FAMÍL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A Rosa da PA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59:02Z</dcterms:created>
  <dc:creator>jhinostroza</dc:creator>
  <dc:description/>
  <dc:language>en-US</dc:language>
  <cp:lastModifiedBy>***</cp:lastModifiedBy>
  <dcterms:modified xsi:type="dcterms:W3CDTF">2009-05-08T09:02:51Z</dcterms:modified>
  <cp:revision>17</cp:revision>
  <dc:subject/>
  <dc:title>Presentación de PowerPoint</dc:title>
</cp:coreProperties>
</file>