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EAC3-369B-46E3-824F-FDC22DAB1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5CE0-38B9-4510-81E2-88D02929E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4721-B86F-4218-8134-45C35E296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AD4E-CB38-4E8D-A2B9-36643C816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BFF15-2754-4FDF-A793-A62519A98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E888F-D476-445C-B704-9A378058C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B45D4-D15C-4234-BB76-DB79DFDA7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CEF1D-DAC6-4267-936C-C5B9B3B74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BD98A-BC08-42AB-885D-D5F26B4B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DEC3A-ABF2-4445-8865-5B06B5A6A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393D8-B9BB-476A-B976-7931CD9A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06C3-EA8C-43B1-A580-86D1CA4DD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BAC47-5BAF-4902-A505-F474E93C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15AB3-04A1-4E19-8C41-D594029E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C4096-C0B4-4C3B-8B06-8D4ABFF4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913D7-0C67-490A-B506-BF098E76C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CEB1A-91B0-4CE4-8A1F-EC720DE05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E8EF-36E8-44B5-8D7F-FD9A88153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D8E0-E350-4A8C-8F5B-76A2628FA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D606-8922-448A-906D-2E71AACE6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0D0D-C9E0-4BFE-A1F0-660BE6C74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573F-972E-4C51-BB9A-3600DF26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889B-6572-4B52-AB57-C75F212F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A2A0-B893-4318-922B-187C28A5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21625-890F-47D2-852C-7FFBB43C94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EC6F0-27D5-42AF-92F7-AFCFAC10F7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318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75248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00"/>
                </a:solidFill>
                <a:latin typeface="Monotype Corsiva"/>
              </a:rPr>
              <a:t>10 ROSAS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00"/>
                </a:solidFill>
                <a:latin typeface="Monotype Corsiva"/>
              </a:rPr>
              <a:t>QUE TE OFEREÇO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00"/>
                </a:solidFill>
                <a:latin typeface="Monotype Corsiva"/>
              </a:rPr>
              <a:t>COM CARINHO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18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Monotype Corsiva"/>
              </a:rPr>
              <a:t>A Rosa da SINCERIDAD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E, por último, a Rosa da LONGA VID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838080" y="380880"/>
            <a:ext cx="8077320" cy="65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6633"/>
                </a:solidFill>
                <a:latin typeface="Times New Roman"/>
              </a:rPr>
              <a:t>Te Quiero Much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" sz="135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                     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O importante deste mensagem é a AMIZADE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que não poderás ficar com ela toda, para ti!       Reparte-a com as pessoas tuas Amig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reenviando-lhes estas ROS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33ff"/>
                </a:solidFill>
                <a:latin typeface="Times New Roman"/>
              </a:rPr>
              <a:t>Não é loucura, não, mas é bonito oferecer flo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33"/>
                </a:solidFill>
                <a:latin typeface="Times New Roman"/>
              </a:rPr>
              <a:t>Não ficarei triste se me devolveres esta mensagem!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cc66"/>
                </a:solidFill>
                <a:latin typeface="Times New Roman"/>
              </a:rPr>
              <a:t>Gracias por aceptaresme como so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038480" y="1143000"/>
            <a:ext cx="185112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066680" y="318960"/>
            <a:ext cx="65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0000"/>
                </a:solidFill>
                <a:latin typeface="Monotype Corsiva"/>
              </a:rPr>
              <a:t>Guarda esta no teu coraçã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290080" y="6248520"/>
            <a:ext cx="69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0000"/>
                </a:solidFill>
                <a:latin typeface="Times New Roman"/>
              </a:rPr>
              <a:t>Linito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318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-22860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6600"/>
                </a:solidFill>
                <a:latin typeface="Monotype Corsiva"/>
              </a:rPr>
              <a:t>A Rosa da AMIZAD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318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-28440" y="10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318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-45720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Monotype Corsiva"/>
              </a:rPr>
              <a:t>A Rosa do AM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83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Monotype Corsiva"/>
              </a:rPr>
              <a:t>A Rosa da SAÚD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-28440" y="10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318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33"/>
                </a:solidFill>
                <a:latin typeface="Monotype Corsiva"/>
              </a:rPr>
              <a:t>A Rosa da SOR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318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18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28440" y="10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0" y="318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cc"/>
                </a:solidFill>
                <a:latin typeface="Monotype Corsiva"/>
              </a:rPr>
              <a:t>A Rosa das NOVAS AMIZAD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-28440" y="10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318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cc"/>
                </a:solidFill>
                <a:latin typeface="Monotype Corsiva"/>
              </a:rPr>
              <a:t>A Rosa da FELICIDAD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318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ff"/>
                </a:solidFill>
                <a:latin typeface="Monotype Corsiva"/>
              </a:rPr>
              <a:t>A Rosa da FAMÍLI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419720" y="0"/>
            <a:ext cx="4724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A Rosa da PAZ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22:59:02Z</dcterms:created>
  <dc:creator>jhinostroza</dc:creator>
  <dc:description/>
  <dc:language>en-US</dc:language>
  <cp:lastModifiedBy>***</cp:lastModifiedBy>
  <dcterms:modified xsi:type="dcterms:W3CDTF">2009-05-08T09:02:51Z</dcterms:modified>
  <cp:revision>17</cp:revision>
  <dc:subject/>
  <dc:title>Presentación de PowerPoint</dc:title>
</cp:coreProperties>
</file>