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dt" idx="7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ftr" idx="8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 type="sldNum" idx="9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BB62D3-4F2A-4205-B35A-184585461B9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BDC4C2-9A25-4C5B-BE7B-B3F7E9175C82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568080" y="4560480"/>
            <a:ext cx="536580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G Times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G Times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65AF-1193-4EBF-828D-382D5978F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DC5E-A629-48FA-A932-988D124F3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0F88-4481-4C89-9FD1-72693DD37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7206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3745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7206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3745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52BB-D0B5-4A96-A740-67C74220F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3E5AE-98EF-4579-BCDB-5E202ABF6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D9D39-E3BB-4C00-B3EA-19D86B4C9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95300-6341-4E49-B76E-F994DD50C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B4D00-481C-48FA-886D-208573376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3F2F5-A181-4242-AC80-DBA167FDD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143000" y="-90360"/>
            <a:ext cx="7772400" cy="77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DC2EE-1B1D-4C2E-8EFF-768B6C306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58AE0-F0A0-4337-861F-589207EF8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70D0-12ED-4BCC-BFE2-5840028FD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CFA85-9F3E-4846-872A-26BEACE38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F3FC0-14E9-4A19-919C-FA8658BC4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0B881-B3D9-4D6D-A2FA-54DA5FACD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F9535-2C96-4258-A645-E60948A9B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7206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3745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7206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3745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29D7E-4C71-4173-930F-D8D7D3CD2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8653-0183-4A12-9606-AC2B2A678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777E-ADBE-43C8-A3FC-A0523F39A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A87F-664B-4AAF-861E-25601CB35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43000" y="-90360"/>
            <a:ext cx="7772400" cy="77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0278-23FA-43E5-86F7-41178D525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3015-1A0A-4683-9006-891323989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3164-6810-49A3-8487-ADAB9035B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4206-D397-418C-8E1F-3665FB37F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7"/>
          <p:cNvGrpSpPr/>
          <p:nvPr/>
        </p:nvGrpSpPr>
        <p:grpSpPr>
          <a:xfrm>
            <a:off x="152280" y="313920"/>
            <a:ext cx="847440" cy="6543720"/>
            <a:chOff x="152280" y="313920"/>
            <a:chExt cx="847440" cy="6543720"/>
          </a:xfrm>
        </p:grpSpPr>
        <p:sp>
          <p:nvSpPr>
            <p:cNvPr id="1" name="AutoShape 8"/>
            <p:cNvSpPr/>
            <p:nvPr/>
          </p:nvSpPr>
          <p:spPr>
            <a:xfrm flipH="1" rot="5400000">
              <a:off x="129960" y="3165480"/>
              <a:ext cx="894600" cy="844560"/>
            </a:xfrm>
            <a:prstGeom prst="parallelogram">
              <a:avLst>
                <a:gd name="adj" fmla="val 5609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utoShape 9"/>
            <p:cNvSpPr/>
            <p:nvPr/>
          </p:nvSpPr>
          <p:spPr>
            <a:xfrm flipH="1" rot="5400000">
              <a:off x="129960" y="4107960"/>
              <a:ext cx="894600" cy="844560"/>
            </a:xfrm>
            <a:prstGeom prst="parallelogram">
              <a:avLst>
                <a:gd name="adj" fmla="val 5609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AutoShape 10"/>
            <p:cNvSpPr/>
            <p:nvPr/>
          </p:nvSpPr>
          <p:spPr>
            <a:xfrm flipH="1" rot="5400000">
              <a:off x="127440" y="5046840"/>
              <a:ext cx="894600" cy="844920"/>
            </a:xfrm>
            <a:prstGeom prst="parallelogram">
              <a:avLst>
                <a:gd name="adj" fmla="val 5606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AutoShape 11"/>
            <p:cNvSpPr/>
            <p:nvPr/>
          </p:nvSpPr>
          <p:spPr>
            <a:xfrm flipH="1" rot="5400000">
              <a:off x="131760" y="5992920"/>
              <a:ext cx="884880" cy="844560"/>
            </a:xfrm>
            <a:prstGeom prst="parallelogram">
              <a:avLst>
                <a:gd name="adj" fmla="val 55482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AutoShape 12"/>
            <p:cNvSpPr/>
            <p:nvPr/>
          </p:nvSpPr>
          <p:spPr>
            <a:xfrm flipH="1" rot="5400000">
              <a:off x="129960" y="338760"/>
              <a:ext cx="894600" cy="844560"/>
            </a:xfrm>
            <a:prstGeom prst="parallelogram">
              <a:avLst>
                <a:gd name="adj" fmla="val 5609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AutoShape 13"/>
            <p:cNvSpPr/>
            <p:nvPr/>
          </p:nvSpPr>
          <p:spPr>
            <a:xfrm flipH="1" rot="5400000">
              <a:off x="127440" y="1274760"/>
              <a:ext cx="894600" cy="844920"/>
            </a:xfrm>
            <a:prstGeom prst="parallelogram">
              <a:avLst>
                <a:gd name="adj" fmla="val 5606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AutoShape 14"/>
            <p:cNvSpPr/>
            <p:nvPr/>
          </p:nvSpPr>
          <p:spPr>
            <a:xfrm flipH="1" rot="5400000">
              <a:off x="127440" y="2220120"/>
              <a:ext cx="894600" cy="844920"/>
            </a:xfrm>
            <a:prstGeom prst="parallelogram">
              <a:avLst>
                <a:gd name="adj" fmla="val 5606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" name="Rectangle 15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AutoShape 16"/>
          <p:cNvSpPr/>
          <p:nvPr/>
        </p:nvSpPr>
        <p:spPr>
          <a:xfrm flipH="1">
            <a:off x="546840" y="1703520"/>
            <a:ext cx="8596440" cy="25380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Oval 17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Rectangle 18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Oval 19"/>
          <p:cNvSpPr/>
          <p:nvPr/>
        </p:nvSpPr>
        <p:spPr>
          <a:xfrm>
            <a:off x="9209160" y="16765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Rectangle 20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" name="Group 21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15" name="AutoShape 22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AutoShape 23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AutoShape 24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AutoShape 25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AutoShape 26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AutoShape 27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28"/>
            <p:cNvSpPr/>
            <p:nvPr/>
          </p:nvSpPr>
          <p:spPr>
            <a:xfrm>
              <a:off x="155520" y="0"/>
              <a:ext cx="844560" cy="738360"/>
            </a:xfrm>
            <a:prstGeom prst="pie">
              <a:avLst/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29"/>
            <p:cNvSpPr/>
            <p:nvPr/>
          </p:nvSpPr>
          <p:spPr>
            <a:xfrm>
              <a:off x="150840" y="6445080"/>
              <a:ext cx="725400" cy="412920"/>
            </a:xfrm>
            <a:prstGeom prst="pie">
              <a:avLst/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541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2E78A-60DC-40BD-89AB-4436357741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5" name="Rectangle 3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c6d9a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Rectangle 4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c6d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7" name="Group 10"/>
          <p:cNvGrpSpPr/>
          <p:nvPr/>
        </p:nvGrpSpPr>
        <p:grpSpPr>
          <a:xfrm>
            <a:off x="152280" y="313920"/>
            <a:ext cx="847440" cy="6543720"/>
            <a:chOff x="152280" y="313920"/>
            <a:chExt cx="847440" cy="6543720"/>
          </a:xfrm>
        </p:grpSpPr>
        <p:sp>
          <p:nvSpPr>
            <p:cNvPr id="68" name="AutoShape 11"/>
            <p:cNvSpPr/>
            <p:nvPr/>
          </p:nvSpPr>
          <p:spPr>
            <a:xfrm flipH="1" rot="5400000">
              <a:off x="129960" y="3165480"/>
              <a:ext cx="894600" cy="844560"/>
            </a:xfrm>
            <a:prstGeom prst="parallelogram">
              <a:avLst>
                <a:gd name="adj" fmla="val 5609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AutoShape 12"/>
            <p:cNvSpPr/>
            <p:nvPr/>
          </p:nvSpPr>
          <p:spPr>
            <a:xfrm flipH="1" rot="5400000">
              <a:off x="129960" y="4107960"/>
              <a:ext cx="894600" cy="844560"/>
            </a:xfrm>
            <a:prstGeom prst="parallelogram">
              <a:avLst>
                <a:gd name="adj" fmla="val 5609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AutoShape 13"/>
            <p:cNvSpPr/>
            <p:nvPr/>
          </p:nvSpPr>
          <p:spPr>
            <a:xfrm flipH="1" rot="5400000">
              <a:off x="127440" y="5046840"/>
              <a:ext cx="894600" cy="844920"/>
            </a:xfrm>
            <a:prstGeom prst="parallelogram">
              <a:avLst>
                <a:gd name="adj" fmla="val 5606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AutoShape 14"/>
            <p:cNvSpPr/>
            <p:nvPr/>
          </p:nvSpPr>
          <p:spPr>
            <a:xfrm flipH="1" rot="5400000">
              <a:off x="131760" y="5992920"/>
              <a:ext cx="884880" cy="844560"/>
            </a:xfrm>
            <a:prstGeom prst="parallelogram">
              <a:avLst>
                <a:gd name="adj" fmla="val 55482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AutoShape 15"/>
            <p:cNvSpPr/>
            <p:nvPr/>
          </p:nvSpPr>
          <p:spPr>
            <a:xfrm flipH="1" rot="5400000">
              <a:off x="129960" y="338760"/>
              <a:ext cx="894600" cy="844560"/>
            </a:xfrm>
            <a:prstGeom prst="parallelogram">
              <a:avLst>
                <a:gd name="adj" fmla="val 5609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AutoShape 16"/>
            <p:cNvSpPr/>
            <p:nvPr/>
          </p:nvSpPr>
          <p:spPr>
            <a:xfrm flipH="1" rot="5400000">
              <a:off x="127440" y="1274760"/>
              <a:ext cx="894600" cy="844920"/>
            </a:xfrm>
            <a:prstGeom prst="parallelogram">
              <a:avLst>
                <a:gd name="adj" fmla="val 5606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AutoShape 17"/>
            <p:cNvSpPr/>
            <p:nvPr/>
          </p:nvSpPr>
          <p:spPr>
            <a:xfrm flipH="1" rot="5400000">
              <a:off x="127440" y="2220120"/>
              <a:ext cx="894600" cy="844920"/>
            </a:xfrm>
            <a:prstGeom prst="parallelogram">
              <a:avLst>
                <a:gd name="adj" fmla="val 5606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5" name="Rectangle 18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AutoShape 19"/>
          <p:cNvSpPr/>
          <p:nvPr/>
        </p:nvSpPr>
        <p:spPr>
          <a:xfrm flipH="1">
            <a:off x="546840" y="2717640"/>
            <a:ext cx="8596440" cy="25416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Oval 20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Rectangle 21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Oval 22"/>
          <p:cNvSpPr/>
          <p:nvPr/>
        </p:nvSpPr>
        <p:spPr>
          <a:xfrm>
            <a:off x="9236160" y="26971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Rectangle 23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1" name="Group 24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82" name="AutoShape 25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AutoShape 26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AutoShape 27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AutoShape 28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AutoShape 29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AutoShape 30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31"/>
            <p:cNvSpPr/>
            <p:nvPr/>
          </p:nvSpPr>
          <p:spPr>
            <a:xfrm>
              <a:off x="155520" y="0"/>
              <a:ext cx="844560" cy="738360"/>
            </a:xfrm>
            <a:prstGeom prst="pie">
              <a:avLst/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Freeform 32"/>
            <p:cNvSpPr/>
            <p:nvPr/>
          </p:nvSpPr>
          <p:spPr>
            <a:xfrm>
              <a:off x="150840" y="6445080"/>
              <a:ext cx="725400" cy="412920"/>
            </a:xfrm>
            <a:prstGeom prst="pie">
              <a:avLst/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4"/>
          </p:nvPr>
        </p:nvSpPr>
        <p:spPr>
          <a:xfrm>
            <a:off x="1119240" y="6318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5"/>
          </p:nvPr>
        </p:nvSpPr>
        <p:spPr>
          <a:xfrm>
            <a:off x="3557520" y="6318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6"/>
          </p:nvPr>
        </p:nvSpPr>
        <p:spPr>
          <a:xfrm>
            <a:off x="6986520" y="6318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6CCA8-A9CB-4A51-8093-DE14F39023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4160" y="1881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Effective Writing Basics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17144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ips that can improve your writing skil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Example 4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Univer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Univers"/>
                <a:ea typeface="Courier New"/>
              </a:rPr>
              <a:t>While the new ST7000 provides extensive memory and is extremely user compatible, it lacks the requisite capacity for calculating at a high rate of speed.  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Univer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Univers"/>
                <a:ea typeface="Times New Roman"/>
              </a:rPr>
              <a:t>Our computer system is easy to use and has enough memory, but it is too slow.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Example 5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Univer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  <a:ea typeface="Courier New"/>
              </a:rPr>
              <a:t>Demand-side capacity combined with transmission wheeling contracts and local generation resources will be able to meet local demand and spinning reserve requirements for the next five years.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Univer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  <a:ea typeface="Courier New"/>
              </a:rPr>
              <a:t>SMUD will be able to save and produce enough power to meet local needs for the next five years.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43000" y="14436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Five keys to effective writing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Key #4: Write with verbs and noun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Use the active voic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When it is okay to use passive voic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Example 6</a:t>
            </a: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	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Univer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  <a:ea typeface="Courier New"/>
              </a:rPr>
              <a:t>The company (S) sells (V)  insurance (O).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Univer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Univers"/>
                <a:ea typeface="Courier New"/>
              </a:rPr>
              <a:t>Not</a:t>
            </a:r>
            <a:r>
              <a:rPr b="0" lang="en-US" sz="2800" spc="-1" strike="noStrike">
                <a:solidFill>
                  <a:srgbClr val="ffffff"/>
                </a:solidFill>
                <a:latin typeface="Univers"/>
                <a:ea typeface="Courier New"/>
              </a:rPr>
              <a:t>:  Insurance is sold by the company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Univer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  <a:ea typeface="Courier New"/>
              </a:rPr>
              <a:t>The construction crew repaired the road.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Univer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Univers"/>
                <a:ea typeface="Courier New"/>
              </a:rPr>
              <a:t>Not</a:t>
            </a:r>
            <a:r>
              <a:rPr b="0" lang="en-US" sz="2800" spc="-1" strike="noStrike">
                <a:solidFill>
                  <a:srgbClr val="ffffff"/>
                </a:solidFill>
                <a:latin typeface="Univers"/>
                <a:ea typeface="Courier New"/>
              </a:rPr>
              <a:t>:  The road was repaired by the construction company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Univer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  <a:ea typeface="Courier New"/>
              </a:rPr>
              <a:t>Tests showed the new material did not wear well.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Univer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Univers"/>
                <a:ea typeface="Courier New"/>
              </a:rPr>
              <a:t>Not:</a:t>
            </a:r>
            <a:r>
              <a:rPr b="0" lang="en-US" sz="2800" spc="-1" strike="noStrike">
                <a:solidFill>
                  <a:srgbClr val="ffffff"/>
                </a:solidFill>
                <a:latin typeface="Univers"/>
                <a:ea typeface="Courier New"/>
              </a:rPr>
              <a:t>  When tests were run, it was discovered that good wear is not exhibited by the new material.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Example 7</a:t>
            </a: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	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Univer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Univers"/>
                <a:ea typeface="Courier New"/>
              </a:rPr>
              <a:t>Choose the right verb and the right noun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Univer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  <a:ea typeface="Courier New"/>
              </a:rPr>
              <a:t>Mr. Johnson ran quickly across the four-lane street, almost falling down when he stepped in a large hole in the concrete. (22 words)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Univer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  <a:ea typeface="Courier New"/>
              </a:rPr>
              <a:t>Mr. Johnson sprinted across the boulevard, stumbling when he stepped in a pothole. (13 words)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3000" y="14436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Five keys to effective writing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Key #5:  Format document to improve readability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Use lists, bullets, charts, tables, indents, italics, bolds, headings and subheading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The 100-word rul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Plan, organize, write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Before you begin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Who is the audience (“My audience is _________.”)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Purpose of the message (“My purpose is________.”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How will the reader use the information (“So that the reader will________.”)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Plan, organize, write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As you begin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Assemble all useful informatio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Determine what’s importan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hoose what to leave 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</a:rPr>
              <a:t>ou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Group information logically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Plan, organize, write</a:t>
            </a: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	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 ways to organiz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Divisio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ompare/contras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ause/effec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Problem-analysis solutio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Division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tart with main idea, then discuss the part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Example: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Indian Pharmaceutical companies faces four problems that threaten its competitiveness: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Outdated marketing plan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High price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Low Moral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Five keys to effective writing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Put the reader firs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Use simple words and short sentence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Use jargon only when necessary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Write with verbs and noun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Format to improve readability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Compare/Contrast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Use familiar to explain unfamiliar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Put the conclusion up fron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Example: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If we expand in the West we will face the same challenges as we did in expanding to the South: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Lack of identit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oor distribution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hort p-term cash flow problem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Untrained labor forc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Plan, organize, write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Develop an outlin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Writ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Write the easiest part firs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Develop major sections one at a tim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Introduction for main idea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Main point in first paragraph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Turn off your internal editor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Plan, organize, write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90% of writing is re-writing and editing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Let the document coo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Run a Fog tes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Aim to cut first draft by at least 10%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N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Happy Learning!!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43000" y="14436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Five keys to effective writing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Key #1:  Put the reader firs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ommunication = understanding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Write to EXpress not Impres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Use words readers can pictur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Tie in to the reader’s experienc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WIIFM – What’s in it for m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43000" y="14436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Five keys to effective writing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Key #2: Use simple words and short sentence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Example 1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Univer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Univers"/>
                <a:ea typeface="Courier New"/>
              </a:rPr>
              <a:t>Per our conversation, I am enclosing herewith a remittance of Rs 2500 for the balance due on my account. (18 words)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Univer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Univers"/>
                <a:ea typeface="Courier New"/>
              </a:rPr>
              <a:t>As we discussed, here is the Rs 2500 remaining on my account. (11 words)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Univer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Univers"/>
                <a:ea typeface="Courier New"/>
              </a:rPr>
              <a:t>Here is the Rs 2500 remaining on my account. (8 words)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Example 2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Univer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Univers"/>
                <a:ea typeface="Courier New"/>
              </a:rPr>
              <a:t>As pertaining to the question of whether or not to construct a new storage facility, corporate management will ascertain the appropriateness of such an issue in the near future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Univer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Univers"/>
                <a:ea typeface="Courier New"/>
              </a:rPr>
              <a:t>Management will decide next week whether to build a new storage facility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4300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Tip 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Courier New"/>
              </a:rPr>
              <a:t>Avoid wordy prepositional phrase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Courier New"/>
              </a:rPr>
              <a:t>In the amount of (for)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Courier New"/>
              </a:rPr>
              <a:t>In order to (to)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Courier New"/>
              </a:rPr>
              <a:t>Due to the fact that (because)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Courier New"/>
              </a:rPr>
              <a:t>In the event that (if)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Courier New"/>
              </a:rPr>
              <a:t>During the time that (when, while)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43000" y="14436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Five keys to effective writing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Key #3:  Use jargon only when necessary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What is jargon?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Example 3</a:t>
            </a: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	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Univer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Univers"/>
                <a:ea typeface="Courier New"/>
              </a:rPr>
              <a:t>The new FMIS system from Global provides VOR/DME nav redundancy, as well as enhanced GPS capability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Univer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Univers"/>
                <a:ea typeface="Courier New"/>
              </a:rPr>
              <a:t>Global's new flight management system provides several ways to navigate your airplane, including the latest in satellite navigation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16T20:53:53Z</dcterms:created>
  <dc:creator>Scott Mackey</dc:creator>
  <dc:description/>
  <dc:language>en-US</dc:language>
  <cp:lastModifiedBy>Abheeuday</cp:lastModifiedBy>
  <cp:lastPrinted>2009-04-22T19:24:48Z</cp:lastPrinted>
  <dcterms:modified xsi:type="dcterms:W3CDTF">2013-10-28T10:38:28Z</dcterms:modified>
  <cp:revision>19</cp:revision>
  <dc:subject/>
  <dc:title>Six keys to effective writing</dc:title>
</cp:coreProperties>
</file>