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jpeg" ContentType="image/jpeg"/>
  <Override PartName="/ppt/media/image13.wmf" ContentType="image/x-wmf"/>
  <Override PartName="/ppt/media/image8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11.wmf" ContentType="image/x-wmf"/>
  <Override PartName="/ppt/media/image3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4.jpeg" ContentType="image/jpe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5555-A023-4BB5-91A6-8D1660474E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4787-D39F-4217-9C8C-485916F969C2}" type="slidenum">
              <a:rPr b="0" lang="en-US" sz="12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6B3-3B32-45BD-8F22-99FC0F68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C19-F583-4AED-9583-69511D79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3C7-5E81-4471-AD70-3C98A7F4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465-CA69-4ADD-AF67-7BD1C664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C163-6370-4C24-BF6F-AADD772A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6319-D719-45C0-9487-70A8419B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89F4-B0C1-4A08-99F0-F67F76EB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71AB-5D4C-454E-BC67-8BC2CC27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9B4E-8685-4CBF-A258-156AED0A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9F41-9580-4CE6-A504-581E51AE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55AC-1D1C-4BBB-94D4-EE89C8D0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D59-829E-4610-B464-85DE3451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7054-A438-47DF-9AC1-AF6478C1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B947-69AF-429B-9EC9-862F5B34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FB32-B305-4817-9111-30A721AB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A508-E182-487A-9100-3B9B8EC4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61B6-D5F3-4E77-A41C-C05E63A9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16C-9F2B-4FDF-B379-C220D80D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594-6E64-4345-BA3E-96A22450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4EB-3E17-4E78-98A4-4AC53FEC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9CA-93E0-477D-B878-F28D5A5D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D0D-CCC7-49FB-AA04-5DA81F3C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D70-C1D5-480C-97EF-D705DEE3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AF9E-568F-44A1-97C0-0902766E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9428-ABD2-411E-BD77-6DE4522623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5AB2-E819-4540-9313-4069F27A9ED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5638680" cy="730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nguage skill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64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all the skills necessary to learn a language, the two most important ar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ading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intake of inform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rit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production of inform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6553080" y="3429000"/>
            <a:ext cx="1648080" cy="28288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7"/>
          <p:cNvSpPr/>
          <p:nvPr/>
        </p:nvSpPr>
        <p:spPr>
          <a:xfrm>
            <a:off x="7086600" y="1905120"/>
            <a:ext cx="1752480" cy="1143000"/>
          </a:xfrm>
          <a:prstGeom prst="wedgeRectCallout">
            <a:avLst>
              <a:gd name="adj1" fmla="val -43518"/>
              <a:gd name="adj2" fmla="val 80694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ad it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cess it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se it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0" y="6854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 Unicode MS"/>
              </a:rPr>
              <a:t>Skimming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Skimming covers the content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at a general le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It involves reading at about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twice your normal rat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Focuses on introductory statements, topic sentences and boldface term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Provides the chance for you to see what kind of information the assignment contai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 Unicode MS"/>
              </a:rPr>
              <a:t>Enables you to gather the surface ideas if you don’t have enough time to read deep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Picture 4" descr="06_Reading_2"/>
          <p:cNvPicPr/>
          <p:nvPr/>
        </p:nvPicPr>
        <p:blipFill>
          <a:blip r:embed="rId1"/>
          <a:stretch/>
        </p:blipFill>
        <p:spPr>
          <a:xfrm>
            <a:off x="6248520" y="1066680"/>
            <a:ext cx="2666880" cy="24577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"/>
          <p:cNvSpPr/>
          <p:nvPr/>
        </p:nvSpPr>
        <p:spPr>
          <a:xfrm>
            <a:off x="-2133720" y="38088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Arial Unicode MS"/>
              </a:rPr>
              <a:t>Skim!!!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-2209680" y="228600"/>
            <a:ext cx="2209680" cy="1219320"/>
          </a:xfrm>
          <a:prstGeom prst="leftArrow">
            <a:avLst>
              <a:gd name="adj1" fmla="val 50000"/>
              <a:gd name="adj2" fmla="val 45306"/>
            </a:avLst>
          </a:prstGeom>
          <a:solidFill>
            <a:srgbClr val="99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kim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395784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Active Re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Use it to avoid </a:t>
            </a:r>
            <a:r>
              <a:rPr b="0" i="1" lang="en-US" sz="3200" spc="-1" strike="noStrike">
                <a:solidFill>
                  <a:srgbClr val="eaeaea"/>
                </a:solidFill>
                <a:latin typeface="Arial Unicode MS"/>
              </a:rPr>
              <a:t>empty</a:t>
            </a: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 reading</a:t>
            </a:r>
            <a:r>
              <a:rPr b="0" lang="en-US" sz="3200" spc="-1" strike="noStrike">
                <a:solidFill>
                  <a:srgbClr val="eaeaea"/>
                </a:solidFill>
                <a:latin typeface="Arial Unicode MS"/>
                <a:ea typeface="Tahoma"/>
              </a:rPr>
              <a:t>—</a:t>
            </a: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reading  then realizing that no information has come acro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Focus on identifying the main ideas and on understanding how supporting points reinforce those ide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In other words, get really interested &amp; involved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Picture 5" descr="MCj02331180000[1]"/>
          <p:cNvPicPr/>
          <p:nvPr/>
        </p:nvPicPr>
        <p:blipFill>
          <a:blip r:embed="rId1"/>
          <a:stretch/>
        </p:blipFill>
        <p:spPr>
          <a:xfrm>
            <a:off x="533520" y="304920"/>
            <a:ext cx="2801880" cy="2012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MCDD00651_0000[1]"/>
          <p:cNvPicPr/>
          <p:nvPr/>
        </p:nvPicPr>
        <p:blipFill>
          <a:blip r:embed="rId2"/>
          <a:stretch/>
        </p:blipFill>
        <p:spPr>
          <a:xfrm>
            <a:off x="5867280" y="762120"/>
            <a:ext cx="1386000" cy="180972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7"/>
          <p:cNvSpPr/>
          <p:nvPr/>
        </p:nvSpPr>
        <p:spPr>
          <a:xfrm>
            <a:off x="3505320" y="990720"/>
            <a:ext cx="1752480" cy="914400"/>
          </a:xfrm>
          <a:prstGeom prst="wedgeRoundRectCallout">
            <a:avLst>
              <a:gd name="adj1" fmla="val -92481"/>
              <a:gd name="adj2" fmla="val -9375"/>
              <a:gd name="adj3" fmla="val 16667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ead us the story about the wol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7391520" y="152280"/>
            <a:ext cx="1447560" cy="1219320"/>
          </a:xfrm>
          <a:prstGeom prst="wedgeRectCallout">
            <a:avLst>
              <a:gd name="adj1" fmla="val -50986"/>
              <a:gd name="adj2" fmla="val 64453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ight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Get involved in reading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Analytic Re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391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Reading at a more intense leve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Involves breaking ideas open and digging underneath their surfa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Enables you to try to spot flaws in the writer’s logi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Promotes a comparison of the work to other work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Should involve questioning the author and yourself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In other words, active skepticism with a purpo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5" descr="MCj02153140000[1]"/>
          <p:cNvPicPr/>
          <p:nvPr/>
        </p:nvPicPr>
        <p:blipFill>
          <a:blip r:embed="rId1"/>
          <a:stretch/>
        </p:blipFill>
        <p:spPr>
          <a:xfrm>
            <a:off x="7162920" y="2743200"/>
            <a:ext cx="1755720" cy="1828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j0299125"/>
          <p:cNvPicPr/>
          <p:nvPr/>
        </p:nvPicPr>
        <p:blipFill>
          <a:blip r:embed="rId2"/>
          <a:stretch/>
        </p:blipFill>
        <p:spPr>
          <a:xfrm>
            <a:off x="7467480" y="2438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66" name="WordArt 7"/>
          <p:cNvSpPr txBox="1"/>
          <p:nvPr/>
        </p:nvSpPr>
        <p:spPr>
          <a:xfrm>
            <a:off x="304920" y="5334120"/>
            <a:ext cx="1828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alyz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8"/>
          <p:cNvSpPr txBox="1"/>
          <p:nvPr/>
        </p:nvSpPr>
        <p:spPr>
          <a:xfrm>
            <a:off x="6705720" y="5410080"/>
            <a:ext cx="21524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ynthesiz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8" name="WordArt 9"/>
          <p:cNvSpPr txBox="1"/>
          <p:nvPr/>
        </p:nvSpPr>
        <p:spPr>
          <a:xfrm>
            <a:off x="2514600" y="5562720"/>
            <a:ext cx="21812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criticiz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269" name="WordArt 10"/>
          <p:cNvSpPr txBox="1"/>
          <p:nvPr/>
        </p:nvSpPr>
        <p:spPr>
          <a:xfrm>
            <a:off x="4952880" y="5334120"/>
            <a:ext cx="14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alize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57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Highlighting Tex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b2ff"/>
                </a:solidFill>
                <a:latin typeface="Arial Unicode MS"/>
              </a:rPr>
              <a:t>Highlight</a:t>
            </a: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Topic sentences,  Key words,  Conclus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b2ff"/>
                </a:solidFill>
                <a:latin typeface="Arial Unicode MS"/>
              </a:rPr>
              <a:t>But watch out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Highlighting too much can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cause you to re-read everything</a:t>
            </a: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 because you don’t know what’s importa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Highlighting doesn’t show you </a:t>
            </a:r>
            <a:r>
              <a:rPr b="0" i="1" lang="en-US" sz="2800" spc="-1" strike="noStrike">
                <a:solidFill>
                  <a:srgbClr val="ff3300"/>
                </a:solidFill>
                <a:latin typeface="Arial Unicode MS"/>
              </a:rPr>
              <a:t>why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 you highlighted some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You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need to have the entire text</a:t>
            </a: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 with you to review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2" name="Object 4" descr=""/>
          <p:cNvPicPr/>
          <p:nvPr/>
        </p:nvPicPr>
        <p:blipFill>
          <a:blip r:embed="rId1"/>
          <a:stretch/>
        </p:blipFill>
        <p:spPr>
          <a:xfrm>
            <a:off x="5943600" y="533520"/>
            <a:ext cx="2590920" cy="1577880"/>
          </a:xfrm>
          <a:prstGeom prst="rect">
            <a:avLst/>
          </a:prstGeom>
          <a:ln w="0">
            <a:noFill/>
          </a:ln>
        </p:spPr>
      </p:pic>
      <p:sp>
        <p:nvSpPr>
          <p:cNvPr id="273" name="WordArt 5"/>
          <p:cNvSpPr txBox="1"/>
          <p:nvPr/>
        </p:nvSpPr>
        <p:spPr>
          <a:xfrm>
            <a:off x="6324480" y="533520"/>
            <a:ext cx="2381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mphasize &amp;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cognize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Unicode MS"/>
              </a:rPr>
              <a:t>Important Points About  Re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55641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Instructors do NOT always cover the reading material in lectu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You are expected to read the material and understand it on your ow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Successful students complete assigned readings </a:t>
            </a:r>
            <a:r>
              <a:rPr b="0" i="1" lang="en-US" sz="2400" spc="-1" strike="noStrike">
                <a:solidFill>
                  <a:srgbClr val="eaeaea"/>
                </a:solidFill>
                <a:latin typeface="Arial Unicode MS"/>
              </a:rPr>
              <a:t>before</a:t>
            </a: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 class to help them understand the lectu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Connections and overlaps between lecture and reading reinforce learning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Also, reading ahead prevents you from being embarrassed when you are called on to discuss what you’ve read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6" name="Picture 4" descr="MCED00015_0000[1]"/>
          <p:cNvPicPr/>
          <p:nvPr/>
        </p:nvPicPr>
        <p:blipFill>
          <a:blip r:embed="rId1"/>
          <a:stretch/>
        </p:blipFill>
        <p:spPr>
          <a:xfrm>
            <a:off x="6400800" y="4038480"/>
            <a:ext cx="2438280" cy="2567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2"/>
          <a:stretch/>
        </p:blipFill>
        <p:spPr>
          <a:xfrm>
            <a:off x="6400800" y="2286000"/>
            <a:ext cx="2028960" cy="265104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6"/>
          <p:cNvSpPr/>
          <p:nvPr/>
        </p:nvSpPr>
        <p:spPr>
          <a:xfrm>
            <a:off x="6324480" y="1066680"/>
            <a:ext cx="2514600" cy="1067040"/>
          </a:xfrm>
          <a:prstGeom prst="wedgeRectCallout">
            <a:avLst>
              <a:gd name="adj1" fmla="val 2148"/>
              <a:gd name="adj2" fmla="val 71277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Take that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Unworthy adversary of reading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A Summary of Strategies to Improve Read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Practice a positive attitud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Make the author your compan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Pace yourself according to difficulty le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Take breaks to restore concentra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4304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Read other sources if the reading is confus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Build your vocabular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Work on reading fast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WordArt 6"/>
          <p:cNvSpPr txBox="1"/>
          <p:nvPr/>
        </p:nvSpPr>
        <p:spPr>
          <a:xfrm>
            <a:off x="990720" y="5867280"/>
            <a:ext cx="7086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reat readers make great students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Unicode MS"/>
              </a:rPr>
              <a:t>Take Charge of Your ReadinReading skil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Before all else, if you don’t like to read, accept the importance of the skill and work on it. This is CRITICAL to your succes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Commit to reading go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Plan time and space to concentr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Capture knowledge and connect ide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Know how to read primary and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 secondary sourc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Preview and Review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5" descr="MCj04122440000[1]"/>
          <p:cNvPicPr/>
          <p:nvPr/>
        </p:nvPicPr>
        <p:blipFill>
          <a:blip r:embed="rId1"/>
          <a:stretch/>
        </p:blipFill>
        <p:spPr>
          <a:xfrm>
            <a:off x="6553080" y="4038480"/>
            <a:ext cx="2328840" cy="262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87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Commit to Reading Go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31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Stay positive, reading can be enjoyabl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Make the author your compan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Pace yourself according to difficulty le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Take breaks (10 min break every 50 minutes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Read other sources if the assigned reading is confus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Keep building your vocabulary (keep a dictionary handy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When studying for a test, skim readings for key points and terms</a:t>
            </a: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Make understanding the material of prime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importance</a:t>
            </a: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762120" y="6248520"/>
            <a:ext cx="7543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need to read is great indeed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72520"/>
            <a:ext cx="8763120" cy="87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Unicode MS"/>
              </a:rPr>
              <a:t>Plan Time and Space to Concentrat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6096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Reading takes a great deal of concentr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Find an environment in which you can concentrate bes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If you must read in a noisy environment, consider wearing headphones with familiar instrumental music just loud enough to block distra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Schedule time to read in a place where you won’t be interrupted (or distracted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4" descr="MPj04003580000[1]"/>
          <p:cNvPicPr/>
          <p:nvPr/>
        </p:nvPicPr>
        <p:blipFill>
          <a:blip r:embed="rId1"/>
          <a:stretch/>
        </p:blipFill>
        <p:spPr>
          <a:xfrm>
            <a:off x="6856560" y="1295280"/>
            <a:ext cx="1930320" cy="289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72880"/>
            <a:ext cx="5867280" cy="71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Unicode MS"/>
              </a:rPr>
              <a:t>Capture and Connec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Capture the supporting details; connect them to the main ide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Capture what you don’t know and connect it to what you do know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Unicode MS"/>
              </a:rPr>
              <a:t>Elements of Your Reading Pl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Previe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Skimm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Active Re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Analytic Re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Revie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4" descr="06_Reading_3"/>
          <p:cNvPicPr/>
          <p:nvPr/>
        </p:nvPicPr>
        <p:blipFill>
          <a:blip r:embed="rId1"/>
          <a:stretch/>
        </p:blipFill>
        <p:spPr>
          <a:xfrm>
            <a:off x="5105520" y="3962520"/>
            <a:ext cx="3524040" cy="232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1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Know How to Read Primary and Secondary 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Primary Source -</a:t>
            </a: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 material written in some original form; more difficult reading le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Autobiograph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Speech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Research Repor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Government Docu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Scholarly Artic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9400" y="1598760"/>
            <a:ext cx="4032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Secondary Source -</a:t>
            </a: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 summarizes or interprets primary sour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Magazine Artic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Unicode MS"/>
              </a:rPr>
              <a:t>Textboo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87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Developing Your 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6021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Consider the context around new and challenging word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Jot down unfamiliar terms and find the meaning using a dictionar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Analyze terms to discover the most meaningful part of the word (especially true in Biology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Take the opportunity to use new terms in your writing and speaking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1029" descr=""/>
          <p:cNvPicPr/>
          <p:nvPr/>
        </p:nvPicPr>
        <p:blipFill>
          <a:blip r:embed="rId1"/>
          <a:stretch/>
        </p:blipFill>
        <p:spPr>
          <a:xfrm>
            <a:off x="6534000" y="3200400"/>
            <a:ext cx="2343240" cy="312408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1030"/>
          <p:cNvSpPr/>
          <p:nvPr/>
        </p:nvSpPr>
        <p:spPr>
          <a:xfrm>
            <a:off x="6781680" y="1600200"/>
            <a:ext cx="1828800" cy="1143000"/>
          </a:xfrm>
          <a:prstGeom prst="wedgeRectCallout">
            <a:avLst>
              <a:gd name="adj1" fmla="val -20745"/>
              <a:gd name="adj2" fmla="val 104583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Learn to read “outside the box!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304812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Pre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743200" y="12193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Scan the material to see what lies ahea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Consider the context for the assign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Consider the length of the reading assignment and estimate how long it will take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Consider the structure and features of the reading to help you digest the materia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Unicode MS"/>
              </a:rPr>
              <a:t>Consider the difficulty and plan your time according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1062000" y="2133720"/>
            <a:ext cx="1443240" cy="420048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6"/>
          <p:cNvSpPr/>
          <p:nvPr/>
        </p:nvSpPr>
        <p:spPr>
          <a:xfrm>
            <a:off x="380880" y="609480"/>
            <a:ext cx="2362320" cy="1143000"/>
          </a:xfrm>
          <a:prstGeom prst="wedgeRectCallout">
            <a:avLst>
              <a:gd name="adj1" fmla="val -2888"/>
              <a:gd name="adj2" fmla="val 78750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s is a lot of work! Who needs it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WordArt 7"/>
          <p:cNvSpPr txBox="1"/>
          <p:nvPr/>
        </p:nvSpPr>
        <p:spPr>
          <a:xfrm>
            <a:off x="380880" y="2286000"/>
            <a:ext cx="22100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ro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352320" y="304920"/>
            <a:ext cx="319572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Unicode MS"/>
              </a:rPr>
              <a:t>Review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5716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5b2ff"/>
                </a:solidFill>
                <a:latin typeface="Arial Unicode MS"/>
              </a:rPr>
              <a:t>Review to remember the main points of the materi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5b2ff"/>
                </a:solidFill>
                <a:latin typeface="Arial Unicode MS"/>
              </a:rPr>
              <a:t>Test yourself on your comprehens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5b2ff"/>
                </a:solidFill>
                <a:latin typeface="Arial Unicode MS"/>
              </a:rPr>
              <a:t>Some ways to review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Unicode MS"/>
              </a:rPr>
              <a:t>not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Unicode MS"/>
              </a:rPr>
              <a:t>study ques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Unicode MS"/>
              </a:rPr>
              <a:t>flash card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Unicode MS"/>
              </a:rPr>
              <a:t>visual map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Unicode MS"/>
              </a:rPr>
              <a:t>outlin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5b2ff"/>
                </a:solidFill>
                <a:latin typeface="Arial Unicode MS"/>
              </a:rPr>
              <a:t>Make reviewing every week a study goal.</a:t>
            </a:r>
            <a:r>
              <a:rPr b="1" i="1" lang="en-US" sz="2400" spc="-1" strike="noStrike">
                <a:solidFill>
                  <a:srgbClr val="eaeaea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WordArt 1032"/>
          <p:cNvSpPr txBox="1"/>
          <p:nvPr/>
        </p:nvSpPr>
        <p:spPr>
          <a:xfrm>
            <a:off x="838080" y="5791320"/>
            <a:ext cx="7134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viewing is an excellent memory aid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0" name="Picture 1033" descr="MCj03966460000[1]"/>
          <p:cNvPicPr/>
          <p:nvPr/>
        </p:nvPicPr>
        <p:blipFill>
          <a:blip r:embed="rId1"/>
          <a:stretch/>
        </p:blipFill>
        <p:spPr>
          <a:xfrm>
            <a:off x="6553080" y="2209680"/>
            <a:ext cx="190836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8:45:38Z</dcterms:created>
  <dc:creator>Leo Kenny</dc:creator>
  <dc:description/>
  <dc:language>en-US</dc:language>
  <cp:lastModifiedBy>Abheeuday</cp:lastModifiedBy>
  <dcterms:modified xsi:type="dcterms:W3CDTF">2013-10-05T17:28:29Z</dcterms:modified>
  <cp:revision>54</cp:revision>
  <dc:subject/>
  <dc:title>PowerPoint Presentation</dc:title>
</cp:coreProperties>
</file>