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7A77-F6B4-4E4F-A24E-5E04083B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DE71-D0F1-4056-ACA9-E89F4E21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5155-4431-44A5-B2D0-51C88B89B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8D5A-C701-4395-9D7D-37AD9E25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C975-C9AD-45E7-8CB4-0C2B71B7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0CBC-1A02-4B7E-A3D6-1E267302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ED9E-7E3D-407A-B9F5-15BE2F1B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472D-99E2-42FB-B31E-2FFEF037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FB44-66CA-4D33-AAAA-8F2C9AB4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4759-6ECE-4569-8799-10EF4389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681C-1AD2-4538-9BC6-94E4C5BA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0ACD-938C-4730-8D4B-BD8B0820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D1C2-AF48-44D4-9384-B6B90F81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814F-3CD7-4D06-A385-13716E59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F573-D02F-4F52-A211-FA914328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B731-D32C-41D7-8ACF-D2FBF9AF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5096-276E-42B9-9AFA-214BA0E1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F342-BEB3-4E40-AF3E-6AF7FB9D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17DC-B322-43EC-8B69-FFFE6822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0B58-9F3A-4EFB-9CD5-2B4DE2E5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7A04-6ADB-455A-8F06-2F1FF534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F34C-93E7-4973-9B8E-AADFA700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8601-C57F-49E6-AF23-6D8B1B98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9B5A-F989-408F-88FD-E5B00ACD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2" name="Picture 4" descr="A:\minispir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bf41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d65cb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d65cb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d65cb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d65cb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f41c5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0EE2-43BA-460C-946C-9092B49A96B0}" type="slidenum">
              <a:rPr b="0" lang="en-US" sz="1400" spc="-1" strike="noStrike">
                <a:solidFill>
                  <a:srgbClr val="bf41c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47" name="Picture 4" descr="A:\minispir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d65cb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d65cb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d65cb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d65cb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2029-54E5-4D27-BD08-F39543F6791E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Times New Roman"/>
              </a:rPr>
              <a:t>SQ3R</a:t>
            </a:r>
            <a:endParaRPr b="0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41c5"/>
                </a:solidFill>
                <a:latin typeface="Times New Roman"/>
              </a:rPr>
              <a:t>A Reading -Study Strateg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Times New Roman"/>
              </a:rPr>
              <a:t>How to Recite</a:t>
            </a:r>
            <a:endParaRPr b="0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ut it in your own word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rite a summar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rite notes (in book or on paper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reate 3X5 card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reate a mind map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ighligh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Times New Roman"/>
              </a:rPr>
              <a:t>Why Recite?</a:t>
            </a:r>
            <a:endParaRPr b="0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etain inform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heck understandi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Times New Roman"/>
              </a:rPr>
              <a:t>How to Review</a:t>
            </a:r>
            <a:endParaRPr b="0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heck over notes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e-read highligh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mmediately after readi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eekl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efore tes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Times New Roman"/>
              </a:rPr>
              <a:t>Quiz SQ3R</a:t>
            </a:r>
            <a:endParaRPr b="0" lang="en-US" sz="5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Describ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the steps of SQ3R         (Think about what the step is and describe how and why you would use it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Times New Roman"/>
              </a:rPr>
              <a:t>SQ3R</a:t>
            </a:r>
            <a:endParaRPr b="0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urve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Question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ead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ecit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eview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Times New Roman"/>
              </a:rPr>
              <a:t>How to Survey</a:t>
            </a:r>
            <a:r>
              <a:rPr b="0" lang="en-US" sz="4800" spc="-1" strike="noStrike">
                <a:solidFill>
                  <a:srgbClr val="ff99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ook over the materia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ead the summary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if possible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ring up background knowledg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Times New Roman"/>
              </a:rPr>
              <a:t>Survey: </a:t>
            </a:r>
            <a:br>
              <a:rPr sz="4800"/>
            </a:br>
            <a:r>
              <a:rPr b="0" lang="en-US" sz="4800" spc="-1" strike="noStrike">
                <a:solidFill>
                  <a:srgbClr val="ff9900"/>
                </a:solidFill>
                <a:latin typeface="Times New Roman"/>
              </a:rPr>
              <a:t>Look over the material</a:t>
            </a:r>
            <a:endParaRPr b="0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itl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eview or introduc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eadings or subheading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Visual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Ques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Times New Roman"/>
              </a:rPr>
              <a:t>Why Survey?</a:t>
            </a:r>
            <a:endParaRPr b="0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Get the big pictu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ecide importanc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Know important poin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nnect known to unknow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epare to read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Times New Roman"/>
              </a:rPr>
              <a:t>How to Question</a:t>
            </a:r>
            <a:endParaRPr b="0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urn headings into ques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sk wh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sk wh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sk wh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sk how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Times New Roman"/>
              </a:rPr>
              <a:t>Why Question</a:t>
            </a:r>
            <a:endParaRPr b="0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tay focused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Gives purpos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reates interes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Times New Roman"/>
              </a:rPr>
              <a:t>How to Read Actively</a:t>
            </a:r>
            <a:endParaRPr b="0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ook for answers to ques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alk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rite in margi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ighligh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Times New Roman"/>
              </a:rPr>
              <a:t>Why Read</a:t>
            </a:r>
            <a:endParaRPr b="0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o gain inform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o prepare for lectu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o prepare for discuss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d65cbf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o prepare for tes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31T22:57:50Z</dcterms:created>
  <dc:creator>jude</dc:creator>
  <dc:description/>
  <dc:language>en-US</dc:language>
  <cp:lastModifiedBy>Abheeuday</cp:lastModifiedBy>
  <cp:lastPrinted>1999-04-19T16:17:16Z</cp:lastPrinted>
  <dcterms:modified xsi:type="dcterms:W3CDTF">2013-10-31T07:33:27Z</dcterms:modified>
  <cp:revision>9</cp:revision>
  <dc:subject/>
  <dc:title>SQ3R</dc:title>
</cp:coreProperties>
</file>