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jpeg" ContentType="image/jpeg"/>
  <Override PartName="/ppt/media/image13.wmf" ContentType="image/x-wmf"/>
  <Override PartName="/ppt/media/image8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436C-24B9-4EE3-BB58-AE55C0C62A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0010-7C59-443D-A753-A8FEE650E888}" type="slidenum">
              <a:rPr b="0" lang="en-U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064-05A0-44B8-B644-A907FAF1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F50-81D2-406C-83F0-C2DE445E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4AB-535F-497A-B9D5-9C5C8C5B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241-1E36-4305-87F4-0A43045B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367D-206D-45EA-925A-94897826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57EC-81BA-4226-B387-DD45E81D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1FD-1651-4838-88EC-0EA2D0E8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D88A-B02E-4B8F-A566-CD2B9748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0C67-D701-4579-BA2B-4EAEBFE8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B88E-1DFC-45B3-AE3A-8D0B87FE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AEC0-99AD-4A0D-A8CE-E81C4367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065-8D4A-43C2-B665-D923B3D5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347F-4726-4838-95BA-1E1671D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DFD4-D98F-41AD-8EF7-69CF8265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95E4-39F2-46C2-AB78-D9EBC384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EAA9-D055-46C3-A4A6-7A25EAED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CA6D-2BB8-4F08-93D4-2A702939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A60-9F5F-40A2-AC10-464BA0B3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FD4-4FF6-43E2-BA86-DEEA817B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984-4EB8-40B2-90F6-81060910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760-3DE8-40D9-B3E8-67716B84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33B-F6BE-434F-8C36-9659F594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892-7800-4B10-9A8F-A7680247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C44-9193-4E62-904D-1AA0C92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73B8-68C0-4D8A-9A32-DBDB340593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9555-F0FB-4B54-A104-4E4FB311D23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5638680" cy="730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 skil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4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all the skills necessary to learn a language, the two most important ar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ding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intake of inform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rit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production of inform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1648080" cy="28288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7"/>
          <p:cNvSpPr/>
          <p:nvPr/>
        </p:nvSpPr>
        <p:spPr>
          <a:xfrm>
            <a:off x="7086600" y="1905120"/>
            <a:ext cx="1752480" cy="1143000"/>
          </a:xfrm>
          <a:prstGeom prst="wedgeRectCallout">
            <a:avLst>
              <a:gd name="adj1" fmla="val -43518"/>
              <a:gd name="adj2" fmla="val 80694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ad it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cess it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se it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0" y="6854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 Unicode MS"/>
              </a:rPr>
              <a:t>Skimmin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Skimming covers the content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at a general le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It involves reading at about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twice your normal rat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Focuses on introductory statements, topic sentences and boldface ter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rovides the chance for you to see what kind of information the assignment contai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 Unicode MS"/>
              </a:rPr>
              <a:t>Enables you to gather the surface ideas if you don’t have enough time to read deep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4" descr="06_Reading_2"/>
          <p:cNvPicPr/>
          <p:nvPr/>
        </p:nvPicPr>
        <p:blipFill>
          <a:blip r:embed="rId1"/>
          <a:stretch/>
        </p:blipFill>
        <p:spPr>
          <a:xfrm>
            <a:off x="6248520" y="1066680"/>
            <a:ext cx="2666880" cy="2457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-2133720" y="38088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Arial Unicode MS"/>
              </a:rPr>
              <a:t>Skim!!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-2209680" y="228600"/>
            <a:ext cx="2209680" cy="1219320"/>
          </a:xfrm>
          <a:prstGeom prst="leftArrow">
            <a:avLst>
              <a:gd name="adj1" fmla="val 50000"/>
              <a:gd name="adj2" fmla="val 45306"/>
            </a:avLst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kim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395784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Active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Use it to avoid </a:t>
            </a:r>
            <a:r>
              <a:rPr b="0" i="1" lang="en-US" sz="3200" spc="-1" strike="noStrike">
                <a:solidFill>
                  <a:srgbClr val="eaeaea"/>
                </a:solidFill>
                <a:latin typeface="Arial Unicode MS"/>
              </a:rPr>
              <a:t>empty</a:t>
            </a: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 reading</a:t>
            </a:r>
            <a:r>
              <a:rPr b="0" lang="en-US" sz="3200" spc="-1" strike="noStrike">
                <a:solidFill>
                  <a:srgbClr val="eaeaea"/>
                </a:solidFill>
                <a:latin typeface="Arial Unicode MS"/>
                <a:ea typeface="Tahoma"/>
              </a:rPr>
              <a:t>—</a:t>
            </a: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reading  then realizing that no information has come acro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Focus on identifying the main ideas and on understanding how supporting points reinforce those ide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In other words, get really interested &amp; involved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5" descr="MCj02331180000[1]"/>
          <p:cNvPicPr/>
          <p:nvPr/>
        </p:nvPicPr>
        <p:blipFill>
          <a:blip r:embed="rId1"/>
          <a:stretch/>
        </p:blipFill>
        <p:spPr>
          <a:xfrm>
            <a:off x="533520" y="304920"/>
            <a:ext cx="2801880" cy="2012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MCDD00651_0000[1]"/>
          <p:cNvPicPr/>
          <p:nvPr/>
        </p:nvPicPr>
        <p:blipFill>
          <a:blip r:embed="rId2"/>
          <a:stretch/>
        </p:blipFill>
        <p:spPr>
          <a:xfrm>
            <a:off x="5867280" y="762120"/>
            <a:ext cx="1386000" cy="180972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7"/>
          <p:cNvSpPr/>
          <p:nvPr/>
        </p:nvSpPr>
        <p:spPr>
          <a:xfrm>
            <a:off x="3505320" y="990720"/>
            <a:ext cx="1752480" cy="914400"/>
          </a:xfrm>
          <a:prstGeom prst="wedgeRoundRectCallout">
            <a:avLst>
              <a:gd name="adj1" fmla="val -92481"/>
              <a:gd name="adj2" fmla="val -9375"/>
              <a:gd name="adj3" fmla="val 16667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ad us the story about the wol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7391520" y="152280"/>
            <a:ext cx="1447560" cy="1219320"/>
          </a:xfrm>
          <a:prstGeom prst="wedgeRectCallout">
            <a:avLst>
              <a:gd name="adj1" fmla="val -50986"/>
              <a:gd name="adj2" fmla="val 64453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ght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et involved in reading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Analytic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391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Reading at a more intense leve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Involves breaking ideas open and digging underneath their su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Enables you to try to spot flaws in the writer’s logi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Promotes a comparison of the work to other work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Should involve questioning the author and yourself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In other words, active skepticism with a purpo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5" descr="MCj02153140000[1]"/>
          <p:cNvPicPr/>
          <p:nvPr/>
        </p:nvPicPr>
        <p:blipFill>
          <a:blip r:embed="rId1"/>
          <a:stretch/>
        </p:blipFill>
        <p:spPr>
          <a:xfrm>
            <a:off x="7162920" y="2743200"/>
            <a:ext cx="1755720" cy="1828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j0299125"/>
          <p:cNvPicPr/>
          <p:nvPr/>
        </p:nvPicPr>
        <p:blipFill>
          <a:blip r:embed="rId2"/>
          <a:stretch/>
        </p:blipFill>
        <p:spPr>
          <a:xfrm>
            <a:off x="7467480" y="243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66" name="WordArt 7"/>
          <p:cNvSpPr txBox="1"/>
          <p:nvPr/>
        </p:nvSpPr>
        <p:spPr>
          <a:xfrm>
            <a:off x="304920" y="5334120"/>
            <a:ext cx="182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alyz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8"/>
          <p:cNvSpPr txBox="1"/>
          <p:nvPr/>
        </p:nvSpPr>
        <p:spPr>
          <a:xfrm>
            <a:off x="6705720" y="5410080"/>
            <a:ext cx="21524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ynthesiz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8" name="WordArt 9"/>
          <p:cNvSpPr txBox="1"/>
          <p:nvPr/>
        </p:nvSpPr>
        <p:spPr>
          <a:xfrm>
            <a:off x="2514600" y="5562720"/>
            <a:ext cx="21812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criticiz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269" name="WordArt 10"/>
          <p:cNvSpPr txBox="1"/>
          <p:nvPr/>
        </p:nvSpPr>
        <p:spPr>
          <a:xfrm>
            <a:off x="4952880" y="5334120"/>
            <a:ext cx="14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alize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57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Highlighting Tex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b2ff"/>
                </a:solidFill>
                <a:latin typeface="Arial Unicode MS"/>
              </a:rPr>
              <a:t>Highlight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Topic sentences,  Key words,  Conclus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b2ff"/>
                </a:solidFill>
                <a:latin typeface="Arial Unicode MS"/>
              </a:rPr>
              <a:t>But watch out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Highlighting too much can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cause you to re-read everything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because you don’t know what’s importa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Highlighting doesn’t show you </a:t>
            </a:r>
            <a:r>
              <a:rPr b="0" i="1" lang="en-US" sz="2800" spc="-1" strike="noStrike">
                <a:solidFill>
                  <a:srgbClr val="ff3300"/>
                </a:solidFill>
                <a:latin typeface="Arial Unicode MS"/>
              </a:rPr>
              <a:t>why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you highlighted some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You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need to have the entire text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with you to review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Object 4" descr=""/>
          <p:cNvPicPr/>
          <p:nvPr/>
        </p:nvPicPr>
        <p:blipFill>
          <a:blip r:embed="rId1"/>
          <a:stretch/>
        </p:blipFill>
        <p:spPr>
          <a:xfrm>
            <a:off x="5943600" y="533520"/>
            <a:ext cx="2590920" cy="1577880"/>
          </a:xfrm>
          <a:prstGeom prst="rect">
            <a:avLst/>
          </a:prstGeom>
          <a:ln w="0">
            <a:noFill/>
          </a:ln>
        </p:spPr>
      </p:pic>
      <p:sp>
        <p:nvSpPr>
          <p:cNvPr id="273" name="WordArt 5"/>
          <p:cNvSpPr txBox="1"/>
          <p:nvPr/>
        </p:nvSpPr>
        <p:spPr>
          <a:xfrm>
            <a:off x="6324480" y="533520"/>
            <a:ext cx="2381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phasize &amp;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cognize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Important Points About  Re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55641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Instructors do NOT always cover the reading material in lect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You are expected to read the material and understand it on your ow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Successful students complete assigned readings </a:t>
            </a:r>
            <a:r>
              <a:rPr b="0" i="1" lang="en-US" sz="2400" spc="-1" strike="noStrike">
                <a:solidFill>
                  <a:srgbClr val="eaeaea"/>
                </a:solidFill>
                <a:latin typeface="Arial Unicode MS"/>
              </a:rPr>
              <a:t>before</a:t>
            </a: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 class to help them understand the lect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Connections and overlaps between lecture and reading reinforce learning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Also, reading ahead prevents you from being embarrassed when you are called on to discuss what you’ve read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Picture 4" descr="MCED00015_0000[1]"/>
          <p:cNvPicPr/>
          <p:nvPr/>
        </p:nvPicPr>
        <p:blipFill>
          <a:blip r:embed="rId1"/>
          <a:stretch/>
        </p:blipFill>
        <p:spPr>
          <a:xfrm>
            <a:off x="6400800" y="4038480"/>
            <a:ext cx="2438280" cy="2567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028960" cy="265104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6"/>
          <p:cNvSpPr/>
          <p:nvPr/>
        </p:nvSpPr>
        <p:spPr>
          <a:xfrm>
            <a:off x="6324480" y="1066680"/>
            <a:ext cx="2514600" cy="1067040"/>
          </a:xfrm>
          <a:prstGeom prst="wedgeRectCallout">
            <a:avLst>
              <a:gd name="adj1" fmla="val 2148"/>
              <a:gd name="adj2" fmla="val 71277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Take that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Unworthy adversary of reading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A Summary of Strategies to Improve Read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ractice a positive attitud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Make the author your compan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ace yourself according to difficulty le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Take breaks to restore concentra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Read other sources if the reading is confus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Build your vocabular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Work on reading fast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WordArt 6"/>
          <p:cNvSpPr txBox="1"/>
          <p:nvPr/>
        </p:nvSpPr>
        <p:spPr>
          <a:xfrm>
            <a:off x="990720" y="5867280"/>
            <a:ext cx="7086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reat readers make great students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Unicode MS"/>
              </a:rPr>
              <a:t>Take Charge of Your ReadinReading skil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Before all else, if you don’t like to read, accept the importance of the skill and work on it. This is CRITICAL to your succes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mmit to reading go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lan time and space to concentr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apture knowledge and connect ide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Know how to read primary and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secondary sourc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review and Review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5" descr="MCj04122440000[1]"/>
          <p:cNvPicPr/>
          <p:nvPr/>
        </p:nvPicPr>
        <p:blipFill>
          <a:blip r:embed="rId1"/>
          <a:stretch/>
        </p:blipFill>
        <p:spPr>
          <a:xfrm>
            <a:off x="6553080" y="4038480"/>
            <a:ext cx="2328840" cy="26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87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ommit to Reading Go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3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Stay positive, reading can be enjoyabl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Make the author your compan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ace yourself according to difficulty le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Take breaks (10 min break every 50 minute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Read other sources if the assigned reading is confus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Keep building your vocabulary (keep a dictionary handy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When studying for a test, skim readings for key points and terms</a:t>
            </a: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Make understanding the material of prim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importance</a:t>
            </a: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762120" y="624852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need to read is great indeed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72520"/>
            <a:ext cx="8763120" cy="87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Unicode MS"/>
              </a:rPr>
              <a:t>Plan Time and Space to Concentra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6096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Reading takes a great deal of concentr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Find an environment in which you can concentrate be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If you must read in a noisy environment, consider wearing headphones with familiar instrumental music just loud enough to block distr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Schedule time to read in a place where you won’t be interrupted (or distracted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4" descr="MPj04003580000[1]"/>
          <p:cNvPicPr/>
          <p:nvPr/>
        </p:nvPicPr>
        <p:blipFill>
          <a:blip r:embed="rId1"/>
          <a:stretch/>
        </p:blipFill>
        <p:spPr>
          <a:xfrm>
            <a:off x="6856560" y="1295280"/>
            <a:ext cx="1930320" cy="289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72880"/>
            <a:ext cx="5867280" cy="71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Unicode MS"/>
              </a:rPr>
              <a:t>Capture and Conne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Capture the supporting details; connect them to the main ide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Capture what you don’t know and connect it to what you do kn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Elements of Your Reading P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re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Skimm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Active Re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Analytic Re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Re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4" descr="06_Reading_3"/>
          <p:cNvPicPr/>
          <p:nvPr/>
        </p:nvPicPr>
        <p:blipFill>
          <a:blip r:embed="rId1"/>
          <a:stretch/>
        </p:blipFill>
        <p:spPr>
          <a:xfrm>
            <a:off x="5105520" y="3962520"/>
            <a:ext cx="3524040" cy="23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Know How to Read Primary and Secondary 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Primary Source -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material written in some original form; more difficult reading le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Autobiograph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Speech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Research Repo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Government Docu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Scholarly Artic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9400" y="1598760"/>
            <a:ext cx="4032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Secondary Source -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summarizes or interprets primary sour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Magazine Artic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Textboo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87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Developing Your 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6021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nsider the context around new and challenging word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Jot down unfamiliar terms and find the meaning using a dictionar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Analyze terms to discover the most meaningful part of the word (especially true in Biology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Take the opportunity to use new terms in your writing and speaking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1029" descr=""/>
          <p:cNvPicPr/>
          <p:nvPr/>
        </p:nvPicPr>
        <p:blipFill>
          <a:blip r:embed="rId1"/>
          <a:stretch/>
        </p:blipFill>
        <p:spPr>
          <a:xfrm>
            <a:off x="6534000" y="3200400"/>
            <a:ext cx="2343240" cy="312408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030"/>
          <p:cNvSpPr/>
          <p:nvPr/>
        </p:nvSpPr>
        <p:spPr>
          <a:xfrm>
            <a:off x="6781680" y="1600200"/>
            <a:ext cx="1828800" cy="1143000"/>
          </a:xfrm>
          <a:prstGeom prst="wedgeRectCallout">
            <a:avLst>
              <a:gd name="adj1" fmla="val -20745"/>
              <a:gd name="adj2" fmla="val 104583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Learn to read “outside the box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304812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P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743200" y="12193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Scan the material to see what lies ahea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nsider the context for the assign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nsider the length of the reading assignment and estimate how long it will take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nsider the structure and features of the reading to help you digest the materi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nsider the difficulty and plan your time according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1062000" y="2133720"/>
            <a:ext cx="1443240" cy="420048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6"/>
          <p:cNvSpPr/>
          <p:nvPr/>
        </p:nvSpPr>
        <p:spPr>
          <a:xfrm>
            <a:off x="380880" y="609480"/>
            <a:ext cx="2362320" cy="1143000"/>
          </a:xfrm>
          <a:prstGeom prst="wedgeRectCallout">
            <a:avLst>
              <a:gd name="adj1" fmla="val -2888"/>
              <a:gd name="adj2" fmla="val 78750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s is a lot of work! Who needs it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380880" y="2286000"/>
            <a:ext cx="2210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ro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352320" y="304920"/>
            <a:ext cx="319572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Review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5716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b2ff"/>
                </a:solidFill>
                <a:latin typeface="Arial Unicode MS"/>
              </a:rPr>
              <a:t>Review to remember the main points of the materi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b2ff"/>
                </a:solidFill>
                <a:latin typeface="Arial Unicode MS"/>
              </a:rPr>
              <a:t>Test yourself on your comprehens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b2ff"/>
                </a:solidFill>
                <a:latin typeface="Arial Unicode MS"/>
              </a:rPr>
              <a:t>Some ways to review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Unicode MS"/>
              </a:rPr>
              <a:t>not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Unicode MS"/>
              </a:rPr>
              <a:t>study ques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Unicode MS"/>
              </a:rPr>
              <a:t>flash car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Unicode MS"/>
              </a:rPr>
              <a:t>visual map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Unicode MS"/>
              </a:rPr>
              <a:t>outlin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b2ff"/>
                </a:solidFill>
                <a:latin typeface="Arial Unicode MS"/>
              </a:rPr>
              <a:t>Make reviewing every week a study goal.</a:t>
            </a:r>
            <a:r>
              <a:rPr b="1" i="1" lang="en-US" sz="2400" spc="-1" strike="noStrike">
                <a:solidFill>
                  <a:srgbClr val="eaeaea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WordArt 1032"/>
          <p:cNvSpPr txBox="1"/>
          <p:nvPr/>
        </p:nvSpPr>
        <p:spPr>
          <a:xfrm>
            <a:off x="838080" y="5791320"/>
            <a:ext cx="7134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viewing is an excellent memory aid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Picture 1033" descr="MCj03966460000[1]"/>
          <p:cNvPicPr/>
          <p:nvPr/>
        </p:nvPicPr>
        <p:blipFill>
          <a:blip r:embed="rId1"/>
          <a:stretch/>
        </p:blipFill>
        <p:spPr>
          <a:xfrm>
            <a:off x="6553080" y="2209680"/>
            <a:ext cx="19083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8:45:38Z</dcterms:created>
  <dc:creator>Leo Kenny</dc:creator>
  <dc:description/>
  <dc:language>en-US</dc:language>
  <cp:lastModifiedBy>Abheeuday</cp:lastModifiedBy>
  <dcterms:modified xsi:type="dcterms:W3CDTF">2013-10-05T17:28:29Z</dcterms:modified>
  <cp:revision>54</cp:revision>
  <dc:subject/>
  <dc:title>PowerPoint Presentation</dc:title>
</cp:coreProperties>
</file>