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E92-5A0B-44E5-8101-E6078D65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549-A86B-428C-AFE0-7E9DE26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4BD-CCFF-42EF-ADF0-B5B5E4E2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C9D-042F-42E1-ADE4-AF37AA44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7451-50B0-4F59-BB2E-4903ACC7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93E5-89D7-4FEC-A382-D505B21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F6BB-236D-4CD6-8215-BCC2879A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6E47-EDCE-4E24-8AC7-B863D099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97A-7C41-4750-9251-42AB7681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A576-2D8E-4E1C-A35B-96033989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33A6-9982-4935-8006-22023234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5F8-F46A-4FD1-8EFA-FE646FC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6A00-DFE7-4234-98A4-03DFB1F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9EFB-8999-4EBA-8166-F39DDCC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2250-7824-4B86-903C-C1B4D668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C71-4727-4242-9CB1-F130B4E8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5438-5F46-4727-B12C-3E4BD7B4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006-5F33-43B9-96BF-13F66D6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87D-C10A-46C0-89F5-034699C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076-7642-45EC-94BA-1C33B9B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A6E-9699-48D1-A7E5-029BE33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B9C-8213-4E8F-B835-1E7BC48D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95B-AD62-4A2A-BC9E-3D2CAB5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B1B-2994-4108-9615-67C18C7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FA71-73D6-483E-931F-88349EF841E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6C66-2F6D-4FEF-AACB-D9B530B140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ffective Meeting Ski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Types Of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. Informational Mee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give or receive information about a specific idea or important matters concerning the attende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Types Of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. Brainstorming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produce new ideas about a specific topic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fore the meeting, participants should be told the objective of the session as well as their role in the brainstorming ses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ainstorming Mee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ground information, if available, should also be distributed to participants prior to the ses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tmosphere of the meeting should be loose and informa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ainstorming Meeting-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at no idea is ruled out because it's too wil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avoid judging ide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acilitator should be appointed to control the flow of information and record ideas as they devel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ps for starting and finishing on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're the Meeting Organi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that the meeting will begin promptly at the scheduled time and that all participants should be 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 a reminder e-mail thirty minutes before the meeting begins and encourage meeting participants to arrive 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 that you begin the meeting at the scheduled tim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the meeting room doors at the scheduled ti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meeting starts a little late, you should still finish the meeting at the scheduled tim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're the Attende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ckly review the agenda before heading to the mee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way to the meeting ten minutes before it actually begi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Consider speaking up if the meeting organizer shows up l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Try to ask only relevant questions during the meet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Leave the meeting when it was scheduled to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ps for improving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eting eval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 and follow up on decis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 and facing difficult situ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attendees to fill out anonymous paper surveys after the event or at certain points throughout the ev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positive and negative 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e planning and management team to check if the goals of the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eting are m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ffective Meeting Ski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 time and get resul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nd less time in meeting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te meeting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e in meeting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e and use the most important tool in a meeting - an agend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ound rules to carry successful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mpt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Thanks for your ti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ffective Meeting Ski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de the best times to me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gnize and deal with problems during meeting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the effectiveness of meeting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up on decis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ground rules for suc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ffective Meeting Ski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ix tips for planning a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n't Me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void a meeting if the same information could be covered in a memo, e-mail or brief re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 Objectives for the Mee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planning the agenda, determine the objective of the meeting. The more concrete your objectives, the more focused your agenda will b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ix t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vide an Agenda Beforehan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agenda needs to include a one-sentence description of the meeting objectives, a list of the topics to be covered and a list stating who will address each topic for how long. Follow the agenda closely during the mee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ix t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ign Meeting Prepar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all participants something to prepare for the meeting, and that meeting will take on a new significance to each group memb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ix tip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ign Action Item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't finish any discussion in the meeting without deciding how to act on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Your Meeting Proces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't leave the meeting without assessing what took place and making   a plan to improve the next mee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velop a comprehensive 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itle Of The  Mee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bjectiv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ttende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ate, Time And Du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oc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at To B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se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located Time To Each Particip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69920"/>
            <a:ext cx="6870600" cy="15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Types Of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-Solving Mee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o discuss an issue or conflict and decide how to solve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Identify the Proble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Determine the caus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Generate possible solu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Evaluate the proposed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Choose the best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7:15:57Z</dcterms:created>
  <dc:creator>planning-17</dc:creator>
  <dc:description/>
  <dc:language>en-US</dc:language>
  <cp:lastModifiedBy>Abheeuday</cp:lastModifiedBy>
  <dcterms:modified xsi:type="dcterms:W3CDTF">2013-11-24T13:41:41Z</dcterms:modified>
  <cp:revision>4</cp:revision>
  <dc:subject/>
  <dc:title>Effective Meeting Skills</dc:title>
</cp:coreProperties>
</file>