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0.jpeg" ContentType="image/jpeg"/>
  <Override PartName="/ppt/media/Fafa%20de%20Belem%20-%20Se_Voce_Quer.wav" ContentType="audio/x-wav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C84-7E5D-4C37-8404-6065FC7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DE2-DC0D-4237-A5C6-5EB0B39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D5E-2D5E-4461-8380-55DE7AD2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41B-FC2E-4EE9-A8C6-16BB125E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C45-E05E-4213-BAD8-EB152B21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989-7988-4EF0-AB33-8792DC7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633-A030-4E5A-B79F-0DFD4C2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23B-8216-4228-ADF2-CF1BFC0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718-1397-4869-ADAA-935B7A9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B36-A30E-461A-B6DD-1DA4E5E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9F1-91BB-4941-8480-11E8020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7CA-D9B3-4248-BF83-3936D1B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0CE9-9B8E-4F61-9AAF-5784A2A0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afa%20de%20Belem%20-%20Se_Voce_Qu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7120" y="949320"/>
            <a:ext cx="7630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pt-BR" sz="6000" spc="-1" strike="noStrike">
                <a:solidFill>
                  <a:srgbClr val="bbe0e3"/>
                </a:solidFill>
                <a:latin typeface="Arial"/>
              </a:rPr>
              <a:t>PATRÍCIA ARAÚJ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bbe0e3"/>
                </a:solidFill>
                <a:latin typeface="Arial"/>
              </a:rPr>
              <a:t>MUSA FASHION 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bbe0e3"/>
                </a:solidFill>
                <a:latin typeface="Arial"/>
              </a:rPr>
              <a:t>             </a:t>
            </a:r>
            <a:r>
              <a:rPr b="1" lang="pt-BR" sz="6000" spc="-1" strike="noStrike">
                <a:solidFill>
                  <a:srgbClr val="bbe0e3"/>
                </a:solidFill>
                <a:latin typeface="Arial"/>
              </a:rPr>
              <a:t>200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Ligue o s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4040" y="6581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L PRODUCTIONS  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Fafa%20de%20Belem%20-%20Se_Voce_Qu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36760" y="0"/>
            <a:ext cx="4470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71680"/>
            <a:ext cx="8496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52520" y="0"/>
            <a:ext cx="4638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615960"/>
            <a:ext cx="8496000" cy="5626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669960"/>
            <a:ext cx="8496000" cy="551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574560"/>
            <a:ext cx="8496000" cy="570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600120"/>
            <a:ext cx="8496000" cy="5657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463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9536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78000" y="0"/>
            <a:ext cx="470700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41520" y="-603360"/>
            <a:ext cx="5729400" cy="763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62920" cy="7143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87520" y="-603360"/>
            <a:ext cx="5783400" cy="770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62920" cy="7143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00" y="-27000"/>
            <a:ext cx="180036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62920" cy="7143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9110600">
            <a:off x="1225440" y="-293760"/>
            <a:ext cx="2544840" cy="129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4120" y="2522520"/>
            <a:ext cx="87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Pois é…quem vê cara não vê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318960"/>
            <a:ext cx="7775280" cy="6220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1:57:43Z</dcterms:created>
  <dc:creator>Paulo Roberto Wortmann</dc:creator>
  <dc:description/>
  <dc:language>en-US</dc:language>
  <cp:lastModifiedBy>Paulo Roberto Wortmann</cp:lastModifiedBy>
  <dcterms:modified xsi:type="dcterms:W3CDTF">2009-06-15T02:10:00Z</dcterms:modified>
  <cp:revision>2</cp:revision>
  <dc:subject/>
  <dc:title>Slide 1</dc:title>
</cp:coreProperties>
</file>