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2BA-FF89-4E57-9AAE-3621A956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CD1-326C-469A-A961-C1E4A2DB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778-9E51-451E-8081-B1F44918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23D-553D-4E9C-832F-87CBB947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8D9-EEC9-42CC-9879-4BE2263D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956-AE7F-4EEC-B0F3-A8A4A699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1CB-F5C0-4599-BAC6-4F4E42AE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C95-E9DF-49BC-9170-D9D35DD8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298-302D-46FD-8AB4-DB9E396B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27E-C7AA-48D1-9D29-3E476031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724-6F60-44EE-B93B-4644691D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D0B-BA47-44C0-943C-EDE442D2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6480-3D17-4F10-A871-EF41125363E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reference/01-1,Smoke%20%20Control.pdf" TargetMode="External"/><Relationship Id="rId2" Type="http://schemas.openxmlformats.org/officeDocument/2006/relationships/hyperlink" Target="file:///reference/01-2,State-of-the-Art%20Atrium%20Smoke%20Control.pd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reference/02-2-A,NFPA%2092A.pdf" TargetMode="External"/><Relationship Id="rId2" Type="http://schemas.openxmlformats.org/officeDocument/2006/relationships/hyperlink" Target="file:///reference/02-2-B,NFPA%2092B.pdf" TargetMode="External"/><Relationship Id="rId3" Type="http://schemas.openxmlformats.org/officeDocument/2006/relationships/hyperlink" Target="file:///reference/02-2-C,NFPA%20101.pdf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reference/02-A-1,%20SMOKE%20EVACUATION%20FIRE%20SIZE.pdf" TargetMode="External"/><Relationship Id="rId2" Type="http://schemas.openxmlformats.org/officeDocument/2006/relationships/hyperlink" Target="file:///reference/02-A-2,DESIGN%20FIRE%20SIZE%20NFPA%2092B%20.pdf" TargetMode="External"/><Relationship Id="rId3" Type="http://schemas.openxmlformats.org/officeDocument/2006/relationships/hyperlink" Target="file:///reference/02-A-3,FIRE%20MATERIAL%20HEAT%20RELEASE.pdf" TargetMode="External"/><Relationship Id="rId4" Type="http://schemas.openxmlformats.org/officeDocument/2006/relationships/hyperlink" Target="file:///reference/02-A-4,HEAT%20GENERATED%20FROM%20DIFFERENT%20FIRES.pdf" TargetMode="External"/><Relationship Id="rId5" Type="http://schemas.openxmlformats.org/officeDocument/2006/relationships/hyperlink" Target="file:///reference/02-A-5,HEAT%20RELEASE%20AS%20PER%20NFPA%2092B.pdf" TargetMode="External"/><Relationship Id="rId6" Type="http://schemas.openxmlformats.org/officeDocument/2006/relationships/hyperlink" Target="file:///reference/02-B-1,%20SMOKE%20GENERATION%20FORMULA.pdf" TargetMode="External"/><Relationship Id="rId7" Type="http://schemas.openxmlformats.org/officeDocument/2006/relationships/hyperlink" Target="file:///reference/02-C-1%20Sample%20Problem%20for%20smoke%20evacuation%20problem.pdf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reference/04-A-1,Pressurization%20Design.pdf" TargetMode="External"/><Relationship Id="rId2" Type="http://schemas.openxmlformats.org/officeDocument/2006/relationships/hyperlink" Target="file:///reference/04-A-2%20STACK%20EFFECT%20PRESSURE%20FORMULA.pdf" TargetMode="External"/><Relationship Id="rId3" Type="http://schemas.openxmlformats.org/officeDocument/2006/relationships/hyperlink" Target="file:///reference/04-A-3,%20STACK%20@%20VELOCITY%20PRESSURE%20CHARTS.pdf" TargetMode="External"/><Relationship Id="rId4" Type="http://schemas.openxmlformats.org/officeDocument/2006/relationships/hyperlink" Target="file:///reference/04-A-4,%20TYPICAL%20LEAKAGES%20AREAS%20COMMERCIAL.pdf" TargetMode="External"/><Relationship Id="rId5" Type="http://schemas.openxmlformats.org/officeDocument/2006/relationships/hyperlink" Target="file:///reference/04-A-5,STAIRWELL%20PRESSURIZATION%20FORMULAS%20.pdf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122E-47F6-4143-BC56-6C9CE717CE8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Rectangle 2"/>
          <p:cNvGrpSpPr/>
          <p:nvPr/>
        </p:nvGrpSpPr>
        <p:grpSpPr>
          <a:xfrm>
            <a:off x="-12600" y="-36360"/>
            <a:ext cx="9169200" cy="2182680"/>
            <a:chOff x="-12600" y="-36360"/>
            <a:chExt cx="9169200" cy="2182680"/>
          </a:xfrm>
        </p:grpSpPr>
        <p:pic>
          <p:nvPicPr>
            <p:cNvPr id="43" name="Rectangle 2" descr=""/>
            <p:cNvPicPr/>
            <p:nvPr/>
          </p:nvPicPr>
          <p:blipFill>
            <a:blip r:embed="rId2"/>
            <a:stretch/>
          </p:blipFill>
          <p:spPr>
            <a:xfrm>
              <a:off x="-12600" y="-36360"/>
              <a:ext cx="916920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-27000"/>
              <a:ext cx="914400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ahoma"/>
                </a:rPr>
                <a:t>BUILDING AND STAIRWELL PRESSURIZATION AND SMOKE EVACUATION</a:t>
              </a:r>
              <a:endParaRPr b="1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19240" y="2204640"/>
            <a:ext cx="835488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99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ahoma"/>
              </a:rPr>
              <a:t>DESIGN</a:t>
            </a:r>
            <a:r>
              <a:rPr b="1" lang="en-GB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en-GB" sz="4000" spc="-1" strike="noStrike">
                <a:solidFill>
                  <a:srgbClr val="c00000"/>
                </a:solidFill>
                <a:latin typeface="Tahoma"/>
              </a:rPr>
              <a:t>SEMIN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99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9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58760" y="6453360"/>
            <a:ext cx="83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VENUE: WHITE PALACE HOTEL, RIYADH, K.S.A.                       </a:t>
            </a: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       DATE: AUGUST 22,  2014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3"/>
          <a:stretch/>
        </p:blipFill>
        <p:spPr>
          <a:xfrm>
            <a:off x="6124680" y="3365640"/>
            <a:ext cx="2047680" cy="224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"/>
          <p:cNvPicPr/>
          <p:nvPr/>
        </p:nvPicPr>
        <p:blipFill>
          <a:blip r:embed="rId4"/>
          <a:stretch/>
        </p:blipFill>
        <p:spPr>
          <a:xfrm>
            <a:off x="946080" y="3236760"/>
            <a:ext cx="2448000" cy="2365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4"/>
          <p:cNvSpPr/>
          <p:nvPr/>
        </p:nvSpPr>
        <p:spPr>
          <a:xfrm>
            <a:off x="158760" y="2820960"/>
            <a:ext cx="33116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ahoma"/>
              </a:rPr>
              <a:t>PRESENTED BY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4113360" y="3875040"/>
            <a:ext cx="963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161616"/>
                </a:solidFill>
                <a:latin typeface="Tahoma"/>
              </a:rPr>
              <a:t>&amp;</a:t>
            </a:r>
            <a:r>
              <a:rPr b="1" lang="en-GB" sz="6000" spc="-1" strike="noStrike">
                <a:solidFill>
                  <a:srgbClr val="161616"/>
                </a:solidFill>
                <a:latin typeface="Tahoma"/>
              </a:rPr>
              <a:t> </a:t>
            </a:r>
            <a:r>
              <a:rPr b="1" i="1" lang="en-GB" sz="36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5245200" y="5808600"/>
            <a:ext cx="3662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61616"/>
                </a:solidFill>
                <a:latin typeface="Tahoma"/>
              </a:rPr>
              <a:t>ENGR.CECILIO CHAVIT, PM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61616"/>
                </a:solidFill>
                <a:latin typeface="Tahoma"/>
              </a:rPr>
              <a:t>TECHNICAL PRESENTER   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539640" y="5661000"/>
            <a:ext cx="33847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61616"/>
                </a:solidFill>
                <a:latin typeface="Tahoma"/>
              </a:rPr>
              <a:t>PSME-CRSA</a:t>
            </a:r>
            <a:r>
              <a:rPr b="1" lang="en-GB" sz="2000" spc="-1" strike="noStrike">
                <a:solidFill>
                  <a:srgbClr val="161616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36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OPICS TO BE DISCUSSED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284A-2B90-42E6-BDF6-62662663A74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Content Placeholder 6"/>
          <p:cNvSpPr/>
          <p:nvPr/>
        </p:nvSpPr>
        <p:spPr>
          <a:xfrm>
            <a:off x="457200" y="1241280"/>
            <a:ext cx="8686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- INTRODUC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ARE THE IMPORTANCE OF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UILDING PRESSURIZATION AND SMOK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VACU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( see reference no.1-1)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(see reference no.1-2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111E-0B58-4468-BC77-DB73B5CB239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Content Placeholder 6"/>
          <p:cNvSpPr/>
          <p:nvPr/>
        </p:nvSpPr>
        <p:spPr>
          <a:xfrm>
            <a:off x="457200" y="357120"/>
            <a:ext cx="868680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DE REFERENCES :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. NFPA 92A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(see reference no. 2-2-A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. NFPA 92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(see reference no. 2-2-B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. NFPA 101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(see reference no. 2-2-C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. ASHRAE FUNDAMENTAL HANDBOOK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3336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-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MOKE EVACUATION CALCULATI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. HEAT RELEASE DAT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see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reference no. 2-A-1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reference no.2-A-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reference no. 2-A-3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reference no. 2-A-4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&amp;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reference no. 2-A-5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. SMOKE GENERATION FORMU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(see reference no. 2-B-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M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OFF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HOT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. SAMPLE CALCU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(see reference no. 2-C-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AE96-08E8-47C9-91F5-C406DE7DF2F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3336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I-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ILDING PRESSURIZATION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LC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FERENC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SUBS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CONTROL 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RESIDENTIAL VI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OFF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26EB-819D-4B59-BF5A-36392C48847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33336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V-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ILDING STAIRWELL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SURIZATIO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FERENC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see reference no. 4-A-1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reference no. 4-A-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reference no. 4-A-3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reference no. 4-A-4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reference no. 4-A-5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TERMINE STAIRWELL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SSURIZATION HEIGHT LIM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see reference no.4-1-1 &amp; reference no.4-1-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33336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PRESSURE DIFFERENTIAL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CALC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see reference no. 4-2-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EFFECTIVE AREA CALCULATION &amp;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PRESSURIZATION AIRFLOW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CALC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see reference no. 4-3-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55640" y="2491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9:04:25Z</dcterms:created>
  <dc:creator>ednor</dc:creator>
  <dc:description/>
  <dc:language>en-US</dc:language>
  <cp:lastModifiedBy>cecilio chavit</cp:lastModifiedBy>
  <dcterms:modified xsi:type="dcterms:W3CDTF">2014-08-17T19:12:25Z</dcterms:modified>
  <cp:revision>124</cp:revision>
  <dc:subject/>
  <dc:title>FIRE PROTECTION SYSTEM (Sprinkler System)</dc:title>
</cp:coreProperties>
</file>