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83400" cy="10015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E225-A3D7-40D5-B7B5-466E8CB06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6E7E-5866-418D-9D14-20350F9BE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0654-8AC3-4AC0-A866-F9E984AA3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6C58-D64D-4445-B892-C0304E2B3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50B7-119D-40CD-A410-FCEBD243F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A27B-4E44-45A1-97E9-1C5C6040D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B3B3-C658-42E4-8A37-33FAF07F8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C202-9186-4256-BA38-C214FB070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E812-38E9-4532-9E15-0A4A459CF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C468-5CD6-41D5-A02C-9F0C27626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F19C-A3A8-4B11-A612-F335B82D0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5E18-6216-4808-97A5-0B684FAB2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0E116-3110-4C96-9D27-5D21D96D8889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reference/01-1,Smoke%20%20Control.pdf" TargetMode="External"/><Relationship Id="rId2" Type="http://schemas.openxmlformats.org/officeDocument/2006/relationships/hyperlink" Target="file:///reference/01-2,State-of-the-Art%20Atrium%20Smoke%20Control.pdf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reference/02-2-A,NFPA%2092A.pdf" TargetMode="External"/><Relationship Id="rId2" Type="http://schemas.openxmlformats.org/officeDocument/2006/relationships/hyperlink" Target="file:///reference/02-2-B,NFPA%2092B.pdf" TargetMode="External"/><Relationship Id="rId3" Type="http://schemas.openxmlformats.org/officeDocument/2006/relationships/hyperlink" Target="file:///reference/02-2-C,NFPA%20101.pdf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reference/02-A-1,%20SMOKE%20EVACUATION%20FIRE%20SIZE.pdf" TargetMode="External"/><Relationship Id="rId2" Type="http://schemas.openxmlformats.org/officeDocument/2006/relationships/hyperlink" Target="file:///reference/02-A-2,DESIGN%20FIRE%20SIZE%20NFPA%2092B%20.pdf" TargetMode="External"/><Relationship Id="rId3" Type="http://schemas.openxmlformats.org/officeDocument/2006/relationships/hyperlink" Target="file:///reference/02-A-3,FIRE%20MATERIAL%20HEAT%20RELEASE.pdf" TargetMode="External"/><Relationship Id="rId4" Type="http://schemas.openxmlformats.org/officeDocument/2006/relationships/hyperlink" Target="file:///reference/02-A-4,HEAT%20GENERATED%20FROM%20DIFFERENT%20FIRES.pdf" TargetMode="External"/><Relationship Id="rId5" Type="http://schemas.openxmlformats.org/officeDocument/2006/relationships/hyperlink" Target="file:///reference/02-A-5,HEAT%20RELEASE%20AS%20PER%20NFPA%2092B.pdf" TargetMode="External"/><Relationship Id="rId6" Type="http://schemas.openxmlformats.org/officeDocument/2006/relationships/hyperlink" Target="file:///reference/02-B-1,%20SMOKE%20GENERATION%20FORMULA.pdf" TargetMode="External"/><Relationship Id="rId7" Type="http://schemas.openxmlformats.org/officeDocument/2006/relationships/hyperlink" Target="file:///reference/02-C-1%20Sample%20Problem%20for%20smoke%20evacuation%20problem.pdf" TargetMode="External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reference/04-A-1,Pressurization%20Design.pdf" TargetMode="External"/><Relationship Id="rId2" Type="http://schemas.openxmlformats.org/officeDocument/2006/relationships/hyperlink" Target="file:///reference/04-A-2%20STACK%20EFFECT%20PRESSURE%20FORMULA.pdf" TargetMode="External"/><Relationship Id="rId3" Type="http://schemas.openxmlformats.org/officeDocument/2006/relationships/hyperlink" Target="file:///reference/04-A-3,%20STACK%20@%20VELOCITY%20PRESSURE%20CHARTS.pdf" TargetMode="External"/><Relationship Id="rId4" Type="http://schemas.openxmlformats.org/officeDocument/2006/relationships/hyperlink" Target="file:///reference/04-A-4,%20TYPICAL%20LEAKAGES%20AREAS%20COMMERCIAL.pdf" TargetMode="External"/><Relationship Id="rId5" Type="http://schemas.openxmlformats.org/officeDocument/2006/relationships/hyperlink" Target="file:///reference/04-A-5,STAIRWELL%20PRESSURIZATION%20FORMULAS%20.pdf" TargetMode="External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1C3DD-8FA6-483C-A235-67DAE7EA23B9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2" name="Rectangle 2"/>
          <p:cNvGrpSpPr/>
          <p:nvPr/>
        </p:nvGrpSpPr>
        <p:grpSpPr>
          <a:xfrm>
            <a:off x="-12600" y="-36360"/>
            <a:ext cx="9169200" cy="2182680"/>
            <a:chOff x="-12600" y="-36360"/>
            <a:chExt cx="9169200" cy="2182680"/>
          </a:xfrm>
        </p:grpSpPr>
        <p:pic>
          <p:nvPicPr>
            <p:cNvPr id="43" name="Rectangle 2" descr=""/>
            <p:cNvPicPr/>
            <p:nvPr/>
          </p:nvPicPr>
          <p:blipFill>
            <a:blip r:embed="rId2"/>
            <a:stretch/>
          </p:blipFill>
          <p:spPr>
            <a:xfrm>
              <a:off x="-12600" y="-36360"/>
              <a:ext cx="9169200" cy="218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"/>
            <p:cNvSpPr/>
            <p:nvPr/>
          </p:nvSpPr>
          <p:spPr>
            <a:xfrm>
              <a:off x="0" y="-27000"/>
              <a:ext cx="9144000" cy="216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ff00"/>
                  </a:solidFill>
                  <a:latin typeface="Tahoma"/>
                </a:rPr>
                <a:t>BUILDING AND STAIRWELL PRESSURIZATION AND SMOKE EVACUATION</a:t>
              </a:r>
              <a:endParaRPr b="1" lang="en-US" sz="4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219240" y="2204640"/>
            <a:ext cx="8354880" cy="61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9000"/>
          </a:bodyPr>
          <a:p>
            <a:pPr marL="9936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00000"/>
                </a:solidFill>
                <a:latin typeface="Tahoma"/>
              </a:rPr>
              <a:t>DESIGN</a:t>
            </a:r>
            <a:r>
              <a:rPr b="1" lang="en-GB" sz="3200" spc="-1" strike="noStrike">
                <a:solidFill>
                  <a:srgbClr val="c00000"/>
                </a:solidFill>
                <a:latin typeface="Tahoma"/>
              </a:rPr>
              <a:t> </a:t>
            </a:r>
            <a:r>
              <a:rPr b="1" lang="en-GB" sz="4000" spc="-1" strike="noStrike">
                <a:solidFill>
                  <a:srgbClr val="c00000"/>
                </a:solidFill>
                <a:latin typeface="Tahoma"/>
              </a:rPr>
              <a:t>SEMINAR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99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99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ffff"/>
                </a:solidFill>
                <a:latin typeface="Tahoma"/>
              </a:rPr>
              <a:t>    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Text Box 4"/>
          <p:cNvSpPr/>
          <p:nvPr/>
        </p:nvSpPr>
        <p:spPr>
          <a:xfrm>
            <a:off x="158760" y="6453360"/>
            <a:ext cx="837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Tahoma"/>
              </a:rPr>
              <a:t>VENUE: WHITE PALACE HOTEL, RIYADH, K.S.A.                       </a:t>
            </a:r>
            <a:r>
              <a:rPr b="1" lang="en-US" sz="1400" spc="-1" strike="noStrike">
                <a:solidFill>
                  <a:srgbClr val="c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c00000"/>
                </a:solidFill>
                <a:latin typeface="Tahoma"/>
              </a:rPr>
              <a:t>       DATE: AUGUST 22,  2014</a:t>
            </a: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7" name="Picture 1" descr=""/>
          <p:cNvPicPr/>
          <p:nvPr/>
        </p:nvPicPr>
        <p:blipFill>
          <a:blip r:embed="rId3"/>
          <a:stretch/>
        </p:blipFill>
        <p:spPr>
          <a:xfrm>
            <a:off x="6124680" y="3365640"/>
            <a:ext cx="2047680" cy="22446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5" descr=""/>
          <p:cNvPicPr/>
          <p:nvPr/>
        </p:nvPicPr>
        <p:blipFill>
          <a:blip r:embed="rId4"/>
          <a:stretch/>
        </p:blipFill>
        <p:spPr>
          <a:xfrm>
            <a:off x="946080" y="3236760"/>
            <a:ext cx="2448000" cy="236556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4"/>
          <p:cNvSpPr/>
          <p:nvPr/>
        </p:nvSpPr>
        <p:spPr>
          <a:xfrm>
            <a:off x="158760" y="2820960"/>
            <a:ext cx="3311640" cy="4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00000"/>
                </a:solidFill>
                <a:latin typeface="Tahoma"/>
              </a:rPr>
              <a:t>PRESENTED BY 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ffff"/>
                </a:solidFill>
                <a:latin typeface="Tahoma"/>
              </a:rPr>
              <a:t>      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Rectangle 14"/>
          <p:cNvSpPr/>
          <p:nvPr/>
        </p:nvSpPr>
        <p:spPr>
          <a:xfrm>
            <a:off x="4113360" y="3875040"/>
            <a:ext cx="96336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161616"/>
                </a:solidFill>
                <a:latin typeface="Tahoma"/>
              </a:rPr>
              <a:t>&amp;</a:t>
            </a:r>
            <a:r>
              <a:rPr b="1" lang="en-GB" sz="6000" spc="-1" strike="noStrike">
                <a:solidFill>
                  <a:srgbClr val="161616"/>
                </a:solidFill>
                <a:latin typeface="Tahoma"/>
              </a:rPr>
              <a:t> </a:t>
            </a:r>
            <a:r>
              <a:rPr b="1" i="1" lang="en-GB" sz="3600" spc="-1" strike="noStrike">
                <a:solidFill>
                  <a:srgbClr val="00b050"/>
                </a:solidFill>
                <a:latin typeface="Tahoma"/>
              </a:rPr>
              <a:t> </a:t>
            </a:r>
            <a:r>
              <a:rPr b="1" i="1" lang="en-GB" sz="36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Rectangle 14"/>
          <p:cNvSpPr/>
          <p:nvPr/>
        </p:nvSpPr>
        <p:spPr>
          <a:xfrm>
            <a:off x="5245200" y="5808600"/>
            <a:ext cx="366228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61616"/>
                </a:solidFill>
                <a:latin typeface="Tahoma"/>
              </a:rPr>
              <a:t>ENGR.CECILIO CHAVIT, PME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161616"/>
                </a:solidFill>
                <a:latin typeface="Tahoma"/>
              </a:rPr>
              <a:t>TECHNICAL PRESENTER   </a:t>
            </a: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Rectangle 14"/>
          <p:cNvSpPr/>
          <p:nvPr/>
        </p:nvSpPr>
        <p:spPr>
          <a:xfrm>
            <a:off x="539640" y="5661000"/>
            <a:ext cx="3384720" cy="7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61616"/>
                </a:solidFill>
                <a:latin typeface="Tahoma"/>
              </a:rPr>
              <a:t>PSME-CRSA</a:t>
            </a:r>
            <a:r>
              <a:rPr b="1" lang="en-GB" sz="2000" spc="-1" strike="noStrike">
                <a:solidFill>
                  <a:srgbClr val="161616"/>
                </a:solidFill>
                <a:latin typeface="Tahoma"/>
              </a:rPr>
              <a:t> </a:t>
            </a:r>
            <a:r>
              <a:rPr b="1" lang="en-GB" sz="20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ffff"/>
                </a:solidFill>
                <a:latin typeface="Tahoma"/>
              </a:rPr>
              <a:t>      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42800" y="36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TOPICS TO BE DISCUSSED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DFE7D-7D16-445F-8CE0-99FF63C01A8E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Content Placeholder 6"/>
          <p:cNvSpPr/>
          <p:nvPr/>
        </p:nvSpPr>
        <p:spPr>
          <a:xfrm>
            <a:off x="457200" y="1241280"/>
            <a:ext cx="8686800" cy="56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I- INTRODUCTION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1.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WHAT ARE THE IMPORTANCE OF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UILDING PRESSURIZATION AND SMOKE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VACUATION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 u="sng">
                <a:solidFill>
                  <a:srgbClr val="00ccff"/>
                </a:solidFill>
                <a:uFillTx/>
                <a:latin typeface="Tahoma"/>
                <a:hlinkClick r:id="rId1"/>
              </a:rPr>
              <a:t>( see reference no.1-1) 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(see reference no.1-2)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614DB-05D5-4F04-A7AF-5B951E10F674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Content Placeholder 6"/>
          <p:cNvSpPr/>
          <p:nvPr/>
        </p:nvSpPr>
        <p:spPr>
          <a:xfrm>
            <a:off x="457200" y="357120"/>
            <a:ext cx="8686800" cy="65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2.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ODE REFERENCES :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. NFPA 92A 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en-US" sz="2400" spc="-1" strike="noStrike" u="sng">
                <a:solidFill>
                  <a:srgbClr val="00ccff"/>
                </a:solidFill>
                <a:uFillTx/>
                <a:latin typeface="Tahoma"/>
                <a:hlinkClick r:id="rId1"/>
              </a:rPr>
              <a:t>(see reference no. 2-2-A)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. NFPA 92B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24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(see reference no. 2-2-B)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. NFPA 101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2400" spc="-1" strike="noStrike" u="sng">
                <a:solidFill>
                  <a:srgbClr val="00ccff"/>
                </a:solidFill>
                <a:uFillTx/>
                <a:latin typeface="Tahoma"/>
                <a:hlinkClick r:id="rId3"/>
              </a:rPr>
              <a:t>(see reference no. 2-2-C)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. ASHRAE FUNDAMENTAL HANDBOOK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333360"/>
            <a:ext cx="86868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II-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MOKE EVACUATION CALCULATION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. HEAT RELEASE DAT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(see 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ahoma"/>
                <a:hlinkClick r:id="rId1"/>
              </a:rPr>
              <a:t>reference no. 2-A-1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reference no.2-A-2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ahoma"/>
                <a:hlinkClick r:id="rId3"/>
              </a:rPr>
              <a:t>reference no. 2-A-3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ahoma"/>
                <a:hlinkClick r:id="rId4"/>
              </a:rPr>
              <a:t>reference no. 2-A-4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&amp;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ahoma"/>
                <a:hlinkClick r:id="rId5"/>
              </a:rPr>
              <a:t>reference no. 2-A-5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)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. SMOKE GENERATION FORMUL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ahoma"/>
                <a:hlinkClick r:id="rId6"/>
              </a:rPr>
              <a:t>(see reference no. 2-B-1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1. MAL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2. OFFIC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3. HOT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. SAMPLE CALCULA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ahoma"/>
                <a:hlinkClick r:id="rId7"/>
              </a:rPr>
              <a:t>(see reference no. 2-C-1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970CE-D0C4-453B-963D-E616F7B11E93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457200" y="333360"/>
            <a:ext cx="86868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III-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BUILDING PRESSURIZATION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ALCUL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REFERENCE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1. SUBST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2. CONTROL ROO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3. RESIDENTIAL VILL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4. OFFIC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D5261-CB11-4389-BF25-674D214B2866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7200" y="333360"/>
            <a:ext cx="86868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IV-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BUILDING STAIRWELL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PRESSURIZATION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REFERENCE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ahoma"/>
                <a:hlinkClick r:id="rId1"/>
              </a:rPr>
              <a:t>see reference no. 4-A-1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reference no. 4-A-2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ahoma"/>
                <a:hlinkClick r:id="rId3"/>
              </a:rPr>
              <a:t>reference no. 4-A-3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ahoma"/>
                <a:hlinkClick r:id="rId4"/>
              </a:rPr>
              <a:t>reference no. 4-A-4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&amp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ahoma"/>
                <a:hlinkClick r:id="rId5"/>
              </a:rPr>
              <a:t>reference no. 4-A-5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1.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ETERMINE STAIRWELL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PRESSURIZATION HEIGHT LIM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(see reference no.4-1-1 &amp; reference no.4-1-2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457200" y="333360"/>
            <a:ext cx="86868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2. PRESSURE DIFFERENTIAL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  CALCUL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(see reference no. 4-2-1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3. EFFECTIVE AREA CALCULATION &amp;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  PRESSURIZATION AIRFLOW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  CALCUL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206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2060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(see reference no. 4-3-1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755640" y="2491920"/>
            <a:ext cx="763272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ahoma"/>
              </a:rPr>
              <a:t>THANK YOU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6T19:04:25Z</dcterms:created>
  <dc:creator>ednor</dc:creator>
  <dc:description/>
  <dc:language>en-US</dc:language>
  <cp:lastModifiedBy>cecilio chavit</cp:lastModifiedBy>
  <dcterms:modified xsi:type="dcterms:W3CDTF">2014-08-17T19:12:25Z</dcterms:modified>
  <cp:revision>124</cp:revision>
  <dc:subject/>
  <dc:title>FIRE PROTECTION SYSTEM (Sprinkler System)</dc:title>
</cp:coreProperties>
</file>