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5C4-D219-4C05-B94F-C4432972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D80-B99C-44AE-BA6A-94CC63F0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751-AEC2-497A-B5EE-4C3A6549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35F-840B-4603-88F9-14269AE6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85C-6BC2-4785-9871-F5EB7B7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637-99F3-4633-934B-F6264131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83C-51AA-4A7C-A8CB-C97147FF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515-D898-4AB5-A74B-BC1DD69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55E-A2F2-40A0-921D-008C5738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398-BDC9-49F4-AE48-6212DD1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D79-56C8-4998-B943-3AA20DF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707-DDDB-425F-98BC-BACDCA93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35C8-BA57-48C4-8888-AC54685BCFF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lanetbossi.ch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ATT0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ATT0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ATT0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ATT0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ATT0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ATT0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ATT0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ATT0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Imagen" descr="ATT0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ATT0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ATT0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ATT0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ATT0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ATT0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ATT0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ATT0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ATT0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3 Imagen" descr="ATT0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79280" y="2703600"/>
            <a:ext cx="885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00ff"/>
                </a:solidFill>
                <a:uFillTx/>
                <a:latin typeface="Arial Rounded MT Bold"/>
                <a:ea typeface="MS PGothic"/>
                <a:hlinkClick r:id="rId1"/>
              </a:rPr>
              <a:t>www.planetbossi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ATT0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ATT0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ATT0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ATT0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ATT0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ATT0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ATT0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2:27:23Z</dcterms:created>
  <dc:creator>Liliana Menzel Zanzi</dc:creator>
  <dc:description/>
  <dc:language>en-US</dc:language>
  <cp:lastModifiedBy>Marcel Bossard</cp:lastModifiedBy>
  <dcterms:modified xsi:type="dcterms:W3CDTF">2014-01-22T19:45:58Z</dcterms:modified>
  <cp:revision>3</cp:revision>
  <dc:subject/>
  <dc:title>Diapositiva 1</dc:title>
</cp:coreProperties>
</file>