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D484-8E19-4BB8-B0EB-B9AAEEDD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DAC7-506C-4CD9-BB16-CE405C79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ABF0-3B29-4184-A241-4F909D6B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98D3-41C3-47FB-9A45-0F94842B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C6D0-A84C-436D-8F09-C71F9060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1604-6EC0-4902-9126-68D3BB56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89C9-AD96-46E2-BBC1-B4102B6D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1BFB-E5CD-4996-868F-23DF7783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CF7F-7962-400E-A08C-64893D0C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6221-4858-4A00-9586-DAFD155B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1412-7F8C-47EC-8DA6-E3B6D049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0DCC-B0FB-4C03-ADEB-C4F0589F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5975-8341-41D6-B276-A893D8224D20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planetbossi.ch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 Imagen" descr="ATT00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 Imagen" descr="ATT00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 Imagen" descr="ATT00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 Imagen" descr="ATT00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 Imagen" descr="ATT000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 Imagen" descr="ATT000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 Imagen" descr="ATT000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 Imagen" descr="ATT000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 Imagen" descr="ATT000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 Imagen" descr="ATT000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 Imagen" descr="ATT00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1 Imagen" descr="ATT00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 Imagen" descr="ATT000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Imagen" descr="ATT000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Imagen" descr="ATT000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1 Imagen" descr="ATT000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1 Imagen" descr="ATT000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3 Imagen" descr="ATT00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179280" y="2703600"/>
            <a:ext cx="8856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 u="sng">
                <a:solidFill>
                  <a:srgbClr val="0000ff"/>
                </a:solidFill>
                <a:uFillTx/>
                <a:latin typeface="Arial Rounded MT Bold"/>
                <a:ea typeface="MS PGothic"/>
                <a:hlinkClick r:id="rId1"/>
              </a:rPr>
              <a:t>www.planetbossi.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 Imagen" descr="ATT00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 Imagen" descr="ATT00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 Imagen" descr="ATT00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Imagen" descr="ATT00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 Imagen" descr="ATT000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 Imagen" descr="ATT00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 Imagen" descr="ATT00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22:27:23Z</dcterms:created>
  <dc:creator>Liliana Menzel Zanzi</dc:creator>
  <dc:description/>
  <dc:language>en-US</dc:language>
  <cp:lastModifiedBy>Marcel Bossard</cp:lastModifiedBy>
  <dcterms:modified xsi:type="dcterms:W3CDTF">2014-01-22T19:45:58Z</dcterms:modified>
  <cp:revision>3</cp:revision>
  <dc:subject/>
  <dc:title>Diapositiva 1</dc:title>
</cp:coreProperties>
</file>