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sound007.wav" ContentType="audio/x-wav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gif" ContentType="image/gif"/>
  <Override PartName="/ppt/media/image1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667-91C7-4A04-AD59-E1C73767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1A4-A6B8-46BA-899B-4167637A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142-3BDF-4FF1-AC12-DF540151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321-8EC8-4175-B3F8-44BADFF5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9D9-12C9-475D-945C-4F80B1E4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EB1-192C-4047-B608-5C367005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FD3-C3C5-4172-AE7B-76EDE6B4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901-2369-460F-AF95-423AA26A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205-7F0C-4685-9C85-E7869A7D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426-0057-43FB-B79A-B582A4C9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A4F9-CE93-4F36-A7F3-7683DC23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50D-D03D-42CC-9062-7FB2C024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09CE-29B5-4D52-9E94-6F5744E4ED99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BBAE-2247-4950-89D4-850F405AB7D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audio" Target="../media/sound007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istrador\Escritorio\Fotos hermosas\flyingeaglepq0yc5[1].gif"/>
          <p:cNvPicPr/>
          <p:nvPr/>
        </p:nvPicPr>
        <p:blipFill>
          <a:blip r:embed="rId1"/>
          <a:stretch/>
        </p:blipFill>
        <p:spPr>
          <a:xfrm>
            <a:off x="-214200" y="-142920"/>
            <a:ext cx="9644040" cy="7643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c090"/>
                </a:solidFill>
                <a:latin typeface="Edwardian Script ITC"/>
              </a:rPr>
              <a:t>Solo relájate , disfruta de la música  y las imáge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C:\Documents and Settings\Administrador\Escritorio\Carpeta de diapositivas\Para extraer imágenes, texto y música\Abiertas Web\Colores_de_la_vida Naranja-Imágenes\slide0010_image011.jpg"/>
          <p:cNvPicPr/>
          <p:nvPr/>
        </p:nvPicPr>
        <p:blipFill>
          <a:blip r:embed="rId2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3" name="sound007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3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200"/>
                            </p:stCondLst>
                            <p:childTnLst>
                              <p:par>
                                <p:cTn id="26" nodeType="after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Administrador\Escritorio\Mis imágenes\Natinal Geografic_Camille\ATT004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Administrador\Escritorio\Fotos hermosas\12091356313BbnV9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Administrador\Escritorio\Fotos hermosas\FhR51uVAYVDZtU97FF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istrador\Escritorio\Fotos hermosas\1207157611HUgAgbZ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Administrador\Escritorio\Fotos hermosas\i9iwUR6V8HBEHuR1fq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Documents and Settings\Administrador\Escritorio\Fotos hermosas\1213558052G1ybGW8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Administrador\Escritorio\Fotos hermosas\BU1k8S1CtKE2BPyb9d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Administrador\Escritorio\Fotos hermosas\1217954222NZqyRxd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Administrador\Escritorio\Carpeta de diapositivas\Camille\Abiertas Web\Paisajes y musica-Camille_archivos\slide0027_image0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dministrador\Escritorio\Carpeta de diapositivas\Camille\Abiertas Web\Paisajes y musica-Camille_archivos\slide0028_image054.jpg"/>
          <p:cNvPicPr/>
          <p:nvPr/>
        </p:nvPicPr>
        <p:blipFill>
          <a:blip r:embed="rId1"/>
          <a:srcRect l="2344" t="3125" r="4689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Administrador\Escritorio\Carpeta de diapositivas\Camille\Abiertas Web\Paisajes y musica-Camille_archivos\slide0030_image023.jpg"/>
          <p:cNvPicPr/>
          <p:nvPr/>
        </p:nvPicPr>
        <p:blipFill>
          <a:blip r:embed="rId1"/>
          <a:srcRect l="2334" t="2079" r="2765" b="31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Administrador\Escritorio\Fotos hermosas\1233749699lHUTLUK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Administrador\Escritorio\El_Esplendor_de_la_naturaleza_CamilleSk_archivos\slide0029_image051.jpg"/>
          <p:cNvPicPr/>
          <p:nvPr/>
        </p:nvPicPr>
        <p:blipFill>
          <a:blip r:embed="rId1"/>
          <a:srcRect l="6788" t="10940" r="6788" b="128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Documents and Settings\Administrador\Escritorio\Fotos hermosas\12080189472GiNfXe[1].jpg"/>
          <p:cNvPicPr/>
          <p:nvPr/>
        </p:nvPicPr>
        <p:blipFill>
          <a:blip r:embed="rId1"/>
          <a:stretch/>
        </p:blipFill>
        <p:spPr>
          <a:xfrm>
            <a:off x="0" y="-15144840"/>
            <a:ext cx="9144000" cy="2226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Administrador\Escritorio\Agua__CamilleSk_archivos\slide0007_image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Administrador\Escritorio\Fotos hermosas\1206408348D7IEMcg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C:\Documents and Settings\Administrador\Escritorio\Carpeta de diapositivas\Matias\ShowFotograficoOsc_15.9.07_archivos\slide0042_image0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Administrador\Escritorio\Agua__CamilleSk_archivos\slide0029_image06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Administrador\Escritorio\Fotos hermosas\78JLcCmECGES[1].jpg"/>
          <p:cNvPicPr/>
          <p:nvPr/>
        </p:nvPicPr>
        <p:blipFill>
          <a:blip r:embed="rId1"/>
          <a:stretch/>
        </p:blipFill>
        <p:spPr>
          <a:xfrm>
            <a:off x="58680" y="0"/>
            <a:ext cx="90853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Administrador\Escritorio\Fotos hermosas\7FxBGDAW5aFN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Administrador\Escritorio\Fotos hermosas\QuE9HDz4ihrEg2eGMQ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Documents and Settings\Administrador\Escritorio\Carpeta de diapositivas\Camille\Abiertas Web\Paisajes y musica-Camille_archivos\slide0002_image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Administrador\Escritorio\Agua__CamilleSk_archivos\slide0045_image0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Administrador\Escritorio\Mis imágenes\Natinal Geografic_Camille\ATT004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Administrador\Escritorio\Agua__CamilleSk_archivos\slide0011_image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Administrador\Escritorio\Carpeta de diapositivas\Para extraer imágenes, texto y música\Abiertas Web\Animales_maravillosos_archivos\slide0013_image022.jpg"/>
          <p:cNvPicPr/>
          <p:nvPr/>
        </p:nvPicPr>
        <p:blipFill>
          <a:blip r:embed="rId1"/>
          <a:srcRect l="2346" t="3126" r="2346" b="31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Administrador\Escritorio\Carpeta de diapositivas\Camille\Abiertas Web\Paisajes y musica-Camille_archivos\slide0029_image0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C:\Documents and Settings\Administrador\Escritorio\Carpeta de diapositivas\Para extraer imágenes, texto y música\Abiertas Web\Animales_maravillosos_archivos\slide0038_image0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Administrador\Escritorio\Carpeta de diapositivas\Camille\Abiertas Web\Paisajes y musica-Camille_archivos\slide0006_image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Administrador\Escritorio\Carpeta de diapositivas\Matias\ShowFotograficoOsc_15.9.07_archivos\slide0019_image0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Administrador\Escritorio\Agua__CamilleSk_archivos\slide0039_image0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Administrador\Escritorio\Carpeta de diapositivas\Para extraer imágenes, texto y música\Abiertas Web\Animales_maravillosos_archivos\slide0006_image035.jpg"/>
          <p:cNvPicPr/>
          <p:nvPr/>
        </p:nvPicPr>
        <p:blipFill>
          <a:blip r:embed="rId1"/>
          <a:srcRect l="7032" t="9237" r="8007" b="105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Administrador\Escritorio\Mis imágenes\Natinal Geografic_Camille\247366152RL1650785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Administrador\Escritorio\Mis imágenes\Paisajes para diapositivas\2310885802_cf145267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Administrador\Escritorio\Carpeta de diapositivas\Para extraer imágenes, texto y música\Abiertas Web\Animales_maravillosos_archivos\slide0002_image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Administrador\Escritorio\Agua__CamilleSk_archivos\slide0010_image0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Documents and Settings\Administrador\Escritorio\Animales_en_amor__CamilleSk_archivos\slide0002_image015.jpg"/>
          <p:cNvPicPr/>
          <p:nvPr/>
        </p:nvPicPr>
        <p:blipFill>
          <a:blip r:embed="rId1"/>
          <a:srcRect l="3124" t="3128" r="2345" b="312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Administrador\Escritorio\Agua__CamilleSk_archivos\slide0012_image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istrador\Escritorio\Mis imágenes\Paisajes para diapositivas\fotos-mar-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Administrador\Escritorio\Carpeta de diapositivas\Para extraer imágenes, texto y música\Abiertas Web\Imágenes de animalitos\tiernos-2-Animalitos\slide0020_image0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Administrador\Escritorio\Fotos hermosas\cXVK5jbsbBDEpYSzjb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Documents and Settings\Administrador\Escritorio\Fotos hermosas\cXVK5jbsbBDEpYSzjb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Administrador\Escritorio\Fotos hermosas\cXVK5jbsbBDEpYSzjb[1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Documents and Settings\Administrador\Escritorio\Fotos hermosas\cXVK5jbsbBDEpYSzjb[1]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5 CuadroTexto"/>
          <p:cNvSpPr/>
          <p:nvPr/>
        </p:nvSpPr>
        <p:spPr>
          <a:xfrm>
            <a:off x="6286680" y="5000760"/>
            <a:ext cx="257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632523"/>
                </a:solidFill>
                <a:latin typeface="Edwardian Script ITC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Administrador\Escritorio\Carpeta de diapositivas\Camille\Abiertas Web\Paisajes y musica-Camille_archivos\slide0023_image0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istrador\Escritorio\Fotos hermosas\3gCdWDntbyYM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Administrador\Escritorio\Mis imágenes\Natinal Geografic_Camille\ATT004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Administrador\Escritorio\Carpeta de diapositivas\Camille\Abiertas Web\Paisajes y musica-Camille_archivos\slide0024_image056.jpg"/>
          <p:cNvPicPr/>
          <p:nvPr/>
        </p:nvPicPr>
        <p:blipFill>
          <a:blip r:embed="rId1"/>
          <a:srcRect l="2343" t="2081" r="2343" b="31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istrador\Escritorio\Carpeta de diapositivas\Camille\Abiertas Web\Como hacerte saber __CamilleSk_archivos\slide0004_image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6:51:54Z</dcterms:created>
  <dc:creator>maraluz</dc:creator>
  <dc:description>Homenaje a todos los fotógrafos.</dc:description>
  <dc:language>en-US</dc:language>
  <cp:lastModifiedBy>Gebruiker</cp:lastModifiedBy>
  <dcterms:modified xsi:type="dcterms:W3CDTF">2010-08-10T13:29:49Z</dcterms:modified>
  <cp:revision>49</cp:revision>
  <dc:subject/>
  <dc:title>Photos_Maravillosas</dc:title>
</cp:coreProperties>
</file>