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sound007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AB5-D4B7-495A-AD8D-A01F1DC4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7B0-9D0B-4B27-8196-F77A4B5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C51-6233-4270-B1B2-67F6077B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8CE-472B-4326-9EF4-F68E2BD6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84E-7F74-4450-92B6-48441A4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FE2-4CD2-493A-B57D-4D859D7E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BA7-5F06-4A58-9E52-1DA345B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26A-D092-4234-AFB3-F4DBB98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867-2809-4A3F-AF51-3696C45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E0F-96CC-4A9E-A5A2-BFE33616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68E-2965-4F73-BD01-BDEFBC3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D9A-5753-4ACF-8A9F-AF73FDE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CF7D-5E68-4338-8949-ED2A327A56C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5A5-54F4-45A9-B8B6-F1A778D513E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audio" Target="../media/sound007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dor\Escritorio\Fotos hermosas\flyingeaglepq0yc5[1].gif"/>
          <p:cNvPicPr/>
          <p:nvPr/>
        </p:nvPicPr>
        <p:blipFill>
          <a:blip r:embed="rId1"/>
          <a:stretch/>
        </p:blipFill>
        <p:spPr>
          <a:xfrm>
            <a:off x="-214200" y="-142920"/>
            <a:ext cx="9644040" cy="7643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c090"/>
                </a:solidFill>
                <a:latin typeface="Edwardian Script ITC"/>
              </a:rPr>
              <a:t>Solo relájate , disfruta de la música  y las imáge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Documents and Settings\Administrador\Escritorio\Carpeta de diapositivas\Para extraer imágenes, texto y música\Abiertas Web\Colores_de_la_vida Naranja-Imágenes\slide0010_image011.jpg"/>
          <p:cNvPicPr/>
          <p:nvPr/>
        </p:nvPicPr>
        <p:blipFill>
          <a:blip r:embed="rId2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3" name="sound00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" nodeType="after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Administrador\Escritorio\Mis imágenes\Natinal Geografic_Camille\ATT004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istrador\Escritorio\Fotos hermosas\12091356313BbnV9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istrador\Escritorio\Fotos hermosas\FhR51uVAYVDZtU97FF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dor\Escritorio\Fotos hermosas\1207157611HUgAgbZ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istrador\Escritorio\Fotos hermosas\i9iwUR6V8HBEHuR1fq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Administrador\Escritorio\Fotos hermosas\1213558052G1ybGW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dor\Escritorio\Fotos hermosas\BU1k8S1CtKE2BPyb9d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istrador\Escritorio\Fotos hermosas\1217954222NZqyRxd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istrador\Escritorio\Carpeta de diapositivas\Camille\Abiertas Web\Paisajes y musica-Camille_archivos\slide0027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dor\Escritorio\Carpeta de diapositivas\Camille\Abiertas Web\Paisajes y musica-Camille_archivos\slide0028_image054.jpg"/>
          <p:cNvPicPr/>
          <p:nvPr/>
        </p:nvPicPr>
        <p:blipFill>
          <a:blip r:embed="rId1"/>
          <a:srcRect l="2344" t="3125" r="4689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istrador\Escritorio\Carpeta de diapositivas\Camille\Abiertas Web\Paisajes y musica-Camille_archivos\slide0030_image023.jpg"/>
          <p:cNvPicPr/>
          <p:nvPr/>
        </p:nvPicPr>
        <p:blipFill>
          <a:blip r:embed="rId1"/>
          <a:srcRect l="2334" t="2079" r="2765" b="31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istrador\Escritorio\Fotos hermosas\1233749699lHUTLUK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istrador\Escritorio\El_Esplendor_de_la_naturaleza_CamilleSk_archivos\slide0029_image051.jpg"/>
          <p:cNvPicPr/>
          <p:nvPr/>
        </p:nvPicPr>
        <p:blipFill>
          <a:blip r:embed="rId1"/>
          <a:srcRect l="6788" t="10940" r="6788" b="128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Administrador\Escritorio\Fotos hermosas\12080189472GiNfXe[1].jpg"/>
          <p:cNvPicPr/>
          <p:nvPr/>
        </p:nvPicPr>
        <p:blipFill>
          <a:blip r:embed="rId1"/>
          <a:stretch/>
        </p:blipFill>
        <p:spPr>
          <a:xfrm>
            <a:off x="0" y="-15144840"/>
            <a:ext cx="9144000" cy="2226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Administrador\Escritorio\Agua__CamilleSk_archivos\slide0007_image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istrador\Escritorio\Fotos hermosas\1206408348D7IEMc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Documents and Settings\Administrador\Escritorio\Carpeta de diapositivas\Matias\ShowFotograficoOsc_15.9.07_archivos\slide0042_image0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istrador\Escritorio\Agua__CamilleSk_archivos\slide0029_image0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istrador\Escritorio\Fotos hermosas\78JLcCmECGES[1].jpg"/>
          <p:cNvPicPr/>
          <p:nvPr/>
        </p:nvPicPr>
        <p:blipFill>
          <a:blip r:embed="rId1"/>
          <a:stretch/>
        </p:blipFill>
        <p:spPr>
          <a:xfrm>
            <a:off x="5868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Administrador\Escritorio\Fotos hermosas\7FxBGDAW5aFN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Administrador\Escritorio\Fotos hermosas\QuE9HDz4ihrEg2eGMQ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Administrador\Escritorio\Carpeta de diapositivas\Camille\Abiertas Web\Paisajes y musica-Camille_archivos\slide0002_image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dministrador\Escritorio\Agua__CamilleSk_archivos\slide0045_image0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istrador\Escritorio\Mis imágenes\Natinal Geografic_Camille\ATT004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istrador\Escritorio\Agua__CamilleSk_archivos\slide0011_image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dministrador\Escritorio\Carpeta de diapositivas\Para extraer imágenes, texto y música\Abiertas Web\Animales_maravillosos_archivos\slide0013_image022.jpg"/>
          <p:cNvPicPr/>
          <p:nvPr/>
        </p:nvPicPr>
        <p:blipFill>
          <a:blip r:embed="rId1"/>
          <a:srcRect l="2346" t="3126" r="2346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istrador\Escritorio\Carpeta de diapositivas\Camille\Abiertas Web\Paisajes y musica-Camille_archivos\slide0029_image0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Documents and Settings\Administrador\Escritorio\Carpeta de diapositivas\Para extraer imágenes, texto y música\Abiertas Web\Animales_maravillosos_archivos\slide0038_image0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istrador\Escritorio\Carpeta de diapositivas\Camille\Abiertas Web\Paisajes y musica-Camille_archivos\slide0006_image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Administrador\Escritorio\Carpeta de diapositivas\Matias\ShowFotograficoOsc_15.9.07_archivos\slide0019_image0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istrador\Escritorio\Agua__CamilleSk_archivos\slide0039_image0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istrador\Escritorio\Carpeta de diapositivas\Para extraer imágenes, texto y música\Abiertas Web\Animales_maravillosos_archivos\slide0006_image035.jpg"/>
          <p:cNvPicPr/>
          <p:nvPr/>
        </p:nvPicPr>
        <p:blipFill>
          <a:blip r:embed="rId1"/>
          <a:srcRect l="7032" t="9237" r="8007" b="105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Administrador\Escritorio\Mis imágenes\Natinal Geografic_Camille\247366152RL1650785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Administrador\Escritorio\Mis imágenes\Paisajes para diapositivas\2310885802_cf14526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dor\Escritorio\Carpeta de diapositivas\Para extraer imágenes, texto y música\Abiertas Web\Animales_maravillosos_archivos\slide0002_image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istrador\Escritorio\Agua__CamilleSk_archivos\slide0010_image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Documents and Settings\Administrador\Escritorio\Animales_en_amor__CamilleSk_archivos\slide0002_image015.jpg"/>
          <p:cNvPicPr/>
          <p:nvPr/>
        </p:nvPicPr>
        <p:blipFill>
          <a:blip r:embed="rId1"/>
          <a:srcRect l="3124" t="3128" r="2345" b="31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istrador\Escritorio\Agua__CamilleSk_archivos\slide0012_image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dor\Escritorio\Mis imágenes\Paisajes para diapositivas\fotos-mar-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istrador\Escritorio\Carpeta de diapositivas\Para extraer imágenes, texto y música\Abiertas Web\Imágenes de animalitos\tiernos-2-Animalitos\slide0020_image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istrador\Escritorio\Fotos hermosas\cXVK5jbsbBDEpYSzjb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Administrador\Escritorio\Fotos hermosas\cXVK5jbsbBDEpYSzjb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Administrador\Escritorio\Fotos hermosas\cXVK5jbsbBDEpYSzjb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Administrador\Escritorio\Fotos hermosas\cXVK5jbsbBDEpYSzjb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6286680" y="5000760"/>
            <a:ext cx="257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632523"/>
                </a:solidFill>
                <a:latin typeface="Edwardian Script ITC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istrador\Escritorio\Carpeta de diapositivas\Camille\Abiertas Web\Paisajes y musica-Camille_archivos\slide0023_image0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istrador\Escritorio\Fotos hermosas\3gCdWDntbyYM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istrador\Escritorio\Mis imágenes\Natinal Geografic_Camille\ATT004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istrador\Escritorio\Carpeta de diapositivas\Camille\Abiertas Web\Paisajes y musica-Camille_archivos\slide0024_image056.jpg"/>
          <p:cNvPicPr/>
          <p:nvPr/>
        </p:nvPicPr>
        <p:blipFill>
          <a:blip r:embed="rId1"/>
          <a:srcRect l="2343" t="2081" r="2343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dor\Escritorio\Carpeta de diapositivas\Camille\Abiertas Web\Como hacerte saber __CamilleSk_archivos\slide0004_image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6:51:54Z</dcterms:created>
  <dc:creator>maraluz</dc:creator>
  <dc:description>Homenaje a todos los fotógrafos.</dc:description>
  <dc:language>en-US</dc:language>
  <cp:lastModifiedBy>Gebruiker</cp:lastModifiedBy>
  <dcterms:modified xsi:type="dcterms:W3CDTF">2010-08-10T13:29:49Z</dcterms:modified>
  <cp:revision>49</cp:revision>
  <dc:subject/>
  <dc:title>Photos_Maravillosas</dc:title>
</cp:coreProperties>
</file>