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7.jpeg" ContentType="image/jpeg"/>
  <Override PartName="/ppt/media/image33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6.jpeg" ContentType="image/jpeg"/>
  <Override PartName="/ppt/media/111%20-%20Railroad%20Bill%20(Unreleased,%20Self%20Portrait)wavssss.wav" ContentType="audio/x-wav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8D3-E7D7-4434-AD95-E857CA36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3577-3FAF-486C-B08C-ED79B18D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3AB8-7933-4939-8122-8671EF11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D8A4-2654-4120-9557-0D2F94F0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3349-7613-4DEF-9ADE-4DAD7BA4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7FA9-4026-4370-A97C-F9F084AB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386F-45DC-4147-B4F0-18423E50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C3E6-2D5C-4115-A58D-450C6C23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CF84-B3A4-4B43-8CC9-4F90C75D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836F-4022-4705-8AAD-F78628A5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77D7-CA1E-4F18-B92D-38D77340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F4C2-5D8A-4A21-A481-3DF7389A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DD97-5D07-4594-97D3-5A196BDC22D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11%20-%20Railroad%20Bill%20(Unreleased,%20Self%20Portrait)wavsss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1" descr="Part_0330.jpg"/>
          <p:cNvPicPr/>
          <p:nvPr/>
        </p:nvPicPr>
        <p:blipFill>
          <a:blip r:embed="rId1"/>
          <a:stretch/>
        </p:blipFill>
        <p:spPr>
          <a:xfrm>
            <a:off x="2124000" y="0"/>
            <a:ext cx="4894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5280" y="5321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 C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2" name="111%20-%20Railroad%20Bill%20(Unreleased,%20Self%20Portrait)wavss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lika 1" descr="Part_555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lika 1" descr="Part_0741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lika 1" descr="Part_0924.jpg"/>
          <p:cNvPicPr/>
          <p:nvPr/>
        </p:nvPicPr>
        <p:blipFill>
          <a:blip r:embed="rId1"/>
          <a:stretch/>
        </p:blipFill>
        <p:spPr>
          <a:xfrm>
            <a:off x="0" y="504720"/>
            <a:ext cx="9144000" cy="5848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lika 1" descr="Part_12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lika 1" descr="Part_1317.jpg"/>
          <p:cNvPicPr/>
          <p:nvPr/>
        </p:nvPicPr>
        <p:blipFill>
          <a:blip r:embed="rId1"/>
          <a:stretch/>
        </p:blipFill>
        <p:spPr>
          <a:xfrm>
            <a:off x="263520" y="0"/>
            <a:ext cx="8615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lika 1" descr="Part_1437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lika 1" descr="Part_1516.jpg"/>
          <p:cNvPicPr/>
          <p:nvPr/>
        </p:nvPicPr>
        <p:blipFill>
          <a:blip r:embed="rId1"/>
          <a:stretch/>
        </p:blipFill>
        <p:spPr>
          <a:xfrm>
            <a:off x="220032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lika 1" descr="Part_1850.jpg"/>
          <p:cNvPicPr/>
          <p:nvPr/>
        </p:nvPicPr>
        <p:blipFill>
          <a:blip r:embed="rId1"/>
          <a:stretch/>
        </p:blipFill>
        <p:spPr>
          <a:xfrm>
            <a:off x="2293920" y="0"/>
            <a:ext cx="4554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lika 1" descr="Part_1951.jpg"/>
          <p:cNvPicPr/>
          <p:nvPr/>
        </p:nvPicPr>
        <p:blipFill>
          <a:blip r:embed="rId1"/>
          <a:stretch/>
        </p:blipFill>
        <p:spPr>
          <a:xfrm>
            <a:off x="1373040" y="0"/>
            <a:ext cx="6396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lika 1" descr="Part_2043.jpg"/>
          <p:cNvPicPr/>
          <p:nvPr/>
        </p:nvPicPr>
        <p:blipFill>
          <a:blip r:embed="rId1"/>
          <a:stretch/>
        </p:blipFill>
        <p:spPr>
          <a:xfrm>
            <a:off x="892080" y="0"/>
            <a:ext cx="73580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lika 1" descr="Part_174.jpg"/>
          <p:cNvPicPr/>
          <p:nvPr/>
        </p:nvPicPr>
        <p:blipFill>
          <a:blip r:embed="rId1"/>
          <a:stretch/>
        </p:blipFill>
        <p:spPr>
          <a:xfrm>
            <a:off x="230040" y="0"/>
            <a:ext cx="868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lika 1" descr="Part_2226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Slika 1" descr="Part_25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lika 1" descr="Part_2731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lika 1" descr="Part_2934.jpg"/>
          <p:cNvPicPr/>
          <p:nvPr/>
        </p:nvPicPr>
        <p:blipFill>
          <a:blip r:embed="rId1"/>
          <a:stretch/>
        </p:blipFill>
        <p:spPr>
          <a:xfrm>
            <a:off x="2290680" y="0"/>
            <a:ext cx="4560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lika 1" descr="Part_3145.jpg"/>
          <p:cNvPicPr/>
          <p:nvPr/>
        </p:nvPicPr>
        <p:blipFill>
          <a:blip r:embed="rId1"/>
          <a:stretch/>
        </p:blipFill>
        <p:spPr>
          <a:xfrm>
            <a:off x="1154160" y="0"/>
            <a:ext cx="68342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lika 1" descr="Part_3321.jpg"/>
          <p:cNvPicPr/>
          <p:nvPr/>
        </p:nvPicPr>
        <p:blipFill>
          <a:blip r:embed="rId1"/>
          <a:stretch/>
        </p:blipFill>
        <p:spPr>
          <a:xfrm>
            <a:off x="971640" y="0"/>
            <a:ext cx="7200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lika 1" descr="Part_3518.jpg"/>
          <p:cNvPicPr/>
          <p:nvPr/>
        </p:nvPicPr>
        <p:blipFill>
          <a:blip r:embed="rId1"/>
          <a:stretch/>
        </p:blipFill>
        <p:spPr>
          <a:xfrm>
            <a:off x="2087640" y="0"/>
            <a:ext cx="4968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lika 1" descr="Part_3742.jpg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8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Slika 1" descr="Part_4029.jpg"/>
          <p:cNvPicPr/>
          <p:nvPr/>
        </p:nvPicPr>
        <p:blipFill>
          <a:blip r:embed="rId1"/>
          <a:stretch/>
        </p:blipFill>
        <p:spPr>
          <a:xfrm>
            <a:off x="2322360" y="0"/>
            <a:ext cx="4497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Slika 1" descr="Part_4155.jpg"/>
          <p:cNvPicPr/>
          <p:nvPr/>
        </p:nvPicPr>
        <p:blipFill>
          <a:blip r:embed="rId1"/>
          <a:stretch/>
        </p:blipFill>
        <p:spPr>
          <a:xfrm>
            <a:off x="460440" y="0"/>
            <a:ext cx="8223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lika 1" descr="Part_0215.jpg"/>
          <p:cNvPicPr/>
          <p:nvPr/>
        </p:nvPicPr>
        <p:blipFill>
          <a:blip r:embed="rId1"/>
          <a:stretch/>
        </p:blipFill>
        <p:spPr>
          <a:xfrm>
            <a:off x="0" y="26676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Slika 1" descr="Part_4414.jpg"/>
          <p:cNvPicPr/>
          <p:nvPr/>
        </p:nvPicPr>
        <p:blipFill>
          <a:blip r:embed="rId1"/>
          <a:stretch/>
        </p:blipFill>
        <p:spPr>
          <a:xfrm>
            <a:off x="2290680" y="0"/>
            <a:ext cx="4562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Slika 1" descr="Part_4640.jpg"/>
          <p:cNvPicPr/>
          <p:nvPr/>
        </p:nvPicPr>
        <p:blipFill>
          <a:blip r:embed="rId1"/>
          <a:stretch/>
        </p:blipFill>
        <p:spPr>
          <a:xfrm>
            <a:off x="733320" y="0"/>
            <a:ext cx="767736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Slika 2" descr="Slika1.png"/>
          <p:cNvPicPr/>
          <p:nvPr/>
        </p:nvPicPr>
        <p:blipFill>
          <a:blip r:embed="rId2"/>
          <a:stretch/>
        </p:blipFill>
        <p:spPr>
          <a:xfrm>
            <a:off x="1714680" y="876240"/>
            <a:ext cx="571500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Slika 1" descr="Part_5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Slika 1" descr="Part_5110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lika 1" descr="Part_52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Slika 1" descr="Part_5333.jpg"/>
          <p:cNvPicPr/>
          <p:nvPr/>
        </p:nvPicPr>
        <p:blipFill>
          <a:blip r:embed="rId1"/>
          <a:stretch/>
        </p:blipFill>
        <p:spPr>
          <a:xfrm>
            <a:off x="1023840" y="0"/>
            <a:ext cx="7094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lika 1" descr="Part_5449.jpg"/>
          <p:cNvPicPr/>
          <p:nvPr/>
        </p:nvPicPr>
        <p:blipFill>
          <a:blip r:embed="rId1"/>
          <a:stretch/>
        </p:blipFill>
        <p:spPr>
          <a:xfrm>
            <a:off x="0" y="133200"/>
            <a:ext cx="9144000" cy="6591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Slika 1" descr="Part_5711.jpg"/>
          <p:cNvPicPr/>
          <p:nvPr/>
        </p:nvPicPr>
        <p:blipFill>
          <a:blip r:embed="rId1"/>
          <a:stretch/>
        </p:blipFill>
        <p:spPr>
          <a:xfrm>
            <a:off x="0" y="858960"/>
            <a:ext cx="9144000" cy="5138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Slika 1" descr="Part_5856.jpg"/>
          <p:cNvPicPr/>
          <p:nvPr/>
        </p:nvPicPr>
        <p:blipFill>
          <a:blip r:embed="rId1"/>
          <a:stretch/>
        </p:blipFill>
        <p:spPr>
          <a:xfrm>
            <a:off x="1636560" y="0"/>
            <a:ext cx="5870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Slika 1" descr="Part_5928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78000" y="65898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lika 1" descr="Part_329.jpg"/>
          <p:cNvPicPr/>
          <p:nvPr/>
        </p:nvPicPr>
        <p:blipFill>
          <a:blip r:embed="rId1"/>
          <a:stretch/>
        </p:blipFill>
        <p:spPr>
          <a:xfrm>
            <a:off x="0" y="519120"/>
            <a:ext cx="9144000" cy="5818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lika 1" descr="Part_428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lika 1" descr="Part_437.jpg"/>
          <p:cNvPicPr/>
          <p:nvPr/>
        </p:nvPicPr>
        <p:blipFill>
          <a:blip r:embed="rId1"/>
          <a:stretch/>
        </p:blipFill>
        <p:spPr>
          <a:xfrm>
            <a:off x="2279520" y="0"/>
            <a:ext cx="4583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1" descr="Part_481.jpg"/>
          <p:cNvPicPr/>
          <p:nvPr/>
        </p:nvPicPr>
        <p:blipFill>
          <a:blip r:embed="rId1"/>
          <a:stretch/>
        </p:blipFill>
        <p:spPr>
          <a:xfrm>
            <a:off x="1994040" y="0"/>
            <a:ext cx="5154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lika 1" descr="Part_493.jpg"/>
          <p:cNvPicPr/>
          <p:nvPr/>
        </p:nvPicPr>
        <p:blipFill>
          <a:blip r:embed="rId1"/>
          <a:stretch/>
        </p:blipFill>
        <p:spPr>
          <a:xfrm>
            <a:off x="2284560" y="0"/>
            <a:ext cx="4574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lika 1" descr="Part_0553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5:25:10Z</dcterms:created>
  <dc:creator>Noćna</dc:creator>
  <dc:description/>
  <dc:language>en-US</dc:language>
  <cp:lastModifiedBy>Pedro</cp:lastModifiedBy>
  <dcterms:modified xsi:type="dcterms:W3CDTF">2013-08-27T13:40:02Z</dcterms:modified>
  <cp:revision>12</cp:revision>
  <dc:subject/>
  <dc:title>Album s fotografijama</dc:title>
</cp:coreProperties>
</file>