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arahBrightman-LaCaliffa_-cut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7A9F-4085-4B94-A82E-C54BD96D45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B05A-62CB-4AD8-9B00-ED48742D6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624-ED5D-40C6-85FD-F61C170407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10D-79D2-4900-90E0-33FE2513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315-6C9E-4531-8AEC-F470075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3E6-B788-44EB-B861-7E181AB1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2C4-BCF6-4A5B-9B38-71FD4F17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BB1-1B76-4692-8166-B2680E26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372-BC88-45CE-B14B-CF9F819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E70-AC2A-4432-B274-52E5001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E75-AD10-438B-8EB1-F120087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489-A36F-4BE9-82FD-320C110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A66-B1BD-4776-A752-3686605A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99D-95A1-4737-9698-5DB49E4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92C-DC61-4BEB-9159-52AE548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C3B-7399-4496-AF1F-C3A83A7BD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rahBrightman-LaCaliffa_-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\ppoint\Priroda\S0951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66680" y="3048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7200" spc="-1" strike="noStrike">
                <a:solidFill>
                  <a:srgbClr val="ffffff"/>
                </a:solidFill>
                <a:latin typeface="Lucida Handwriting"/>
              </a:rPr>
              <a:t>Ten  Words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2" name="SarahBrightman-LaCaliffa_-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Doc\ppoint\Priroda\S0951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powerful nine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4267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KNOWLEDGE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5768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Acquir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S0951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9044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valued ten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886200" y="9907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FRIENDSHIP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00200" y="5943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Maintain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\ppoint\Priroda\S0951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886200" y="3049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selfish           one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3581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"I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410080" y="59436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Avoid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\ppoint\Priroda\S095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808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satisfying                  two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724280" y="4952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WE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505320" y="5943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Us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Doc\ppoint\Priroda\S095174.JPG"/>
          <p:cNvPicPr/>
          <p:nvPr/>
        </p:nvPicPr>
        <p:blipFill>
          <a:blip r:embed="rId1"/>
          <a:stretch/>
        </p:blipFill>
        <p:spPr>
          <a:xfrm>
            <a:off x="-434880" y="0"/>
            <a:ext cx="9578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419720" y="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               poisonous three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48320" y="3657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"EGO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52760" y="5943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Overcom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\ppoint\Priroda\S0951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used four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057400" y="2209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"LOVE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057400" y="58672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Valu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095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648320" y="2286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pleasing                        five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48320" y="25909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SMILE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486400" y="3962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Keep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Doc\ppoint\Priroda\S0951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819520" y="30492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fastest           spreading                   six-letter        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05520" y="33526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RUMOUR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666880" y="5943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Ignor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095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828800" y="152280"/>
            <a:ext cx="54864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hardest working               seven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51814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SUCCESS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09680" y="61498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Achieve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Doc\ppoint\Priroda\S0951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33520" y="3808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ffffff"/>
                </a:solidFill>
                <a:latin typeface="Comic Sans MS"/>
              </a:rPr>
              <a:t>The most enviable                       eight-letter wor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819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ZA" sz="4000" spc="-1" strike="noStrike">
                <a:solidFill>
                  <a:srgbClr val="ffffff"/>
                </a:solidFill>
                <a:latin typeface="Times New Roman"/>
              </a:rPr>
              <a:t>JEALOUSY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59436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Copperplate Gothic Bold"/>
              </a:rPr>
              <a:t>Distance  yourself  from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>Abhishek Mathur</dc:creator>
  <dc:description/>
  <dc:language>en-US</dc:language>
  <cp:lastModifiedBy>jbooysen</cp:lastModifiedBy>
  <dcterms:modified xsi:type="dcterms:W3CDTF">2009-09-03T23:07:17Z</dcterms:modified>
  <cp:revision>32</cp:revision>
  <dc:subject/>
  <dc:title>10 Words</dc:title>
</cp:coreProperties>
</file>