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EAE-C42B-45C2-9948-BB2F83E9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E83-EF87-4C0C-A984-85F3B8CF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160-916D-4A53-A851-A6B9D7CE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955-A8A9-4AC6-B363-18A09EFC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AF7-BC6A-4A97-BA4D-505020F3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35A-4580-4C75-B99C-CAD0EF4D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2F9-FD4B-49AD-A6D4-C6CDB795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5F0-CBC1-4502-9117-45DCF87B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46B-3A0C-4BF8-B3FC-BADE42B4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820-1A63-4E55-99E6-B6E2D47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ECA-A967-49F0-91D3-EE41C01D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3A9-7443-4760-B827-CE2325A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1812-5ADA-4A7C-9AFB-0010CC784C1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投影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投影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投影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投影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投影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投影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投影片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投影片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投影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投影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投影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投影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投影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投影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投影片4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投影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投影片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投影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投影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投影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投影片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投影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2:12:29Z</dcterms:created>
  <dc:creator>SONGNAN</dc:creator>
  <dc:description/>
  <dc:language>en-US</dc:language>
  <cp:lastModifiedBy>SONGNAN</cp:lastModifiedBy>
  <dcterms:modified xsi:type="dcterms:W3CDTF">2006-08-09T12:14:01Z</dcterms:modified>
  <cp:revision>1</cp:revision>
  <dc:subject/>
  <dc:title>PowerPoint 簡報</dc:title>
</cp:coreProperties>
</file>