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Amistades%20peligrosas_musical.wav" ContentType="audio/x-wav"/>
  <Override PartName="/ppt/media/image10.jpeg" ContentType="image/jpeg"/>
  <Override PartName="/ppt/media/image8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D012-C2BF-4CA6-B421-33A14934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B315-E938-448E-BD31-233115EF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04F5-D827-4AEE-975F-C1DF67BB6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0604-AA05-434E-A323-D47605F81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C1ED-0DFD-481E-BF76-F83C30BC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821E-B1E7-4BDC-B2C4-15E92D93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122F-32BE-4DB2-A2B2-66618C19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A667-5BCB-4044-BF90-34562071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3D83-6C49-4961-BFBD-A455E155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B40A-33FE-4823-BE6C-BF4FFA04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B8AF-573C-4A61-A210-6071668C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3321-6D02-4E48-9171-75444485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654D-CBB1-4D54-A365-4CD132CA696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mistades%20peligrosas_musical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91320" y="5105520"/>
            <a:ext cx="270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5400" spc="-1" strike="noStrike">
                <a:solidFill>
                  <a:srgbClr val="ffffff"/>
                </a:solidFill>
                <a:latin typeface="Wingdings"/>
                <a:ea typeface="Wingdings"/>
              </a:rPr>
              <a:t></a:t>
            </a:r>
            <a:r>
              <a:rPr b="1" lang="ca-ES" sz="2000" spc="-1" strike="noStrike">
                <a:solidFill>
                  <a:srgbClr val="ffffff"/>
                </a:solidFill>
                <a:latin typeface="Comic Sans MS"/>
              </a:rPr>
              <a:t>Cl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  <p:sndAc>
      <p:stSnd>
        <p:snd r:embed="rId2" name="Amistades%20peligrosas_musica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105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f I refuse to eat, do not force me !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 know very well when I am hungry and when I am not hungry.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75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When my poor legs will not allow m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o move as before …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4572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…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Help me in the same way as when I held your hands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to teach you take your first steps.</a:t>
            </a: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47242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And when one day, I shall say to you that I do not want to live any more …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that I want to die,  do not get angry … 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because one day, you will also understand !</a:t>
            </a: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3000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457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ry to understand that at certain age, we do not really live any more. We simply survive!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4267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ne day, you will understand that in spite of all my errors, I always wanted what was best for you.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479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ou do not have to feel sad, unfortunate or incompeten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front of my old age and of my state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ou have to stay near me, try to understand what I live for.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3049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Help me walk,  help me to end my life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with love and patience. The only thing that I  need from you is a smile and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 lot of love.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3000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00200" y="99072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 love you …my son, my daughter!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Your Dad, your 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71600" y="2971800"/>
            <a:ext cx="678168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ff00"/>
                </a:solidFill>
                <a:latin typeface="Wingdings"/>
                <a:ea typeface="Wingdings"/>
              </a:rPr>
              <a:t></a:t>
            </a:r>
            <a:r>
              <a:rPr b="0" lang="es-ES" sz="3200" spc="-1" strike="noStrike">
                <a:solidFill>
                  <a:srgbClr val="00ff00"/>
                </a:solidFill>
                <a:latin typeface="Wingdings"/>
                <a:ea typeface="Wingdings"/>
              </a:rPr>
              <a:t>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o close the music and leave this slide sho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 received this slide show of a person who asked me to translate it into English. It was not signed; I ignore the auth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 offer it to you to all because I found it really touching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t should be the same thing for you!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9000">
    <p:randomBa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75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685800" y="3352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23880" y="45720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ear son , dear daughter...</a:t>
            </a: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52578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he day you find that I have become very old , try to have some patience with m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nd try to understand me.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44956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f I get dirty while eating …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f I have some difficulty dressing… be patient! Remember the hours that I spent teaching you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hese things when you were small.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4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4648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I repeat the same thing dozens of time, do not interrupt me!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sten to me!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0292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n you were small, you kept asking me to  read you the same story,  evening after evening, until you fell asleep. And I did it happily !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3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9625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If I do not wash myself so often under the shower, do not reprimand and do not tell me that it is a shame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Remember how many excuses I had to invent to make you take a bath when you were small.</a:t>
            </a: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276720"/>
            <a:ext cx="495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y seeing my ignoranc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f new technologies, do not laugh at me but give me time to understand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3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4800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 taught you so many things …. to eat well …to dress well… to behave well… how to confront the problems of the life …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96252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f I sometimes  lose memory or am not able to follow a conversation,  give me the necessary time to recollect  and if I do not get there, do not become a nervous and arrogant person because the most important thing for me,…  is to be with you and to be able to speak to you.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6T19:58:36Z</dcterms:created>
  <dc:creator>Ricardo Venegas Ortega</dc:creator>
  <dc:description/>
  <dc:language>en-US</dc:language>
  <cp:lastModifiedBy>DD</cp:lastModifiedBy>
  <dcterms:modified xsi:type="dcterms:W3CDTF">2006-10-28T05:51:28Z</dcterms:modified>
  <cp:revision>64</cp:revision>
  <dc:subject/>
  <dc:title>Sin título de diapositiva</dc:title>
</cp:coreProperties>
</file>