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82F9-84C1-4FD0-93D8-CB8822672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81C0-0C75-4AE4-816A-6EDF68943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2FE1-3072-42B8-A62F-E06AED8EC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FE51-27CB-4ED5-A55A-6C75F9E58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0A815-549A-4F7A-9415-5A14900AC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9191E-C0AF-4918-A849-C97DF106D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D0792-7AD7-4743-A08F-F173469E3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5BDD9-3ED0-4D4A-85F1-18A77D4AF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F2DCE-6F06-4793-86AA-CBDAC7248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8B0D8-2966-46C8-B1EE-1136136EA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A8F01-8055-4D95-B0A0-3AACF1A9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0E84-76DD-4C2C-A1FE-2F5D063DC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9FF8B-FE94-46CF-8DE4-09C21BD4C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017FA-C708-4559-B70C-D0ECCAB6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E629A-3562-4448-9AC3-065AFB0B0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A2DA9-22A6-407B-B0B4-76BAD1F9D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7362F-7583-4881-8D2C-35A98F191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39A9-8422-4621-AC13-C79E895D6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9A5F-DC96-4FF8-B870-91D19A1AD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8BA0-73BC-4BAD-8951-CC0D90C49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459C-74C6-4926-8B75-AD6AAB294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7830-5CC4-40C3-A094-BEC159E2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A42B-7ED4-4E7D-ADAB-D2E3E5CC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EEA0-2099-4451-AF14-ECF711D6E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6477120"/>
            <a:ext cx="8381880" cy="3808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81559-8DFA-4227-B642-1F8D23D9C2BC}" type="slidenum"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2120" y="1066680"/>
            <a:ext cx="8380440" cy="125640"/>
          </a:xfrm>
          <a:prstGeom prst="rect">
            <a:avLst/>
          </a:prstGeom>
          <a:solidFill>
            <a:srgbClr val="cc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8" name=""/>
            <p:cNvGrpSpPr/>
            <p:nvPr/>
          </p:nvGrpSpPr>
          <p:grpSpPr>
            <a:xfrm>
              <a:off x="0" y="0"/>
              <a:ext cx="950400" cy="6856560"/>
              <a:chOff x="0" y="0"/>
              <a:chExt cx="950400" cy="6856560"/>
            </a:xfrm>
          </p:grpSpPr>
          <p:sp>
            <p:nvSpPr>
              <p:cNvPr id="9" name="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cc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ffcc6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ff996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cc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cc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cc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67720" y="3587760"/>
                <a:ext cx="382680" cy="1831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423" y="7"/>
                    </a:moveTo>
                    <a:arcTo wR="10800" hR="10800" stAng="-5520000" swAng="1092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423" y="7"/>
                    </a:moveTo>
                    <a:arcTo wR="10800" hR="10800" stAng="-5520000" swAng="10920000"/>
                  </a:path>
                </a:pathLst>
              </a:custGeom>
              <a:solidFill>
                <a:srgbClr val="ffcc6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17" name="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7a7c9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-1402200" y="-608760"/>
            <a:ext cx="10544760" cy="8964720"/>
            <a:chOff x="-1402200" y="-608760"/>
            <a:chExt cx="10544760" cy="8964720"/>
          </a:xfrm>
        </p:grpSpPr>
        <p:grpSp>
          <p:nvGrpSpPr>
            <p:cNvPr id="56" name=""/>
            <p:cNvGrpSpPr/>
            <p:nvPr/>
          </p:nvGrpSpPr>
          <p:grpSpPr>
            <a:xfrm>
              <a:off x="-1402200" y="-608760"/>
              <a:ext cx="9065880" cy="8964720"/>
              <a:chOff x="-1402200" y="-608760"/>
              <a:chExt cx="9065880" cy="8964720"/>
            </a:xfrm>
          </p:grpSpPr>
          <p:grpSp>
            <p:nvGrpSpPr>
              <p:cNvPr id="57" name=""/>
              <p:cNvGrpSpPr/>
              <p:nvPr/>
            </p:nvGrpSpPr>
            <p:grpSpPr>
              <a:xfrm>
                <a:off x="-1402200" y="-608760"/>
                <a:ext cx="9065880" cy="8964720"/>
                <a:chOff x="-1402200" y="-608760"/>
                <a:chExt cx="9065880" cy="8964720"/>
              </a:xfrm>
            </p:grpSpPr>
            <p:sp>
              <p:nvSpPr>
                <p:cNvPr id="58" name=""/>
                <p:cNvSpPr/>
                <p:nvPr/>
              </p:nvSpPr>
              <p:spPr>
                <a:xfrm rot="12360000">
                  <a:off x="-294840" y="556920"/>
                  <a:ext cx="6851520" cy="663264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7a7c93"/>
                    </a:gs>
                    <a:gs pos="100000">
                      <a:srgbClr val="eaeae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 rot="12360000">
                  <a:off x="1101240" y="1909800"/>
                  <a:ext cx="405792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 rot="12360000">
                  <a:off x="3570120" y="3966840"/>
                  <a:ext cx="1030320" cy="444600"/>
                </a:xfrm>
                <a:prstGeom prst="rect">
                  <a:avLst/>
                </a:prstGeom>
                <a:solidFill>
                  <a:srgbClr val="ffcc6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 rot="12360000">
                  <a:off x="2050920" y="4074840"/>
                  <a:ext cx="905040" cy="838080"/>
                </a:xfrm>
                <a:prstGeom prst="ellipse">
                  <a:avLst/>
                </a:prstGeom>
                <a:solidFill>
                  <a:srgbClr val="00cccc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 rot="12360000">
                  <a:off x="3766320" y="3249000"/>
                  <a:ext cx="708120" cy="128520"/>
                </a:xfrm>
                <a:prstGeom prst="rect">
                  <a:avLst/>
                </a:prstGeom>
                <a:solidFill>
                  <a:srgbClr val="00cccc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 rot="12360000">
                  <a:off x="3058920" y="4875120"/>
                  <a:ext cx="706320" cy="130320"/>
                </a:xfrm>
                <a:prstGeom prst="rect">
                  <a:avLst/>
                </a:prstGeom>
                <a:solidFill>
                  <a:srgbClr val="00cccc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 rot="10485000">
                  <a:off x="2055240" y="3553560"/>
                  <a:ext cx="1149840" cy="2460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41" y="9671"/>
                      </a:moveTo>
                      <a:arcTo wR="10800" hR="10800" stAng="-360000" swAng="1086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41" y="9671"/>
                      </a:moveTo>
                      <a:arcTo wR="10800" hR="10800" stAng="-360000" swAng="10860000"/>
                    </a:path>
                  </a:pathLst>
                </a:custGeom>
                <a:solidFill>
                  <a:srgbClr val="ffcc6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2063880" y="2181240"/>
                  <a:ext cx="1643040" cy="3186000"/>
                </a:xfrm>
                <a:custGeom>
                  <a:avLst/>
                  <a:gdLst/>
                  <a:ahLst/>
                  <a:rect l="l" t="t" r="r" b="b"/>
                  <a:pathLst>
                    <a:path w="1035" h="2007">
                      <a:moveTo>
                        <a:pt x="56" y="2006"/>
                      </a:moveTo>
                      <a:lnTo>
                        <a:pt x="0" y="1843"/>
                      </a:lnTo>
                      <a:lnTo>
                        <a:pt x="871" y="56"/>
                      </a:lnTo>
                      <a:lnTo>
                        <a:pt x="1034" y="0"/>
                      </a:lnTo>
                      <a:lnTo>
                        <a:pt x="56" y="2006"/>
                      </a:lnTo>
                    </a:path>
                  </a:pathLst>
                </a:custGeom>
                <a:solidFill>
                  <a:srgbClr val="ff996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3886200" y="2873520"/>
                <a:ext cx="514440" cy="366480"/>
              </a:xfrm>
              <a:custGeom>
                <a:avLst/>
                <a:gdLst/>
                <a:ahLst/>
                <a:rect l="l" t="t" r="r" b="b"/>
                <a:pathLst>
                  <a:path w="324" h="231">
                    <a:moveTo>
                      <a:pt x="321" y="226"/>
                    </a:moveTo>
                    <a:lnTo>
                      <a:pt x="287" y="123"/>
                    </a:lnTo>
                    <a:lnTo>
                      <a:pt x="53" y="9"/>
                    </a:lnTo>
                    <a:lnTo>
                      <a:pt x="35" y="0"/>
                    </a:lnTo>
                    <a:lnTo>
                      <a:pt x="0" y="72"/>
                    </a:lnTo>
                    <a:lnTo>
                      <a:pt x="323" y="230"/>
                    </a:lnTo>
                  </a:path>
                </a:pathLst>
              </a:custGeom>
              <a:solidFill>
                <a:srgbClr val="00cc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1219320" y="1143000"/>
              <a:ext cx="7923240" cy="1295280"/>
            </a:xfrm>
            <a:prstGeom prst="rect">
              <a:avLst/>
            </a:prstGeom>
            <a:solidFill>
              <a:srgbClr val="cc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292C0-5E66-4002-BB09-8FD2C02DB34D}" type="slidenum"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1690560"/>
            <a:ext cx="7848720" cy="825120"/>
          </a:xfrm>
          <a:prstGeom prst="rect">
            <a:avLst/>
          </a:pr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Times New Roman"/>
              </a:rPr>
              <a:t>When you leave office today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95280" y="3352680"/>
            <a:ext cx="73152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udy this small story, 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pe that makes a BIG change in YOU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transition spd="slow">
    <p:cover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066680" y="4952880"/>
            <a:ext cx="7925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ff"/>
                </a:solidFill>
                <a:latin typeface="Times New Roman"/>
              </a:rPr>
              <a:t>'PUT THE GLASS DOWN TODAY! '</a:t>
            </a: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1752480"/>
            <a:ext cx="8229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6377"/>
                </a:solidFill>
                <a:latin typeface="Times New Roman"/>
              </a:rPr>
              <a:t>So, When you leave office today,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6377"/>
                </a:solidFill>
                <a:latin typeface="Times New Roman"/>
              </a:rPr>
              <a:t>Remember friend to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581280" y="3035160"/>
            <a:ext cx="1828800" cy="18417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14400" y="804960"/>
            <a:ext cx="7620120" cy="56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6377"/>
                </a:solidFill>
                <a:latin typeface="Times New Roman"/>
              </a:rPr>
              <a:t>Professor began his class by holding up a glass with some water in it.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6377"/>
                </a:solidFill>
                <a:latin typeface="Times New Roman"/>
              </a:rPr>
              <a:t>He held it up for all to see &amp; asked the students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6377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616377"/>
                </a:solidFill>
                <a:latin typeface="Times New Roman"/>
              </a:rPr>
              <a:t>How much do you think this glass weighs?”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6377"/>
                </a:solidFill>
                <a:latin typeface="Times New Roman"/>
              </a:rPr>
              <a:t>'50gms!' .... '100gms!' .....'125gms'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6377"/>
                </a:solidFill>
                <a:latin typeface="Times New Roman"/>
              </a:rPr>
              <a:t>..the students answered.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315200" y="0"/>
            <a:ext cx="1828800" cy="16765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295280" y="1828800"/>
            <a:ext cx="754380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6377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616377"/>
                </a:solidFill>
                <a:latin typeface="Times New Roman"/>
              </a:rPr>
              <a:t>I really don't know unless I weigh it,” said the professor, “but, my question is: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6377"/>
                </a:solidFill>
                <a:latin typeface="Times New Roman"/>
              </a:rPr>
              <a:t>What would happen if I held it up like this for a few minutes?”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6377"/>
                </a:solidFill>
                <a:latin typeface="Times New Roman"/>
              </a:rPr>
              <a:t>'Nothing'</a:t>
            </a:r>
            <a:r>
              <a:rPr b="0" lang="en-US" sz="3200" spc="-1" strike="noStrike">
                <a:solidFill>
                  <a:srgbClr val="616377"/>
                </a:solidFill>
                <a:latin typeface="Times New Roman"/>
              </a:rPr>
              <a:t> …..</a:t>
            </a:r>
            <a:r>
              <a:rPr b="1" lang="en-US" sz="3200" spc="-1" strike="noStrike">
                <a:solidFill>
                  <a:srgbClr val="616377"/>
                </a:solidFill>
                <a:latin typeface="Times New Roman"/>
              </a:rPr>
              <a:t>the students said</a:t>
            </a:r>
            <a:r>
              <a:rPr b="0" lang="en-US" sz="3200" spc="-1" strike="noStrike">
                <a:solidFill>
                  <a:srgbClr val="616377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194600" y="4656240"/>
            <a:ext cx="1797120" cy="1820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066680" y="1676520"/>
            <a:ext cx="769644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6377"/>
                </a:solidFill>
                <a:latin typeface="Times New Roman"/>
              </a:rPr>
              <a:t>'Ok what would happen if I held it up like this for an hour?' the professor asked.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6377"/>
                </a:solidFill>
                <a:latin typeface="Times New Roman"/>
              </a:rPr>
              <a:t>'Your arm would begin to ache' said one of the student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010280" y="4495680"/>
            <a:ext cx="1797120" cy="1820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143000" y="1935000"/>
            <a:ext cx="777240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6377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616377"/>
                </a:solidFill>
                <a:latin typeface="Times New Roman"/>
              </a:rPr>
              <a:t>You're right, now what would happen if I held it for a day?”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6377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616377"/>
                </a:solidFill>
                <a:latin typeface="Times New Roman"/>
              </a:rPr>
              <a:t>Your arm could go numb, you might have severe muscle stress &amp; paralysis &amp; have to go to hospital for sure!”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6377"/>
                </a:solidFill>
                <a:latin typeface="Times New Roman"/>
              </a:rPr>
              <a:t>…</a:t>
            </a:r>
            <a:r>
              <a:rPr b="1" lang="en-US" sz="3200" spc="-1" strike="noStrike">
                <a:solidFill>
                  <a:srgbClr val="616377"/>
                </a:solidFill>
                <a:latin typeface="Times New Roman"/>
              </a:rPr>
              <a:t>.. ventured another student &amp; all the students laughed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772400" y="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066680" y="2300400"/>
            <a:ext cx="784872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6377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616377"/>
                </a:solidFill>
                <a:latin typeface="Times New Roman"/>
              </a:rPr>
              <a:t>Very good.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6377"/>
                </a:solidFill>
                <a:latin typeface="Times New Roman"/>
              </a:rPr>
              <a:t>But during all this, did the weight of the glass change?”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6377"/>
                </a:solidFill>
                <a:latin typeface="Times New Roman"/>
              </a:rPr>
              <a:t>asked the professor.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6377"/>
                </a:solidFill>
                <a:latin typeface="Times New Roman"/>
              </a:rPr>
              <a:t>'No‘…. Was the answer.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010280" y="4495680"/>
            <a:ext cx="1797120" cy="1820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219320" y="1812960"/>
            <a:ext cx="746748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6377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616377"/>
                </a:solidFill>
                <a:latin typeface="Times New Roman"/>
              </a:rPr>
              <a:t>Then what caused the arm ache &amp; the muscle stress?”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6377"/>
                </a:solidFill>
                <a:latin typeface="Times New Roman"/>
              </a:rPr>
              <a:t>The students were puzzled.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6377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616377"/>
                </a:solidFill>
                <a:latin typeface="Times New Roman"/>
              </a:rPr>
              <a:t>What should I do now to come out of pain?” asked professor again.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6377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616377"/>
                </a:solidFill>
                <a:latin typeface="Times New Roman"/>
              </a:rPr>
              <a:t>Put the glass down!” said one of the student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570800" y="5410080"/>
            <a:ext cx="1420920" cy="1440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914400" y="1143000"/>
            <a:ext cx="822960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6377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616377"/>
                </a:solidFill>
                <a:latin typeface="Times New Roman"/>
              </a:rPr>
              <a:t>Exactly!” said the professor.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6377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66cc"/>
                </a:solidFill>
                <a:latin typeface="Times New Roman"/>
              </a:rPr>
              <a:t>Life's problems are something like this.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6377"/>
                </a:solidFill>
                <a:latin typeface="Times New Roman"/>
              </a:rPr>
              <a:t>Hold it for a few minutes in your head &amp; they seem OK.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6377"/>
                </a:solidFill>
                <a:latin typeface="Times New Roman"/>
              </a:rPr>
              <a:t>Think of them for a long time &amp; they begin to ache.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6377"/>
                </a:solidFill>
                <a:latin typeface="Times New Roman"/>
              </a:rPr>
              <a:t>Hold it even longer &amp; they begin to paralyze you. You will not be able to do anything.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346880" y="0"/>
            <a:ext cx="1797120" cy="18208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7870680" y="5562720"/>
            <a:ext cx="1273320" cy="1295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143000" y="1295280"/>
            <a:ext cx="6629400" cy="49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6377"/>
                </a:solidFill>
                <a:latin typeface="Times New Roman"/>
              </a:rPr>
              <a:t>It's important to think of the challenges or problems in your life,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6377"/>
                </a:solidFill>
                <a:latin typeface="Times New Roman"/>
              </a:rPr>
              <a:t>but EVEN MORE IMPORTANT is to </a:t>
            </a:r>
            <a:r>
              <a:rPr b="1" lang="en-US" sz="3200" spc="-1" strike="noStrike">
                <a:solidFill>
                  <a:srgbClr val="3366cc"/>
                </a:solidFill>
                <a:latin typeface="Times New Roman"/>
              </a:rPr>
              <a:t>‘PUT THEM DOWN'</a:t>
            </a:r>
            <a:r>
              <a:rPr b="1" lang="en-US" sz="3200" spc="-1" strike="noStrike">
                <a:solidFill>
                  <a:srgbClr val="616377"/>
                </a:solidFill>
                <a:latin typeface="Times New Roman"/>
              </a:rPr>
              <a:t> at the end of every day before You go to sleep.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6377"/>
                </a:solidFill>
                <a:latin typeface="Times New Roman"/>
              </a:rPr>
              <a:t>That way, you are not stressed, you wake up every day fresh &amp;strong &amp; can handle any issue, any challenge that comes your way!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620120" y="0"/>
            <a:ext cx="1523880" cy="12193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7467480" y="5248440"/>
            <a:ext cx="1676520" cy="16095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08:14:30Z</dcterms:created>
  <dc:creator>backuppc</dc:creator>
  <dc:description/>
  <dc:language>en-US</dc:language>
  <cp:lastModifiedBy>Anand Baghel</cp:lastModifiedBy>
  <dcterms:modified xsi:type="dcterms:W3CDTF">2006-04-04T05:51:24Z</dcterms:modified>
  <cp:revision>25</cp:revision>
  <dc:subject/>
  <dc:title> </dc:title>
</cp:coreProperties>
</file>