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%20Cortazar%20Fly_me_to_the_Moon%2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600-AFEB-452F-9B7F-479F3463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730-EEE8-4BE0-A715-2D76DDA6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E43-1EAB-47F8-99D4-5A03E54B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C14-B7B9-4180-B175-76C55141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F4-83D1-462F-85BA-9A6558A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E86-0C5C-4EE0-AE93-01D504C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2F6-9D70-484F-9B2B-45D5C25E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7FF-3829-4F2C-8935-25D3C0E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DAE-86B8-4863-85B7-16B281A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B55-2CE2-46F7-BC8E-648D025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5B8-490A-438C-B13D-E20586C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1C1-6CD2-4602-955B-509B739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DCB-6F7E-4249-993E-01AD218644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Fly_me_to_the_Moon%20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empus Sans ITC"/>
              </a:rPr>
              <a:t>Dr. Dráuzio Va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620640"/>
            <a:ext cx="2438640" cy="447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Harrington"/>
              </a:rPr>
              <a:t>Th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Harrington"/>
              </a:rPr>
              <a:t>Ar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Harrington"/>
              </a:rPr>
              <a:t>of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Harrington"/>
              </a:rPr>
              <a:t>Feeling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Harrington"/>
              </a:rPr>
              <a:t>Well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5877000"/>
            <a:ext cx="3311640" cy="574560"/>
          </a:xfrm>
          <a:prstGeom prst="ellipse">
            <a:avLst/>
          </a:prstGeom>
          <a:gradFill rotWithShape="0">
            <a:gsLst>
              <a:gs pos="0">
                <a:srgbClr val="deb9b2">
                  <a:alpha val="47058"/>
                </a:srgbClr>
              </a:gs>
              <a:gs pos="50000">
                <a:srgbClr val="8b8bff">
                  <a:alpha val="49019"/>
                </a:srgbClr>
              </a:gs>
              <a:gs pos="100000">
                <a:srgbClr val="deb9b2">
                  <a:alpha val="47058"/>
                </a:srgbClr>
              </a:gs>
            </a:gsLst>
            <a:lin ang="5400000"/>
          </a:gradFill>
          <a:ln w="9360">
            <a:solidFill>
              <a:srgbClr val="b764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2808360" cy="432000"/>
          </a:xfrm>
          <a:prstGeom prst="rect">
            <a:avLst/>
          </a:prstGeom>
          <a:solidFill>
            <a:srgbClr val="ffff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Click to advan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Ernesto%20Cortazar%20Fly_me_to_the_Moon%2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1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54800" y="1125360"/>
            <a:ext cx="6840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9900cc"/>
                </a:solidFill>
                <a:latin typeface="Vivaldi"/>
              </a:rPr>
              <a:t>...Speak your feel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50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Emotions and feelings that are hidden, repressed, end in illnesses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gastritis, ulcer, lumbar pains, sp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With time, the repression of the feelings degenerates to the can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n, we go to a confidante, to share our intimacy, our "secrets", our erro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 dialogue, the speech, the word, is a powerful rem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and an excellent therap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eaeaff">
                  <a:alpha val="74117"/>
                </a:srgbClr>
              </a:gs>
              <a:gs pos="50000">
                <a:srgbClr val="ffcc99">
                  <a:alpha val="46274"/>
                </a:srgbClr>
              </a:gs>
              <a:gs pos="100000">
                <a:srgbClr val="eaeaff">
                  <a:alpha val="74117"/>
                </a:srgbClr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16031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63160" y="836640"/>
            <a:ext cx="6272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cc99"/>
                </a:solidFill>
                <a:latin typeface="Vivaldi"/>
              </a:rPr>
              <a:t>...Make Decis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844640"/>
            <a:ext cx="388800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The undecided person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in doubt, in anxiety, in angu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Indecision accumulates proble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worries and aggre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Human history is made of deci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To decide is precisely to know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renounce, to know to lose advantages and values to win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The undecided people are victims of gastric ailments, nervous pains and problems of the sk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3889440" cy="574560"/>
          </a:xfrm>
          <a:prstGeom prst="ellipse">
            <a:avLst/>
          </a:prstGeom>
          <a:gradFill rotWithShape="0">
            <a:gsLst>
              <a:gs pos="0">
                <a:srgbClr val="b2b28e">
                  <a:alpha val="58039"/>
                </a:srgbClr>
              </a:gs>
              <a:gs pos="50000">
                <a:srgbClr val="ffffcc">
                  <a:alpha val="37254"/>
                </a:srgbClr>
              </a:gs>
              <a:gs pos="100000">
                <a:srgbClr val="b2b28e">
                  <a:alpha val="58039"/>
                </a:srgbClr>
              </a:gs>
            </a:gsLst>
            <a:lin ang="8100000"/>
          </a:gra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7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87880" y="115920"/>
            <a:ext cx="4560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29a8ff"/>
                </a:solidFill>
                <a:latin typeface="Vivaldi"/>
              </a:rPr>
              <a:t>...Find Solutions</a:t>
            </a:r>
            <a:r>
              <a:rPr b="1" lang="pt-BR" sz="5400" spc="-1" strike="noStrike">
                <a:solidFill>
                  <a:srgbClr val="29a8ff"/>
                </a:solidFill>
                <a:latin typeface="Vivald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7336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Negative</a:t>
            </a:r>
            <a:r>
              <a:rPr b="1" lang="en-US" sz="2000" spc="-1" strike="noStrike">
                <a:solidFill>
                  <a:srgbClr val="800000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people do not find solutions and they enlarge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y prefer lamentation, gossip, pessim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It is better to light a match than to regret the dar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A bee is small, but produces one of the sweetest things tha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We are what we th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 negative thought generates negative energy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which is transformed into illness.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0280"/>
            <a:ext cx="3349440" cy="576360"/>
          </a:xfrm>
          <a:prstGeom prst="ellipse">
            <a:avLst/>
          </a:prstGeom>
          <a:gradFill rotWithShape="0">
            <a:gsLst>
              <a:gs pos="0">
                <a:srgbClr val="b2b2b2">
                  <a:alpha val="25098"/>
                </a:srgbClr>
              </a:gs>
              <a:gs pos="50000">
                <a:srgbClr val="ffffff">
                  <a:alpha val="72156"/>
                </a:srgbClr>
              </a:gs>
              <a:gs pos="100000">
                <a:srgbClr val="b2b2b2">
                  <a:alpha val="25098"/>
                </a:srgbClr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2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23080" y="40464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ffff"/>
                </a:solidFill>
                <a:latin typeface="Kunstler Script"/>
              </a:rPr>
              <a:t>...Don’t Live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ffff"/>
                </a:solidFill>
                <a:latin typeface="Kunstler Script"/>
              </a:rPr>
              <a:t>Appearan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82920" y="1700280"/>
            <a:ext cx="57610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Who hides reality, pretends, pos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always wants to give the impression of being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He wants to be seen as perfect, easy-going, etc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but is accumulating tons of </a:t>
            </a:r>
            <a:r>
              <a:rPr b="1" lang="en-US" sz="2000" spc="-1" strike="noStrike">
                <a:solidFill>
                  <a:srgbClr val="800000"/>
                </a:solidFill>
                <a:latin typeface="Tempus Sans ITC"/>
                <a:ea typeface="Arial"/>
              </a:rPr>
              <a:t>weight</a:t>
            </a: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A bronze statue with feet of cl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There is nothing worse for the health t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to live on appearances and fac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These are people with a lot of varnish and little ro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empus Sans ITC"/>
                <a:ea typeface="Arial"/>
              </a:rPr>
              <a:t>Their destiny is the pharmacy, the hospital and pain.</a:t>
            </a:r>
            <a:r>
              <a:rPr b="0" lang="en-US" sz="1800" spc="-1" strike="noStrike">
                <a:solidFill>
                  <a:srgbClr val="80000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3276360" cy="577800"/>
          </a:xfrm>
          <a:prstGeom prst="ellipse">
            <a:avLst/>
          </a:prstGeom>
          <a:gradFill rotWithShape="0">
            <a:gsLst>
              <a:gs pos="0">
                <a:srgbClr val="ffd3a7">
                  <a:alpha val="26274"/>
                </a:srgbClr>
              </a:gs>
              <a:gs pos="100000">
                <a:srgbClr val="fee6cf">
                  <a:alpha val="42352"/>
                </a:srgbClr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0000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48000" y="54936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6600"/>
                </a:solidFill>
                <a:latin typeface="Kunstler Script"/>
              </a:rPr>
              <a:t>...Accep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The refusal of acceptanc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the absence of self-esteem, make us alienate our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Being at one with ourselves is the core of a healthy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They who do not accept this, become envious, jealo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imitators, ultra-competitive, destru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Be accepted, accept that you are accepted, accept the critic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empus Sans ITC"/>
                <a:ea typeface="Times New Roman"/>
              </a:rPr>
              <a:t>It is wisdom, good sense and therapy.</a:t>
            </a:r>
            <a:r>
              <a:rPr b="1" lang="en-US" sz="2000" spc="-1" strike="noStrike">
                <a:solidFill>
                  <a:srgbClr val="ff6600"/>
                </a:solidFill>
                <a:latin typeface="Tempus Sans ITC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33360"/>
            <a:ext cx="3241440" cy="576360"/>
          </a:xfrm>
          <a:prstGeom prst="ellipse">
            <a:avLst/>
          </a:prstGeom>
          <a:gradFill rotWithShape="0">
            <a:gsLst>
              <a:gs pos="0">
                <a:srgbClr val="ff89b0">
                  <a:alpha val="42352"/>
                </a:srgbClr>
              </a:gs>
              <a:gs pos="100000">
                <a:srgbClr val="fee5ed">
                  <a:alpha val="56078"/>
                </a:srgbClr>
              </a:gs>
            </a:gsLst>
            <a:lin ang="5400000"/>
          </a:gradFill>
          <a:ln w="9360">
            <a:solidFill>
              <a:srgbClr val="ffd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ffff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7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1413000"/>
            <a:ext cx="4608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6600"/>
                </a:solidFill>
                <a:latin typeface="Edwardian Script ITC"/>
              </a:rPr>
              <a:t>...Tru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318960" y="3141000"/>
            <a:ext cx="88264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Who does not trust, does not communicate, is not open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is not related, does not create deep and stable rel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oes not get to enjoy true friend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Without confidence, there is not relation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istrust is a lack of faith in you and in faith itsel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765000"/>
            <a:ext cx="3673440" cy="648000"/>
          </a:xfrm>
          <a:prstGeom prst="ellipse">
            <a:avLst/>
          </a:prstGeom>
          <a:gradFill rotWithShape="0">
            <a:gsLst>
              <a:gs pos="0">
                <a:srgbClr val="cccc00">
                  <a:alpha val="40000"/>
                </a:srgbClr>
              </a:gs>
              <a:gs pos="100000">
                <a:srgbClr val="ffff00">
                  <a:alpha val="7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33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4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86400" y="692280"/>
            <a:ext cx="46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cc99"/>
                </a:solidFill>
                <a:latin typeface="Harrington"/>
              </a:rPr>
              <a:t>...Do Not Live Life S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557360"/>
            <a:ext cx="54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Good humor. Laughter. Rest. Happi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These replenish health and bring long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The happy person has the gift to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the environment wherever they l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“</a:t>
            </a:r>
            <a:r>
              <a:rPr b="1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Good humor saves us from the hands of the doctor". Happiness is health and therapy</a:t>
            </a:r>
            <a:r>
              <a:rPr b="0" lang="en-US" sz="2000" spc="-1" strike="noStrike">
                <a:solidFill>
                  <a:srgbClr val="ccff99"/>
                </a:solidFill>
                <a:latin typeface="Tempus Sans ITC"/>
                <a:ea typeface="Arial"/>
              </a:rPr>
              <a:t>.</a:t>
            </a:r>
            <a:r>
              <a:rPr b="0" lang="en-US" sz="2000" spc="-1" strike="noStrike">
                <a:solidFill>
                  <a:srgbClr val="ccff99"/>
                </a:solidFill>
                <a:latin typeface="Trebuchet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33360"/>
            <a:ext cx="3313080" cy="576360"/>
          </a:xfrm>
          <a:prstGeom prst="ellipse">
            <a:avLst/>
          </a:prstGeom>
          <a:gradFill rotWithShape="0">
            <a:gsLst>
              <a:gs pos="0">
                <a:srgbClr val="99ff33">
                  <a:alpha val="54117"/>
                </a:srgbClr>
              </a:gs>
              <a:gs pos="100000">
                <a:srgbClr val="ccccff">
                  <a:alpha val="72156"/>
                </a:srgbClr>
              </a:gs>
            </a:gsLst>
            <a:lin ang="54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Harrington"/>
              </a:rPr>
              <a:t>If you don’t want to be il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573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Please send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email to all fri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so that they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feel well an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become ill</a:t>
            </a:r>
            <a:r>
              <a:rPr b="0" i="1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!!</a:t>
            </a:r>
            <a:r>
              <a:rPr b="0" lang="pt-BR" sz="2800" spc="-1" strike="noStrike">
                <a:solidFill>
                  <a:srgbClr val="0099ff"/>
                </a:solidFill>
                <a:latin typeface="Wide Lati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1009440" cy="13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476280"/>
            <a:ext cx="2087640" cy="2521080"/>
          </a:xfrm>
          <a:custGeom>
            <a:avLst/>
            <a:gdLst>
              <a:gd name="textAreaLeft" fmla="*/ 522000 w 2087640"/>
              <a:gd name="textAreaRight" fmla="*/ 1566000 w 2087640"/>
              <a:gd name="textAreaTop" fmla="*/ 521640 h 2521080"/>
              <a:gd name="textAreaBottom" fmla="*/ 1999440 h 2521080"/>
            </a:gdLst>
            <a:ahLst/>
            <a:rect l="textAreaLeft" t="textAreaTop" r="textAreaRight" b="textAreaBottom"/>
            <a:pathLst>
              <a:path w="21600" h="26084">
                <a:moveTo>
                  <a:pt x="0" y="0"/>
                </a:moveTo>
                <a:lnTo>
                  <a:pt x="0" y="26084"/>
                </a:lnTo>
                <a:lnTo>
                  <a:pt x="21600" y="26084"/>
                </a:lnTo>
                <a:lnTo>
                  <a:pt x="21600" y="0"/>
                </a:lnTo>
                <a:close/>
                <a:moveTo>
                  <a:pt x="5400" y="5400"/>
                </a:moveTo>
                <a:lnTo>
                  <a:pt x="5400" y="20684"/>
                </a:lnTo>
                <a:lnTo>
                  <a:pt x="16200" y="20684"/>
                </a:lnTo>
                <a:lnTo>
                  <a:pt x="16200" y="540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17:06Z</dcterms:created>
  <dc:creator>ana paula</dc:creator>
  <dc:description>Traducción al Español Hugo Celmar</dc:description>
  <dc:language>en-US</dc:language>
  <cp:lastModifiedBy>tsk</cp:lastModifiedBy>
  <dcterms:modified xsi:type="dcterms:W3CDTF">2008-01-01T05:05:42Z</dcterms:modified>
  <cp:revision>30</cp:revision>
  <dc:subject/>
  <dc:title>Apresentação do PowerPoint</dc:title>
</cp:coreProperties>
</file>